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F77-EFE3-46D8-BF01-AB7F06E3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547-7564-4627-8AF5-AB1CF06F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AC9-BF21-43CF-91EA-EDDF23FF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CDA-C832-4279-BF8D-18BBE66F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571-1EE1-4160-8E60-61EE66A1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1D8-839E-441D-8E67-4B9F75D2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5DB-CC07-4EE1-A59C-946D6AD5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808-4DD0-44EB-A504-4C4ECC55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9F7-FD1D-4208-A99F-4F41EB91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5D8-F6E6-45D2-B436-AE9E5CF6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92B-7DBD-4E11-B7AC-0F5DF338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506-9C34-4FDC-9DFE-FE216B3E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B75D-2D94-49A0-8D64-D7D6631F03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4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4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12:36Z</dcterms:created>
  <dc:creator>USER13</dc:creator>
  <dc:description/>
  <dc:language>en-US</dc:language>
  <cp:lastModifiedBy>USER13</cp:lastModifiedBy>
  <dcterms:modified xsi:type="dcterms:W3CDTF">2002-05-04T03:16:18Z</dcterms:modified>
  <cp:revision>1</cp:revision>
  <dc:subject/>
  <dc:title>PowerPoint 演示文稿</dc:title>
</cp:coreProperties>
</file>