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E051-9A88-4245-9C4A-42BDCDF0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0DFE-8E67-4899-ADE7-09F5818A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2E4C-42B6-4D84-B5C5-5A0BB5DB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35CC-DBFD-4D5A-B848-FC018CF1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4679-CC74-47E2-BD0D-0BFDF47D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F6AC-6DA2-4A75-9907-0EC3F843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4ADD-4354-4A77-B48A-07DA1000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4A45-1963-402C-86A9-5D848447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473F-B170-44EB-B0A2-E8DB13F6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597D-54F0-4BDB-BEB2-D0BCA3E3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7DAD-A2A3-4701-A4B5-0E7D7F07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E67D-EF01-44C5-8768-A6B5D165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D2B1-A055-4AFA-A3B7-4ED810F0C1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22:53Z</dcterms:created>
  <dc:creator>USER13</dc:creator>
  <dc:description/>
  <dc:language>en-US</dc:language>
  <cp:lastModifiedBy>USER13</cp:lastModifiedBy>
  <dcterms:modified xsi:type="dcterms:W3CDTF">2002-05-04T03:23:02Z</dcterms:modified>
  <cp:revision>1</cp:revision>
  <dc:subject/>
  <dc:title>PowerPoint 演示文稿</dc:title>
</cp:coreProperties>
</file>