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11A9-BA0C-44D2-8265-5CA5887C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399E-5308-48D1-801A-2E81910E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035E-12CA-422B-808E-290C6CBD6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C843-66B6-4DDE-BCAE-7F04D40E3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BD71-3880-4A5E-AE9C-1E425BDE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5302-3B76-41B1-B27C-362D3A57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75D6-A407-47FE-836A-AFC76B21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4A2C-660C-491B-AC37-D9E0C5FF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546F-00C3-4695-A775-AF3D169E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6448-9DE4-4E44-9030-02F53A2D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F62C-F8F1-4DB5-A802-BFD8413F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4F85-576A-4394-B71D-560E485E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4FBA-155F-4D12-9512-9A02BA5724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03:26:15Z</dcterms:created>
  <dc:creator>USER13</dc:creator>
  <dc:description/>
  <dc:language>en-US</dc:language>
  <cp:lastModifiedBy>USER13</cp:lastModifiedBy>
  <dcterms:modified xsi:type="dcterms:W3CDTF">2002-05-04T03:26:20Z</dcterms:modified>
  <cp:revision>1</cp:revision>
  <dc:subject/>
  <dc:title>PowerPoint 演示文稿</dc:title>
</cp:coreProperties>
</file>