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252-D016-414F-BFC7-069E9645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A5E-9AF5-4AF5-AA15-6CEC5EAA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8FB-B819-443B-A8C6-F0234A01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62D-064C-40F7-9641-774BBFED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8CD-5F73-4F61-BC72-65633447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738-0CDB-4C6D-83A2-3854B73B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2D1-44B9-4D25-897D-0B3B0821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C76-0DEC-4AE5-83BA-12C6B793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5C8-0DB2-4431-8806-278405D1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A88-AEBD-451B-8CB5-AD7C09F4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FA4-5985-479C-BAD3-1034305A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466-FFE8-45C5-A29A-B5FBBC4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9C48-506F-41F3-8A06-632CD849F1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2:53Z</dcterms:created>
  <dc:creator>USER13</dc:creator>
  <dc:description/>
  <dc:language>en-US</dc:language>
  <cp:lastModifiedBy>USER13</cp:lastModifiedBy>
  <dcterms:modified xsi:type="dcterms:W3CDTF">2002-05-04T03:23:02Z</dcterms:modified>
  <cp:revision>1</cp:revision>
  <dc:subject/>
  <dc:title>PowerPoint 演示文稿</dc:title>
</cp:coreProperties>
</file>