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image3.png" ContentType="image/png"/>
  <Override PartName="/ppt/media/DRIVEBY.WAV" ContentType="audio/x-wav"/>
  <Override PartName="/ppt/media/image6.png" ContentType="image/png"/>
  <Override PartName="/ppt/media/ALTOSAX.WAV" ContentType="audio/x-wav"/>
  <Override PartName="/ppt/media/PROJCTOR.WAV" ContentType="audio/x-wav"/>
  <Override PartName="/ppt/media/EXPLODE.WAV" ContentType="audio/x-wav"/>
  <Override PartName="/ppt/media/image4.png" ContentType="image/png"/>
  <Override PartName="/ppt/media/TYPE.WAV" ContentType="audio/x-wav"/>
  <Override PartName="/ppt/media/image2.png" ContentType="image/png"/>
  <Override PartName="/ppt/media/DRUMROLL.WAV" ContentType="audio/x-wav"/>
  <Override PartName="/ppt/media/DIDJERID.WAV" ContentType="audio/x-wav"/>
  <Override PartName="/ppt/media/image5.png" ContentType="image/png"/>
  <Override PartName="/ppt/media/image10.jpeg" ContentType="image/jpeg"/>
  <Override PartName="/ppt/media/image16.png" ContentType="image/png"/>
  <Override PartName="/ppt/media/HARP.WAV" ContentType="audio/x-wav"/>
  <Override PartName="/ppt/media/image14.png" ContentType="image/png"/>
  <Override PartName="/ppt/media/image15.png" ContentType="image/png"/>
  <Override PartName="/ppt/media/GUITELEC.WAV" ContentType="audio/x-wav"/>
  <Override PartName="/ppt/media/MARIMBA.WAV" ContentType="audio/x-wav"/>
  <Override PartName="/ppt/media/image13.png" ContentType="image/png"/>
  <Override PartName="/ppt/media/image12.png" ContentType="image/png"/>
  <Override PartName="/ppt/media/image8.png" ContentType="image/png"/>
  <Override PartName="/ppt/media/OBO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7.png" ContentType="image/png"/>
  <Override PartName="/ppt/media/LUT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3BF-7B0A-45AE-BEA2-C70E610C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337-CFF1-48F1-BA63-898D4AB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340-B683-4E41-A3D0-DE1EA211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5FD-D15C-4807-9B62-9686DD5E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34F7-267E-4B2B-9401-01F5AC65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1DDC-2809-4BC1-A4BF-8F7AB1D7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20B5-F2FD-4A0B-84B8-71FC651A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A790-F19A-4AEA-BDB9-D9F52F58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41CC-62E2-425F-B3B1-E6C189AD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49FC-E604-4208-8718-6F13A1C3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9631-E0F0-4928-AB63-4DEC023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BF4-A2C8-44FC-8BD5-EDB5857E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527A-B40A-46CC-A3B5-B964BA56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3F4B-6A8B-42B7-B832-82F8B537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151E-87F7-470E-88D9-4F112DF7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CCC3-A4EE-4591-B390-47E67D1F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A1AF-CFC6-4F3D-8DF0-9DCD6D9A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7B7-3B82-42C6-B102-965998CF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268-1082-4B3E-8CB2-E633168E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7FA-26B5-4C98-A1B8-D08AC0B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03D-8219-4D43-8E53-93523DE7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412-8E1E-4E54-83E4-CB4EDFB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9C8-C24A-46F4-A722-51CFD7DD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DAC-C7FF-4EA3-B39D-9A847E73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64CC-0134-43CE-A7ED-A0159EA9A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44E9-0527-466A-9CE5-FE56E10A3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UT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OBO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MARIMB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UITELEC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HARP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ALTOSAX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ustralia_sm99" descr=""/>
          <p:cNvPicPr/>
          <p:nvPr/>
        </p:nvPicPr>
        <p:blipFill>
          <a:blip r:embed="rId1"/>
          <a:stretch/>
        </p:blipFill>
        <p:spPr>
          <a:xfrm>
            <a:off x="0" y="0"/>
            <a:ext cx="72756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3623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3366cc"/>
                </a:solidFill>
                <a:latin typeface="Times New Roman"/>
              </a:rPr>
              <a:t>Australia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762120"/>
            <a:ext cx="3886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50960" indent="-750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DIDJERI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1371600"/>
            <a:ext cx="716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 Australian aboriginal artist works on a sheet of bark.  Such paintings are traditional throughout Oce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581120" y="380880"/>
          <a:ext cx="588636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380880"/>
                    <a:ext cx="58863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IDJERI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51120" y="1523880"/>
            <a:ext cx="675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boriginal cave paintings are a native Australian art fo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600200" y="457200"/>
          <a:ext cx="60199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6019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436680"/>
            <a:ext cx="73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dgeridoo - The didgeridoo (pronounced didg-er-ee-doo) is an unusual trumpet played by the Aborigines of northern Australia to accompany dance and song. It is constructed of a large tube of Eucalyptus wood or bamboo. One end rests on the ground, while the player simultaneously blows and sings into the other end of the instrument, producing a deep, buzzing drone and more subtle effects: high partials, rhythmic articulations, and changes of tone color. To create this sound requires circular breathing, a difficult technique of taking in air through the nose while simultaneously blowing air out through the mo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7-1-3933_digeridoo" descr=""/>
          <p:cNvPicPr/>
          <p:nvPr/>
        </p:nvPicPr>
        <p:blipFill>
          <a:blip r:embed="rId1"/>
          <a:stretch/>
        </p:blipFill>
        <p:spPr>
          <a:xfrm>
            <a:off x="2200320" y="0"/>
            <a:ext cx="47451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162920" y="4440240"/>
            <a:ext cx="16761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日，国际奥委会主席萨马兰奇在当地土著居民的陪同下，参观了当地土著人居住的地方。图为萨马兰奇试着演奏土著人的传统乐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7-1-4171_au0912111szy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45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6324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澳大利亚土著艺术家十二日在悉尼歌剧院前吹奏传统乐器，为即将开幕的奥运会助兴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-9360"/>
          <a:ext cx="9144000" cy="68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IVEB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1219320"/>
            <a:ext cx="73152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cc"/>
                </a:solidFill>
                <a:latin typeface="Times New Roman"/>
              </a:rPr>
              <a:t>Banner-carrying aborigines march in 1980 in protest against government plans to begin oil drilling on sacred aboriginal sit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733920" y="41148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5490a8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Aborigines</a:t>
            </a:r>
            <a:endParaRPr b="0" i="1" lang="en-US" sz="2400" spc="1" strike="noStrike">
              <a:ln cap="sq" w="9360">
                <a:solidFill>
                  <a:srgbClr val="5490a8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362320" y="160020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People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Weather and Lan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LUT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219320" y="291960"/>
          <a:ext cx="678168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1960"/>
                    <a:ext cx="67816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OBO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91440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ustralia has many varied features. In the center are dry riverbeds, like the one winding through the Macdonnell Rang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828800" y="228600"/>
          <a:ext cx="54100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"/>
                    <a:ext cx="54100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MARIMB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33720" y="1600200"/>
            <a:ext cx="5715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In Queensland there are sugarcane field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5120" y="15235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Sports and Game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GUITELEC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739880" y="457200"/>
          <a:ext cx="57164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457200"/>
                    <a:ext cx="57164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HARP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00200" y="990720"/>
            <a:ext cx="6705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Sailing is popular among Australians. In Melbourne, children learn to handle small boats on the Yarra Riv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79480" y="304920"/>
          <a:ext cx="53834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304920"/>
                    <a:ext cx="53834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62320" y="167652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Football is a popular sport in Australi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0" y="304920"/>
          <a:ext cx="4505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4920"/>
                    <a:ext cx="4505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66680" y="609480"/>
          <a:ext cx="7162920" cy="51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16292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800" y="28191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33480" y="838080"/>
            <a:ext cx="631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n aboriginal man of South Australia wears a cap of plaited straw and carries a decorated woomera, a stick used to cradle a spear and give added leverage in throwing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514440" y="762120"/>
          <a:ext cx="8020080" cy="55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762120"/>
                    <a:ext cx="802008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ALTOSAX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17524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boriginal family is at home in South Australia; the woman is spinning w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85800" y="268200"/>
          <a:ext cx="76960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8200"/>
                    <a:ext cx="76960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6019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es work in a lumber forest on Melville Island off the coast near Darw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49600" y="380880"/>
          <a:ext cx="5565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380880"/>
                    <a:ext cx="5565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01:33:48Z</dcterms:created>
  <dc:creator>home</dc:creator>
  <dc:description/>
  <dc:language>en-US</dc:language>
  <cp:lastModifiedBy>home</cp:lastModifiedBy>
  <dcterms:modified xsi:type="dcterms:W3CDTF">2000-10-12T21:12:49Z</dcterms:modified>
  <cp:revision>13</cp:revision>
  <dc:subject/>
  <dc:title>Australia</dc:title>
</cp:coreProperties>
</file>