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335E-CFD9-4FAF-B58D-D7625840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6254-E893-42F8-AB4D-A9C4032F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5109-D353-4C46-B59D-FA700FF9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332A-18FD-4E06-A1CD-38048C726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5F50-29FC-4F46-AA30-7C03C82F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B5EF-F1C5-47C7-9D00-8599035A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604D-53AC-48CA-BD71-9DC83ECD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8762-CC01-46FB-AE3C-9B8175D3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8101-8790-436F-8080-B3F59C6E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97BF-D083-47C6-BDD8-5ABA155D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5679-E4F2-4817-91F5-E4FF6A56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4776-0EDC-407F-97C9-C2CC9FD2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1728-E729-4701-AFC3-EACEFC8E83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454680" y="228600"/>
            <a:ext cx="10042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8. It’s nice to hear from her again.   _______,   we la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t more than thirty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hat’s more               B. That’s to s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In other words            D. Believe it or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9. The Foreign Minister said, “________ our hope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two sides will work towards peac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It is          B. This is          C. There is       D. That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0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ur new manager __________all the payments re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 the meeting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put towards             B. put off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put through             D. put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99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20440" y="22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4884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066680" y="3048120"/>
            <a:ext cx="67820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单句改错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1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93400" y="228600"/>
            <a:ext cx="8556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hongguancun is home for the Chinese Academy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iences and some other famous univers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number of overseas Chinese has graspe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portunity to develop their ideas at 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iang Yufang is one of those who have returned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China after studying and working abro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hongguancun made possible for him to follow 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eams and help the country he lo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never felt real comfortable abroad,and I miss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thing in Ch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6858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81680" y="6001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19810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77120" y="197172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29600" y="2819520"/>
            <a:ext cx="38088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962520"/>
            <a:ext cx="30492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962520" y="4038120"/>
            <a:ext cx="30456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38680" y="44863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579132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71080" y="578160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29760" y="319104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0" y="3276720"/>
            <a:ext cx="4572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90880" y="76320"/>
            <a:ext cx="8506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couldn’t find a company which I could use what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d lear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runs a small company basing in Zhongguanc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gether with two fri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can only reach the top if they are ready to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and learn from fail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inese history is filling with great achievements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ience and techn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rockets have been used to sending satellites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 and to prepare for the nation’s first mann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 fl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60948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29880" y="52380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1828800"/>
            <a:ext cx="990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05520" y="174312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312408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14800" y="311472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441972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57240" y="433404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563868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76880" y="60865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2800" y="459000"/>
            <a:ext cx="8901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ome films               misleading               children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无论发生了什么，你都不要改变主注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appens, don’t change your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今晚他很有可能给我电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                        ring me ton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4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他说清楚了，他将不接受我们的邀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he would not accept our invi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他的所有梦想都已实现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ll his dreams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是我的两妹妹最了解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y two sister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knew her b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2160" y="1916280"/>
            <a:ext cx="23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No matter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41800" y="907920"/>
            <a:ext cx="10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hav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65440" y="907920"/>
            <a:ext cx="14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effect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2000" y="285264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is likely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6720" y="3860640"/>
            <a:ext cx="26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made it clear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88360" y="4869000"/>
            <a:ext cx="50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have come true/have been rea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3440" y="580536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It 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65800" y="57340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67600" y="985680"/>
            <a:ext cx="2895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有…共同之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有…要发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即将到来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是…的所在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开始创建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年代初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实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成为现实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进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踏进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开公司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对…有影响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依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依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恢复生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活跃起来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提出（主意、计划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目的是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81080" y="2286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1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4297320" y="914400"/>
            <a:ext cx="31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have … in 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10640" y="1371600"/>
            <a:ext cx="25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have … in 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4680" y="182880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be hom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82200" y="220968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et starte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50360" y="2681280"/>
            <a:ext cx="29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in the early 1980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29200" y="3114720"/>
            <a:ext cx="18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come tru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66000" y="349560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set foot 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09160" y="3976560"/>
            <a:ext cx="24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run a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48320" y="433404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have (an) effect 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471492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rely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7320" y="5119560"/>
            <a:ext cx="19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come to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95520" y="5553000"/>
            <a:ext cx="20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put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92920" y="6033960"/>
            <a:ext cx="113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aim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8720" y="380880"/>
            <a:ext cx="2216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能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济特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海外华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抓着机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现梦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…作安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也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教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…感到激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…作贡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中国十个基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充满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47200" y="295200"/>
            <a:ext cx="27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it is likely tha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76520" y="752400"/>
            <a:ext cx="37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 special economic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76520" y="120960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overseas Chin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76880" y="1590840"/>
            <a:ext cx="35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rasp the opport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0200" y="20480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evelop the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57400" y="2428920"/>
            <a:ext cx="19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rrang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5160" y="289548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s well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76880" y="334332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earn from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86720" y="3724200"/>
            <a:ext cx="26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e excited ab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81800" y="418140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tribut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43920" y="4638600"/>
            <a:ext cx="29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ten bases in Ch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96360" y="509580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e filled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370080" y="1244520"/>
            <a:ext cx="9881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He has already __________ his suggestions abou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ew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orked  out                B. mapped out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found out                    D. made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The new government _________ its policy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requested     B. arranged    C. boomed   D. annou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 I can see the bright future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in store    B. in the store    C. set store      D. set f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. This beautiful house is _________to Crazy English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 lot of ________speeches have been given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a home; inspired                   B. home; insp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a home; inspiring                 D. home; inspi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04920" y="457200"/>
            <a:ext cx="1314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1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3262680" y="1133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77440" y="2886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15520" y="3800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06040" y="463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80" y="228600"/>
            <a:ext cx="9189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. As a young man in modern society, I should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very opportunity and try best to _______my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grasp; form                   B. seize; mak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grasp; develop               D. catch; bui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. The two countries decided to __________ with ea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ther______this new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cooperate; in              B. deal; on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deal; at                        D. cooperate;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7. We must aim_________ expo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o increase                B. at increas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for increasing           D. at increa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8. The ________of the language center is open your mouth 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ake the chance and surprise 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sign         B. motto           C. theme           D. spir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53800" y="21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20440" y="1895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05840" y="3571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86160" y="4943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8560" y="295200"/>
            <a:ext cx="9004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9. _________its new conductor, the band achieved gre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cces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ith       B.  By         C. For         D. 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0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f I ________you , I _______call you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am;will                    B. was;would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were; would            D. am; sh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1. When this book was published, he_______the roa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set foot                             B. set his foot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was on his foot                D. stood on his f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2. It is generally considered unwise to give a child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e or she w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however  B. whatever     C. whichever    D. when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77040" y="21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86520" y="1514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81840" y="2886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86960" y="4486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449640" y="228600"/>
            <a:ext cx="9756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3. Stand over there_______you’ll be able to see it bet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or          B. while         C. but               D.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4. It was evening ________we reached the small tow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f this c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hat          B. until          C. since          D.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5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economic zone was _______by these fore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vest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rejuvenated             B. boom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ransported              D. come to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6. ________the exhibition, you’ll really feast your ey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n the  fantastic pi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In           B. At              C. On              D.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7. This guy is ________to tell a l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probably        B. possible       C. likely      D. see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15320" y="21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63040" y="1133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82000" y="2352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76680" y="41054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29520" y="5324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20T12:01:29Z</dcterms:modified>
  <cp:revision>89</cp:revision>
  <dc:subject/>
  <dc:title>PowerPoint Presentation</dc:title>
</cp:coreProperties>
</file>