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DEC-96D9-40F3-A750-3209E05D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51F-6760-4EC2-B9FC-CD49C0CF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B5A-6FC5-4AB4-8CE9-CEE7DD1C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EF6-DE41-4377-94ED-29B9E2AE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B39-0FED-4BBD-8E56-BB763CE3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13F-E36A-4F5B-A0F4-8CD05C98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395-B5CF-49F1-B52D-11CEAAEB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8E5-A28E-46A0-9D19-DD444DB3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F81-0C62-4C9D-AC50-E5C581F9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861-B604-4FCF-9292-110207AD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6E7-7FBD-4BD7-B69D-1B0913D8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D4A-B98C-4C91-8000-D8CFF59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0B38-755F-4D37-B5B4-0BF0C0BEE4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6:15Z</dcterms:created>
  <dc:creator>USER13</dc:creator>
  <dc:description/>
  <dc:language>en-US</dc:language>
  <cp:lastModifiedBy>USER13</cp:lastModifiedBy>
  <dcterms:modified xsi:type="dcterms:W3CDTF">2002-05-04T03:26:20Z</dcterms:modified>
  <cp:revision>1</cp:revision>
  <dc:subject/>
  <dc:title>PowerPoint 演示文稿</dc:title>
</cp:coreProperties>
</file>