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3.png" ContentType="image/png"/>
  <Override PartName="/ppt/media/image10.wmf" ContentType="image/x-wmf"/>
  <Override PartName="/ppt/media/image2.png" ContentType="image/png"/>
  <Override PartName="/ppt/media/image25.jpeg" ContentType="image/jpeg"/>
  <Override PartName="/ppt/media/image32.png" ContentType="image/png"/>
  <Override PartName="/ppt/media/image15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4.png" ContentType="image/png"/>
  <Override PartName="/ppt/media/image9.wmf" ContentType="image/x-wmf"/>
  <Override PartName="/ppt/media/image30.png" ContentType="image/png"/>
  <Override PartName="/ppt/media/image27.jpeg" ContentType="image/jpeg"/>
  <Override PartName="/ppt/media/image13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31.wmf" ContentType="image/x-wmf"/>
  <Override PartName="/ppt/media/image1.wmf" ContentType="image/x-wmf"/>
  <Override PartName="/ppt/media/image16.png" ContentType="image/png"/>
  <Override PartName="/ppt/media/image17.wmf" ContentType="image/x-wmf"/>
  <Override PartName="/ppt/media/image18.wmf" ContentType="image/x-wmf"/>
  <Override PartName="/ppt/media/image20.wmf" ContentType="image/x-wmf"/>
  <Override PartName="/ppt/media/image26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00A9-A1DD-4DE9-84FA-064A7A50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F571-D583-48FD-BECE-2E8441CC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1D26-A39E-46F4-B127-D1E3CBA4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0E73-4254-4BB0-8F10-75CF72B9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25A2-DB2C-4C62-A9E9-0F7396C5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39DE-6F80-445B-AFEB-BCC9A62A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6A76-03D3-4C98-BE02-A0C42279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FE57-2FEE-40CE-BE01-3128A6F1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0E7F-F9B7-45F9-A523-8B500A28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EF1-EAC1-4C27-9076-8983A397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8F6D-844B-4F57-85D3-2C047965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D65A-CE8D-414B-9E81-94BE01CB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F8D0-D6F4-4069-8463-6797A62A6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2.wmf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-304920"/>
            <a:ext cx="701028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Escape From the Zo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6324480" cy="2616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43720" y="4724280"/>
            <a:ext cx="264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浙江省宁波鄞江中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629400" y="5105520"/>
            <a:ext cx="198432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唐亚芬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陈亚红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未标题-1" descr=""/>
          <p:cNvPicPr/>
          <p:nvPr/>
        </p:nvPicPr>
        <p:blipFill>
          <a:blip r:embed="rId1"/>
          <a:stretch/>
        </p:blipFill>
        <p:spPr>
          <a:xfrm>
            <a:off x="0" y="228600"/>
            <a:ext cx="4724280" cy="3535200"/>
          </a:xfrm>
          <a:prstGeom prst="rect">
            <a:avLst/>
          </a:prstGeom>
          <a:ln w="0">
            <a:noFill/>
          </a:ln>
        </p:spPr>
      </p:pic>
      <p:pic>
        <p:nvPicPr>
          <p:cNvPr id="85" name="未标题-2" descr=""/>
          <p:cNvPicPr/>
          <p:nvPr/>
        </p:nvPicPr>
        <p:blipFill>
          <a:blip r:embed="rId2"/>
          <a:stretch/>
        </p:blipFill>
        <p:spPr>
          <a:xfrm>
            <a:off x="4572000" y="0"/>
            <a:ext cx="3886200" cy="4317840"/>
          </a:xfrm>
          <a:prstGeom prst="rect">
            <a:avLst/>
          </a:prstGeom>
          <a:ln w="0">
            <a:noFill/>
          </a:ln>
        </p:spPr>
      </p:pic>
      <p:pic>
        <p:nvPicPr>
          <p:cNvPr id="86" name="未标题-3" descr=""/>
          <p:cNvPicPr/>
          <p:nvPr/>
        </p:nvPicPr>
        <p:blipFill>
          <a:blip r:embed="rId3"/>
          <a:stretch/>
        </p:blipFill>
        <p:spPr>
          <a:xfrm>
            <a:off x="2514600" y="3433680"/>
            <a:ext cx="4572000" cy="3424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9000" y="4114800"/>
            <a:ext cx="205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sca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ree,f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eleph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29400" y="196920"/>
            <a:ext cx="184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isten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urn off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ut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45440" y="41641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2440" y="4168800"/>
            <a:ext cx="2338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end 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o co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312408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1143000"/>
            <a:ext cx="519120" cy="409680"/>
          </a:xfrm>
          <a:prstGeom prst="leftArrow">
            <a:avLst>
              <a:gd name="adj1" fmla="val 50000"/>
              <a:gd name="adj2" fmla="val 3167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809880"/>
            <a:ext cx="838080" cy="333360"/>
          </a:xfrm>
          <a:prstGeom prst="leftArrow">
            <a:avLst>
              <a:gd name="adj1" fmla="val 50000"/>
              <a:gd name="adj2" fmla="val 6285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未标题-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332240" cy="3243240"/>
          </a:xfrm>
          <a:prstGeom prst="rect">
            <a:avLst/>
          </a:prstGeom>
          <a:ln w="0">
            <a:noFill/>
          </a:ln>
        </p:spPr>
      </p:pic>
      <p:pic>
        <p:nvPicPr>
          <p:cNvPr id="95" name="未标题-5" descr=""/>
          <p:cNvPicPr/>
          <p:nvPr/>
        </p:nvPicPr>
        <p:blipFill>
          <a:blip r:embed="rId2"/>
          <a:stretch/>
        </p:blipFill>
        <p:spPr>
          <a:xfrm>
            <a:off x="3733920" y="0"/>
            <a:ext cx="4419360" cy="3309840"/>
          </a:xfrm>
          <a:prstGeom prst="rect">
            <a:avLst/>
          </a:prstGeom>
          <a:ln w="0">
            <a:noFill/>
          </a:ln>
        </p:spPr>
      </p:pic>
      <p:pic>
        <p:nvPicPr>
          <p:cNvPr id="96" name="未标题-6" descr=""/>
          <p:cNvPicPr/>
          <p:nvPr/>
        </p:nvPicPr>
        <p:blipFill>
          <a:blip r:embed="rId3"/>
          <a:stretch/>
        </p:blipFill>
        <p:spPr>
          <a:xfrm>
            <a:off x="2819520" y="3581280"/>
            <a:ext cx="3962160" cy="2967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5640" y="3657600"/>
            <a:ext cx="2582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ick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wing,thr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un,pick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un,sh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8920" y="2209680"/>
            <a:ext cx="221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eleph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l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eighb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8920" y="4753080"/>
            <a:ext cx="2021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ke,f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oint,f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ut,car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2895480"/>
            <a:ext cx="228600" cy="976320"/>
          </a:xfrm>
          <a:prstGeom prst="upArrow">
            <a:avLst>
              <a:gd name="adj1" fmla="val 50000"/>
              <a:gd name="adj2" fmla="val 10677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5257800"/>
            <a:ext cx="838080" cy="152280"/>
          </a:xfrm>
          <a:prstGeom prst="leftArrow">
            <a:avLst>
              <a:gd name="adj1" fmla="val 50000"/>
              <a:gd name="adj2" fmla="val 13758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2209680"/>
            <a:ext cx="976320" cy="257400"/>
          </a:xfrm>
          <a:prstGeom prst="leftArrow">
            <a:avLst>
              <a:gd name="adj1" fmla="val 50000"/>
              <a:gd name="adj2" fmla="val 9482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10080" y="304920"/>
            <a:ext cx="2667240" cy="2239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557880" cy="5106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952880" y="4419720"/>
            <a:ext cx="2667240" cy="1969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S20006" descr=""/>
          <p:cNvPicPr/>
          <p:nvPr/>
        </p:nvPicPr>
        <p:blipFill>
          <a:blip r:embed="rId1"/>
          <a:stretch/>
        </p:blipFill>
        <p:spPr>
          <a:xfrm>
            <a:off x="0" y="0"/>
            <a:ext cx="1581120" cy="4809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28800" y="252360"/>
            <a:ext cx="7137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1.What do you think o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Mrs Cousins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2.Do you have any other way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73480" y="3429000"/>
            <a:ext cx="647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3.Can we shoot the lion 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deat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8915400" cy="3178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733920" y="2590920"/>
            <a:ext cx="3809880" cy="1995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057400" y="2514600"/>
            <a:ext cx="6781680" cy="2133720"/>
          </a:xfrm>
          <a:prstGeom prst="rect">
            <a:avLst/>
          </a:prstGeom>
          <a:solidFill>
            <a:srgbClr val="66ff33">
              <a:alpha val="50000"/>
            </a:srgbClr>
          </a:solidFill>
          <a:ln w="9360">
            <a:solidFill>
              <a:srgbClr val="ffff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533520"/>
            <a:ext cx="3352680" cy="10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Good-bye!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2057400"/>
            <a:ext cx="53352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182880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447560" cy="1027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981080" y="0"/>
            <a:ext cx="3124440" cy="2036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4120" y="0"/>
            <a:ext cx="3352680" cy="155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1295280"/>
            <a:ext cx="156852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1828800" y="2057400"/>
            <a:ext cx="3048120" cy="1784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181480" y="1600200"/>
            <a:ext cx="1990800" cy="228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639200" y="1143000"/>
            <a:ext cx="150480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380880" y="3733920"/>
            <a:ext cx="2286000" cy="1376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6400800" y="3505320"/>
            <a:ext cx="2467080" cy="3352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3276720" y="4495680"/>
            <a:ext cx="312408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380880" y="5559480"/>
            <a:ext cx="2438640" cy="1298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5410080" cy="2835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914400" y="914400"/>
            <a:ext cx="6553080" cy="16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What happened in the text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772400" y="304920"/>
            <a:ext cx="727200" cy="25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281952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Lion esca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2448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772400" y="5715000"/>
            <a:ext cx="839880" cy="839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993720" y="552600"/>
            <a:ext cx="1767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cap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586480" y="0"/>
            <a:ext cx="3557520" cy="5106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3504960" cy="2943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505320" y="3962520"/>
            <a:ext cx="2666880" cy="1969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2819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267080" y="609480"/>
            <a:ext cx="4876920" cy="3272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3400" y="441360"/>
            <a:ext cx="53607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x month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75 centimet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tree fell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dangero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pal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f a different shap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248520" y="2666880"/>
            <a:ext cx="1447560" cy="1069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299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2514600"/>
            <a:ext cx="2495520" cy="3811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01640" y="301680"/>
            <a:ext cx="3016800" cy="69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is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urn off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ook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o and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o co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ick 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wing,attr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r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un and sh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 flipH="1" rot="10800000"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-8280" y="685800"/>
            <a:ext cx="922896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True  or  Fa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Mrs Cousins only telephoned the police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she got inside the kitc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.When the police arrived ten minutes la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the lion could be seen in the bushes eating the me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When the two keepers came they took a lo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lastic pipe and fitted something into one en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ointed at the lion and f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4.The lion made a sudden angry nois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struggled to its feet, it d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.They put the lion in a strong cage and carr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t to   the tru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6.The keeper played a joke on Mrs  Cous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96080" y="1752480"/>
            <a:ext cx="760680" cy="11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952880" y="1371600"/>
            <a:ext cx="7621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X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105520" y="4800600"/>
            <a:ext cx="76176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X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248520" y="3429000"/>
            <a:ext cx="760320" cy="1119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934320" y="5738760"/>
            <a:ext cx="760320" cy="1119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3657600" y="5257800"/>
            <a:ext cx="760320" cy="11192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63560" y="2057400"/>
            <a:ext cx="620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L----C----B----F----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----J----I----D----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----K----E----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615000" y="3200400"/>
            <a:ext cx="2529000" cy="365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09480" y="533520"/>
            <a:ext cx="3429000" cy="12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Keys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1:01:32Z</dcterms:created>
  <dc:creator>鄞江中学</dc:creator>
  <dc:description/>
  <dc:language>en-US</dc:language>
  <cp:lastModifiedBy>鄞江中学</cp:lastModifiedBy>
  <dcterms:modified xsi:type="dcterms:W3CDTF">2002-04-22T23:05:46Z</dcterms:modified>
  <cp:revision>38</cp:revision>
  <dc:subject/>
  <dc:title>没有幻灯片标题</dc:title>
</cp:coreProperties>
</file>