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64D-0FFE-4249-944F-2EC31ECC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7A2-7CBB-4BF3-BA0D-41892CF6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94E-B507-4163-9EA6-3CA798A6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641-F4F6-405B-939A-BAAA16D1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CB9-5661-4274-B1D0-8D9AF274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489-B031-4D5B-AAF5-0B221919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71A-8D8C-4E08-AC91-A8486A3C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EE6-62BE-49B3-AC41-A5362B3F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AEB-93F1-41AA-AE53-5B4AAA2E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330-A56B-405C-9E97-C0C5372D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14C-3175-4CC2-B8D5-30090C57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99D-EE38-4861-9545-66E850A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AA0D-FD22-4E26-86C9-1783D5CBE6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6:15Z</dcterms:created>
  <dc:creator>USER13</dc:creator>
  <dc:description/>
  <dc:language>en-US</dc:language>
  <cp:lastModifiedBy>USER13</cp:lastModifiedBy>
  <dcterms:modified xsi:type="dcterms:W3CDTF">2002-05-04T03:26:20Z</dcterms:modified>
  <cp:revision>1</cp:revision>
  <dc:subject/>
  <dc:title>PowerPoint 演示文稿</dc:title>
</cp:coreProperties>
</file>