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6.png" ContentType="image/png"/>
  <Override PartName="/ppt/media/image3.gif" ContentType="image/gi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D7D-22BB-4388-B4A3-1B5AF434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887-A80C-4CD6-8430-B85F5588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3CF-5609-44DC-A336-552835B2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6E2-31A4-41B0-A570-C31EE381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23C-E52E-4A58-B379-34DB8447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3FD-7380-486C-9466-727EDDBD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913-B68C-4613-A79C-6FA6C330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DCC-1F30-4878-8BFE-28AF5A92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7AD-0A01-468E-963B-F2DDC06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0EF-36A2-4092-9294-1C5C8FD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8C0-0299-4EEC-86C9-1664EEC5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E2D-2B04-48E6-95AE-3A9A74B3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4CBD-5C4C-4A5C-9F25-F61606CF85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600" y="9810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760" y="1447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600" y="2428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342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76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560" y="4867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400" y="5816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40" y="380880"/>
            <a:ext cx="9137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Europe      B Africa C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7520" y="330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7760" y="1057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51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3600" y="3606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5600" y="5054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53400" y="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9000" y="476280"/>
            <a:ext cx="69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080" y="933480"/>
            <a:ext cx="741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)The old house has been handed down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4760" y="1771560"/>
            <a:ext cx="80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)In poor families,clothes may be hand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160" y="261000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 the elders = the old people. Elder is used her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920" y="3657600"/>
            <a:ext cx="86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 (the oldest form of art )yet discovered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20" y="403848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so far dis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= that has been discovered so f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560" y="495288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840" y="54100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000" y="54100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7720" y="601020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762120"/>
            <a:ext cx="73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 be/become experienced at/in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8400" y="139068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She is an experienced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1000" y="198108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They were quite experienced at te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9920" y="2895480"/>
            <a:ext cx="78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He is quite experienced in this kind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760" y="3429000"/>
            <a:ext cx="39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 make up = co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4320" y="403848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irl students make up 80%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080" y="4952880"/>
            <a:ext cx="73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 particularly the police: The police tre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Kooris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se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B_001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42" name="B_001" descr=""/>
          <p:cNvPicPr/>
          <p:nvPr/>
        </p:nvPicPr>
        <p:blipFill>
          <a:blip r:embed="rId4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B_001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B_001" descr=""/>
          <p:cNvPicPr/>
          <p:nvPr/>
        </p:nvPicPr>
        <p:blipFill>
          <a:blip r:embed="rId6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70600" y="685800"/>
            <a:ext cx="377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759040"/>
            <a:ext cx="7391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pyright:Dennis Chengw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E-mail:DennisChengwu@Ch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920" y="48006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he%20opera%20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87720" y="579132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800600" y="0"/>
          <a:ext cx="43434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0"/>
                    <a:ext cx="4343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0"/>
          <a:ext cx="48006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00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00600" y="1752480"/>
          <a:ext cx="43434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752480"/>
                    <a:ext cx="4343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3352680"/>
          <a:ext cx="434340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43434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1752480"/>
          <a:ext cx="480060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752480"/>
                    <a:ext cx="4800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352680"/>
          <a:ext cx="480060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352680"/>
                    <a:ext cx="4800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5029200"/>
          <a:ext cx="4800600" cy="18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029200"/>
                    <a:ext cx="4800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800600" y="5029200"/>
          <a:ext cx="4343400" cy="182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00600" y="5029200"/>
                    <a:ext cx="4343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sfd</cp:lastModifiedBy>
  <dcterms:modified xsi:type="dcterms:W3CDTF">2001-09-21T18:39:57Z</dcterms:modified>
  <cp:revision>36</cp:revision>
  <dc:subject/>
  <dc:title>PowerPoint 演示文稿</dc:title>
</cp:coreProperties>
</file>