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825-1865-4389-9D30-23363477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19C-402E-4A0F-80A6-576F4ED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880-0049-4E4A-8015-3F59C10B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5BA-7485-435D-BFAE-3040BC32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E11-26F0-45B1-856B-061ACBCF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8D2-DF1E-4308-9056-53EC7F31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269-1BC8-4514-B246-FD22D3A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E90-8DFE-49DA-92B7-2B2FEFF7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566-12FC-4883-80C1-B4F1BD2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251-1873-46CA-BCA8-DEC5E99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DC0-195F-4796-AB9C-BCB5465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ECD-DEF3-4533-A7FD-F8022337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14BF-77E0-4A6F-93F9-E035ACAFCB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JUNIOR ENGL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Times New Roman"/>
              </a:rPr>
              <a:t>Book  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烟台十九中学  王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3254_" descr=""/>
          <p:cNvPicPr/>
          <p:nvPr/>
        </p:nvPicPr>
        <p:blipFill>
          <a:blip r:embed="rId2"/>
          <a:stretch/>
        </p:blipFill>
        <p:spPr>
          <a:xfrm>
            <a:off x="0" y="137160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80880"/>
            <a:ext cx="800100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  Lesson : Imperative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9625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谓语动词用原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表示请求，命令，叮嘱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7153_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2819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祈使句的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69f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04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For    Examp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1_152" descr=""/>
          <p:cNvPicPr/>
          <p:nvPr/>
        </p:nvPicPr>
        <p:blipFill>
          <a:blip r:embed="rId1"/>
          <a:stretch/>
        </p:blipFill>
        <p:spPr>
          <a:xfrm>
            <a:off x="0" y="4205160"/>
            <a:ext cx="41148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371600" y="1295280"/>
            <a:ext cx="7620120" cy="3751560"/>
            <a:chOff x="1371600" y="1295280"/>
            <a:chExt cx="7620120" cy="3751560"/>
          </a:xfrm>
        </p:grpSpPr>
        <p:sp>
          <p:nvSpPr>
            <p:cNvPr id="74" name=""/>
            <p:cNvSpPr/>
            <p:nvPr/>
          </p:nvSpPr>
          <p:spPr>
            <a:xfrm>
              <a:off x="1371600" y="1295280"/>
              <a:ext cx="7620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1.Come  here,please.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过来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2.Sit down,please. 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坐下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3.please write your name on the blackboard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34340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把你的名字写在黑板上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609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祈使句变为否定句：在谓语动词前加</a:t>
            </a: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don’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362320"/>
            <a:ext cx="7315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For  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1.Don’t come here,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2.Don’t sit down,ple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3.Please don’t write your n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on the blackbo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5219_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676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90920"/>
            <a:ext cx="8001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odel: open,the door, ( window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: Please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:Please don’t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lease open the 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7677_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13372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9144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Exercises:Make sentences after the mo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04920"/>
            <a:ext cx="8610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play basketball, ( football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.stand,under the tree, ( on the   chai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sit, on the desk, (on the  floo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E02043_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733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祈使句的特点：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谓语动词用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否定时在谓语动词  前加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E01682_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A:Complete th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______ 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帮助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me to do housework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Please 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擦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___________ (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不要关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B:Put the following into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关上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不要站在桌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课后打篮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00393_" descr=""/>
          <p:cNvPicPr/>
          <p:nvPr/>
        </p:nvPicPr>
        <p:blipFill>
          <a:blip r:embed="rId2"/>
          <a:stretch/>
        </p:blipFill>
        <p:spPr>
          <a:xfrm>
            <a:off x="6454800" y="1905120"/>
            <a:ext cx="2689200" cy="341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 s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419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los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10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don’t stand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6152_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2971800"/>
            <a:ext cx="25905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By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b020" descr=""/>
          <p:cNvPicPr/>
          <p:nvPr/>
        </p:nvPicPr>
        <p:blipFill>
          <a:blip r:embed="rId4"/>
          <a:srcRect l="4169" t="4723" r="4169" b="4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Lesson  El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7328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Listen   and    S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            </a:t>
            </a:r>
            <a:r>
              <a:rPr b="0" lang="en-US" sz="4800" spc="-1" strike="noStrike">
                <a:solidFill>
                  <a:srgbClr val="ff3300"/>
                </a:solidFill>
                <a:latin typeface="Odessa LET"/>
              </a:rPr>
              <a:t>( I )( II )( III )( IV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61866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Made  By  Wang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600200"/>
            <a:ext cx="8381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1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他在干什么？ 他在擦黑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2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你在干什么？ 我在黑板上写我的名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3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她在干什么？ 她在读今天的报纸</a:t>
            </a:r>
            <a:r>
              <a:rPr b="0" lang="zh-CN" sz="40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572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Go         over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01" descr=""/>
          <p:cNvPicPr/>
          <p:nvPr/>
        </p:nvPicPr>
        <p:blipFill>
          <a:blip r:embed="rId2"/>
          <a:srcRect l="0" t="0" r="0" b="7100"/>
          <a:stretch/>
        </p:blipFill>
        <p:spPr>
          <a:xfrm>
            <a:off x="1981080" y="4100400"/>
            <a:ext cx="7162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8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What is he doing?  He is clea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 blackboa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What are you doing?   I’m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name on the blackboar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What is she doing?     She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reading today’s news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N02542_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O01862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Listen   and   say  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47920"/>
            <a:ext cx="5943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Clean the blackboard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 is cleaning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rite your name on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She’s writing her nam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NA00763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28600"/>
            <a:ext cx="525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Read the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I’m reading today’s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hut the window, plea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he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’s shutting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1280" y="380880"/>
            <a:ext cx="5257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e map of China 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of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 of Ch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look at the ma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6675_" descr=""/>
          <p:cNvPicPr/>
          <p:nvPr/>
        </p:nvPicPr>
        <p:blipFill>
          <a:blip r:embed="rId2"/>
          <a:stretch/>
        </p:blipFill>
        <p:spPr>
          <a:xfrm>
            <a:off x="0" y="2362320"/>
            <a:ext cx="3635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143000"/>
            <a:ext cx="5257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e window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is one or that o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is window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hut that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E01460_" descr=""/>
          <p:cNvPicPr/>
          <p:nvPr/>
        </p:nvPicPr>
        <p:blipFill>
          <a:blip r:embed="rId2"/>
          <a:stretch/>
        </p:blipFill>
        <p:spPr>
          <a:xfrm>
            <a:off x="5464080" y="1600200"/>
            <a:ext cx="367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7:58:42Z</dcterms:created>
  <dc:creator>lyp</dc:creator>
  <dc:description/>
  <dc:language>en-US</dc:language>
  <cp:lastModifiedBy>lyp</cp:lastModifiedBy>
  <dcterms:modified xsi:type="dcterms:W3CDTF">2001-06-01T10:08:08Z</dcterms:modified>
  <cp:revision>53</cp:revision>
  <dc:subject/>
  <dc:title>PowerPoint 演示文稿</dc:title>
</cp:coreProperties>
</file>