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492-75A0-4A1D-B1A1-1CFB40FF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BA3-D7CF-41B8-BA01-8D99472E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5D1A-4E7F-4B6A-A5A7-5E2E1D82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8A80-BB3C-47CA-8BE6-1BA94139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D5AA-2B66-4608-A2F9-E8D3CA47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599-D559-4192-BDB1-9409A2F3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E275-A68B-4F27-8777-362DFDD5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BD1F-055B-4E4D-A79B-E786BAFA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EC16-7F70-4EEF-A587-EB70B54F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6B65-3B26-43E5-8892-3D5815C9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55D8-55A2-45B3-9D19-E6CB72DE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CC5-83F7-4781-9153-3D870CB3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76F2-6E06-4D50-B54E-F05E8EF1E2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3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4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4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4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4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4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3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3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3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12:36Z</dcterms:created>
  <dc:creator>USER13</dc:creator>
  <dc:description/>
  <dc:language>en-US</dc:language>
  <cp:lastModifiedBy>USER13</cp:lastModifiedBy>
  <dcterms:modified xsi:type="dcterms:W3CDTF">2002-05-04T03:16:18Z</dcterms:modified>
  <cp:revision>1</cp:revision>
  <dc:subject/>
  <dc:title>PowerPoint 演示文稿</dc:title>
</cp:coreProperties>
</file>