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4C9-5FF4-4DE2-BC31-CC80FE78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BA5-07E3-4FB4-A2FF-36B435C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352-756F-4D12-83D7-0E4C1676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6F9-974E-4EF9-B4DD-16BAA6D1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7F80-17A2-40D2-8FDF-BF7A9E85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4CF6-53EF-44D9-AC44-FEE651E3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6DE-B1F9-420F-91BA-CDDAFE2D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B199-4E78-4C98-ABCC-A60ED8F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6762-82A9-485A-89E9-9DCB9F0B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CA38-4D3B-4D4C-BC98-3F243E8B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CB66-D31B-4DF6-AD26-882EDA6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945-C086-4924-A991-394A467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EF60-96B3-469A-A5A5-EF6C543F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C3E6-78B7-451E-B559-3F0B0AA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4EFB-31EE-4774-B5E1-BC93055A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1FF5-3908-411E-9BEC-B397C70D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E81-C654-4DEE-82F7-1F7A0F9D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2A5-23A2-4995-89E5-D924CBE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FF9-0862-4156-A161-4BA7CFD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DCC-D31D-4349-9F50-9B87891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1A9-38FC-47EE-965C-EF7DEBBC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0B3-C4E2-4958-9A61-471D893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93F-A81E-4D12-993F-14395F4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482-10BE-42A2-B625-D93FE05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E80-2AB6-4576-BD17-EEA19B0C96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D067-8DC5-4BFC-9FEE-2E9428BF9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   </a:t>
            </a:r>
            <a:r>
              <a:rPr b="0" lang="zh-CN" sz="7200" spc="-1" strike="noStrike">
                <a:solidFill>
                  <a:srgbClr val="221304"/>
                </a:solidFill>
                <a:latin typeface="Times New Roman"/>
                <a:ea typeface="隶书"/>
              </a:rPr>
              <a:t>初中英语课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英语演示文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power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9903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4419720" cy="5181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the two girls talking outside the school g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are they talk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Is Wei Hua going to buy school th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he going to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fefde3"/>
          </a:solidFill>
          <a:ln w="9360">
            <a:solidFill>
              <a:srgbClr val="cbbd8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sk and answer in pair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572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Lucy want to buy some banan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Is Wei Hua going to buy bananas for Luc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Is Lucy going to the shop with Wei Hu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00381_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105520" y="2209680"/>
            <a:ext cx="2895480" cy="457200"/>
          </a:xfrm>
          <a:prstGeom prst="rect">
            <a:avLst/>
          </a:prstGeom>
          <a:solidFill>
            <a:srgbClr val="a1bd6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to th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the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4114800" cy="449604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n’t you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y)  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Why not___(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Could you___(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ere are you___(go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(go) to the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What___you_____(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____(play) footbal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E01561_" descr=""/>
          <p:cNvPicPr/>
          <p:nvPr/>
        </p:nvPicPr>
        <p:blipFill>
          <a:blip r:embed="rId1"/>
          <a:stretch/>
        </p:blipFill>
        <p:spPr>
          <a:xfrm>
            <a:off x="4951440" y="1752480"/>
            <a:ext cx="3735360" cy="4419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ill in blank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114800"/>
          </a:xfrm>
          <a:prstGeom prst="rect">
            <a:avLst/>
          </a:prstGeom>
          <a:solidFill>
            <a:srgbClr val="a1bd6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book is___(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book is___than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book is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These oranges are___(che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oranges are___than                                                           thes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anges over 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of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E07677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200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esson 1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n’t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n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     better   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213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oodby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29528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联系方法：河北省保定市一中分校电子备课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邮编：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7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话：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3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024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电子信箱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yjjj@163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34:48Z</dcterms:created>
  <dc:creator>lyj</dc:creator>
  <dc:description/>
  <dc:language>en-US</dc:language>
  <cp:lastModifiedBy>xwl</cp:lastModifiedBy>
  <dcterms:modified xsi:type="dcterms:W3CDTF">2000-11-25T01:59:27Z</dcterms:modified>
  <cp:revision>9</cp:revision>
  <dc:subject/>
  <dc:title>英语公开课</dc:title>
</cp:coreProperties>
</file>