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0EA7-CAB2-487F-8120-EB9845AF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D034-F209-4398-BE3B-A7CAED8F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E83B-0971-46C0-B048-6ED8F14E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453-DC8F-4F54-8CCC-F4DE4F7A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D10D-EDAE-4A24-BAE1-4D90022E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7D9-EBC0-40A8-AFB8-056B1984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C1D2-6470-43C0-A739-0558A61B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BBEB-49B1-47F4-B4D6-0E34113A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5121-5D7B-4553-B719-5C0A1EFB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C8C-4934-400D-A4DE-C687CFFB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FD4-516F-455F-B666-2EA1E874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4D59-2680-4EDD-A31F-00E0D2F3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D45A-3B13-41A1-852F-7BD7D7AD73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22:53Z</dcterms:created>
  <dc:creator>USER13</dc:creator>
  <dc:description/>
  <dc:language>en-US</dc:language>
  <cp:lastModifiedBy>USER13</cp:lastModifiedBy>
  <dcterms:modified xsi:type="dcterms:W3CDTF">2002-05-04T03:23:02Z</dcterms:modified>
  <cp:revision>1</cp:revision>
  <dc:subject/>
  <dc:title>PowerPoint 演示文稿</dc:title>
</cp:coreProperties>
</file>