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B46-C2D7-4218-931B-BD56A09B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64A-1830-4072-937E-79D5579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BF3-FAF7-4C54-ADAA-8AC27ABA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42F-7576-4C67-9A3D-9D4D8270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8B5-8CD0-4265-93C9-0151EF54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012-BAFA-416E-82C5-313F2F94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E8E-DB72-4587-ACE9-00CA32CA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639-0D64-41FA-981F-89FFB536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C95-69B6-4F78-800D-0C3E086F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0E4-D0B3-4811-9E6A-BA025CB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B36-9E9D-4C99-AD56-5AB5397C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4EF-EAAB-4FC1-A19C-5DEB477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E946-8B17-4702-985E-1F1C15AA9D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9:18Z</dcterms:created>
  <dc:creator>USER13</dc:creator>
  <dc:description/>
  <dc:language>en-US</dc:language>
  <cp:lastModifiedBy>USER13</cp:lastModifiedBy>
  <dcterms:modified xsi:type="dcterms:W3CDTF">2002-05-04T03:09:31Z</dcterms:modified>
  <cp:revision>1</cp:revision>
  <dc:subject/>
  <dc:title>PowerPoint 演示文稿</dc:title>
</cp:coreProperties>
</file>