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7.gif" ContentType="image/gif"/>
  <Override PartName="/ppt/media/image18.wmf" ContentType="image/x-wmf"/>
  <Override PartName="/ppt/media/image12.jpeg" ContentType="image/jpeg"/>
  <Override PartName="/ppt/media/image10.wmf" ContentType="image/x-wmf"/>
  <Override PartName="/ppt/media/image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14.jpeg" ContentType="image/jpeg"/>
  <Override PartName="/ppt/media/image5.gif" ContentType="image/gi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0E53-8010-41AA-BB90-E70E9D77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3259-8409-4F12-9D5A-0289CA0C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90A5-763F-40BE-9503-F6CB56BA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C2CA-E10A-4882-9902-0C0B265D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173F-6310-48C2-A156-4DC93403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2AD1-2A17-40E7-A887-822AA1EC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D3BE-F05C-4A7C-942E-41F1AE74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E869-7954-45AE-9404-A53E6857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6B6C-3665-4B78-B5AF-151B5309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B865-8932-4DB8-9D5C-28D4C55A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9889-1BC7-4330-9FE7-6C048C2D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18901-BD84-458B-96E4-33C2121B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920D-0D17-4AAA-BF86-E7C5EDF6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951C-D808-48A3-8AFB-00B4A4D0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084F-E2C9-4365-9AAD-9EC6FF2D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202E-78AB-41B2-967F-30F6F950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E9C3-C2AF-44A1-A49B-3C1744FE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77E11-7C76-4C5A-AC96-BA7B4E24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EDE74-62D1-4142-9159-E8735D8C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31795-6A56-4EE5-8FA1-9CA19BDB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2DC49-9651-4909-89B9-FB102F88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B5E1C-B92F-4683-8CE5-755ED6D6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DDBE-D118-424F-9C68-23BDA946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18A21-CD44-4B32-BEFE-0E3F804C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AAE23-A670-4A4F-A5A4-83F0F1E1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6837D-43A1-4881-A442-6A22C32D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D621A-C82F-4508-80F7-93CFD215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22F0B-60E2-4DC0-BD9C-7503BB43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85B8-66A9-4C64-AE25-F91E6028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74097-4257-475E-91BE-CC1462F6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9686F-8465-4D23-99CD-18CF4F11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1333A-C259-4D04-B753-917112C2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DD8F2-7E2E-43EC-ABE5-D5CAE20D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2BC1-DAD0-45A5-B902-6886BB8B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ABD6B-57DF-42BD-91B9-815D38F1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65CE6-434C-47C6-9022-616F19FF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385BF-151A-43E3-882A-19C08AF8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7B526-6DCB-437C-A262-FBC74589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58B01-2E37-48DF-9460-1ACE75A1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9F91D-17F9-45A1-8465-46086D1B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E5673-B4A7-4211-B46B-EC8DAD2D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97D35-2942-4EE1-986B-884D29DC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DC532-A70F-4C60-9132-BC799CDD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132B-8E87-4554-9FCA-5A0DDF9C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E3FD-6710-4D1F-9339-19AE60F8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D786-645D-485F-ABFC-3E72782F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F643-79B2-4119-BAF1-7B8A7E67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C1071-FEB9-4566-A08F-7C77E871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B059-FA29-4965-BD3E-E853B50CD2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937C-9DCE-4C47-A4F1-63756F57FE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514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7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8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9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CA05-A7A5-4111-8C82-9AA57AF4E0D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583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7270-855D-4267-A1BC-039C4A7FF0F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20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755640" y="907920"/>
            <a:ext cx="727236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cc"/>
                </a:solidFill>
                <a:latin typeface="Bookman Old Style"/>
                <a:ea typeface="隶书"/>
              </a:rPr>
              <a:t>      </a:t>
            </a:r>
            <a:r>
              <a:rPr b="1" lang="zh-CN" sz="6600" spc="-1" strike="noStrike">
                <a:solidFill>
                  <a:srgbClr val="6600cc"/>
                </a:solidFill>
                <a:latin typeface="Comic Sans MS"/>
                <a:ea typeface="隶书"/>
              </a:rPr>
              <a:t>Unit 1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隶书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隶书"/>
              </a:rPr>
              <a:t>Good   friend</a:t>
            </a:r>
            <a:r>
              <a:rPr b="0" lang="zh-CN" sz="6600" spc="-1" strike="noStrike">
                <a:solidFill>
                  <a:srgbClr val="6600cc"/>
                </a:solidFill>
                <a:latin typeface="Comic Sans MS"/>
                <a:ea typeface="隶书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914400" y="8380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e-listening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143000" y="3124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990720" y="2362320"/>
          <a:ext cx="7391160" cy="2908080"/>
        </p:xfrm>
        <a:graphic>
          <a:graphicData uri="http://schemas.openxmlformats.org/drawingml/2006/table">
            <a:tbl>
              <a:tblPr/>
              <a:tblGrid>
                <a:gridCol w="1218960"/>
                <a:gridCol w="1752840"/>
                <a:gridCol w="1981080"/>
                <a:gridCol w="2438280"/>
              </a:tblGrid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143000" y="762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44"/>
                </a:solidFill>
                <a:latin typeface="Arial Black"/>
              </a:rPr>
              <a:t>The Third &amp; Fourth Peri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447920" y="20574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0" i="1" lang="en-US" sz="4000" spc="-1" strike="noStrike">
                <a:solidFill>
                  <a:srgbClr val="000044"/>
                </a:solidFill>
                <a:latin typeface="Arial Black"/>
              </a:rPr>
              <a:t>Rea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71600" y="33526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44"/>
                </a:solidFill>
                <a:latin typeface="隶书"/>
                <a:ea typeface="隶书"/>
              </a:rPr>
              <a:t>任务 →目标 →语言技能 →活动形式→ 阅读教学模式 →教学思路 →教学程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9144000" cy="82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98d43"/>
                </a:solidFill>
                <a:latin typeface="Arial"/>
                <a:ea typeface="隶书"/>
              </a:rPr>
              <a:t>                         </a:t>
            </a:r>
            <a:r>
              <a:rPr b="1" lang="zh-CN" sz="3600" spc="-1" strike="noStrike">
                <a:solidFill>
                  <a:srgbClr val="f98d43"/>
                </a:solidFill>
                <a:latin typeface="Arial"/>
                <a:ea typeface="隶书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1 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师生互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描写在孤岛上生存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情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2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个人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快读查找每段主题句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细读找出段落大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3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小组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讨论发表自己的意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4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班级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归纳学生意见，从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得出结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 flipH="1">
            <a:off x="2771640" y="0"/>
            <a:ext cx="60199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32767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3"/>
          <a:stretch/>
        </p:blipFill>
        <p:spPr>
          <a:xfrm>
            <a:off x="0" y="3243240"/>
            <a:ext cx="3809880" cy="361476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4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228600" y="53352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Where is the 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9160" y="1663560"/>
            <a:ext cx="62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What happened to hi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33920" y="23526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drift=cast awa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441972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Has he got a friend on the islan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10160" y="3083040"/>
            <a:ext cx="28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astaw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380880" y="838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would you        feel if you were alone  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thout frie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like the man?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57200" y="750960"/>
            <a:ext cx="830592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隶书"/>
              </a:rPr>
              <a:t>    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隶书"/>
              </a:rPr>
              <a:t>阅读教学模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独立阅读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合作交流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个性构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0" y="3830760"/>
            <a:ext cx="44956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143000" y="220968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the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86200" y="2286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666880" y="1981080"/>
            <a:ext cx="1143000" cy="60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590920" y="2743200"/>
            <a:ext cx="1143000" cy="533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09880" y="16765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A successful business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29718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Has little time for frie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19320" y="4114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the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895480" y="4190760"/>
            <a:ext cx="1219320" cy="533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876920"/>
            <a:ext cx="1143000" cy="609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733920" y="3886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The most difficult challe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114800" y="51055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Learn and understand the friend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0481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Times New Roman"/>
              </a:rPr>
              <a:t>The c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03480" y="3276720"/>
            <a:ext cx="549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6680" y="266688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 Gothic"/>
              </a:rPr>
              <a:t>What kind of person Chuck i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523880" y="2514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304920" y="2286000"/>
          <a:ext cx="8839080" cy="4154400"/>
        </p:xfrm>
        <a:graphic>
          <a:graphicData uri="http://schemas.openxmlformats.org/drawingml/2006/table">
            <a:tbl>
              <a:tblPr/>
              <a:tblGrid>
                <a:gridCol w="2860560"/>
                <a:gridCol w="2776680"/>
                <a:gridCol w="320184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ien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vantag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advantag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uman being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ima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ing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-1219320" y="9907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228600"/>
            <a:ext cx="6705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iscus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457200" y="6858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How do you understand the following sentences in the passage</a:t>
            </a:r>
            <a:r>
              <a:rPr b="0" lang="en-US" sz="3600" spc="-1" strike="noStrike">
                <a:solidFill>
                  <a:srgbClr val="000044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22096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1).Friendship is about feelings and we must give as much as we tak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9480" y="37339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2).Friends are teach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4724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A life without a friend is a life without the su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>
            <a:hlinkClick r:id="rId1" action="ppaction://hlinksldjump"/>
          </p:cNvPr>
          <p:cNvSpPr/>
          <p:nvPr/>
        </p:nvSpPr>
        <p:spPr>
          <a:xfrm>
            <a:off x="0" y="6248520"/>
            <a:ext cx="590400" cy="407880"/>
          </a:xfrm>
          <a:custGeom>
            <a:avLst/>
            <a:gdLst>
              <a:gd name="textAreaLeft" fmla="*/ 243360 w 590400"/>
              <a:gd name="textAreaRight" fmla="*/ 347040 w 590400"/>
              <a:gd name="textAreaTop" fmla="*/ 168120 h 407880"/>
              <a:gd name="textAreaBottom" fmla="*/ 239760 h 40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 flipH="1" flipV="1">
            <a:off x="-900720" y="476280"/>
            <a:ext cx="21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38080" y="836640"/>
            <a:ext cx="747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ff00"/>
                </a:solidFill>
                <a:uFillTx/>
                <a:latin typeface="Comic Sans MS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1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  <a:ea typeface="隶书"/>
              </a:rPr>
              <a:t>教材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2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1" action="ppaction://hlinksldjump"/>
              </a:rPr>
              <a:t>教学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3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2" action="ppaction://hlinksldjump"/>
              </a:rPr>
              <a:t>教学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4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3" action="ppaction://hlinksldjump"/>
              </a:rPr>
              <a:t>教学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5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4" action="ppaction://hlinksldjump"/>
              </a:rPr>
              <a:t>教学评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08200" y="5013360"/>
            <a:ext cx="33829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zh-CN" sz="48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5" action="ppaction://hlinksldjump"/>
              </a:rPr>
              <a:t>我的思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311120" y="457200"/>
            <a:ext cx="29782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5 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教学评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1447920"/>
            <a:ext cx="327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种类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途径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内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形式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47840" y="1490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463840" y="1523880"/>
            <a:ext cx="54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过程性评价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终结性评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68360" y="2590920"/>
            <a:ext cx="68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学生自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师生互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生生互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19280" y="31240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反思过程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19640" y="312408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合作过程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79840" y="3809880"/>
            <a:ext cx="621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认知—知识     技能—能力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情感—态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95640" y="5181480"/>
            <a:ext cx="69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口头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书面（建立个人学习档案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0960" y="5711760"/>
            <a:ext cx="753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elf-assessment      peer- assess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1" name=""/>
          <p:cNvGraphicFramePr/>
          <p:nvPr/>
        </p:nvGraphicFramePr>
        <p:xfrm>
          <a:off x="0" y="0"/>
          <a:ext cx="9144000" cy="69976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685800"/>
                <a:gridCol w="1981080"/>
                <a:gridCol w="182520"/>
                <a:gridCol w="17226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r l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re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the unit, you learnt about friends and friendship, how are you getting on with each of the following skills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b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we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need more practice  value 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ba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lls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(using the number of the star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8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ing comprehens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about likes and dislik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an apolog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new words &amp;express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ing of the tex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 an e-m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2" name=""/>
          <p:cNvSpPr/>
          <p:nvPr/>
        </p:nvSpPr>
        <p:spPr>
          <a:xfrm>
            <a:off x="0" y="1981080"/>
            <a:ext cx="336600" cy="21600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04920" y="1905120"/>
            <a:ext cx="314280" cy="29196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05120"/>
            <a:ext cx="333360" cy="23472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398680" y="1990800"/>
            <a:ext cx="279360" cy="29196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43200" y="1981080"/>
            <a:ext cx="325440" cy="30492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84680" y="1994040"/>
            <a:ext cx="335160" cy="31104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18320" y="1963800"/>
            <a:ext cx="216000" cy="272880"/>
          </a:xfrm>
          <a:prstGeom prst="donut">
            <a:avLst>
              <a:gd name="adj" fmla="val 25000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286000" y="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flection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457200" y="685800"/>
          <a:ext cx="8001000" cy="6095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What have you learn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What is the most important thing you learnt ..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do you find the most difficul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Where do you see the most improvemen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What do you think you did bes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Where do you need to work harder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676520" y="22860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Peer Assess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52280" y="1066680"/>
          <a:ext cx="8991720" cy="5105520"/>
        </p:xfrm>
        <a:graphic>
          <a:graphicData uri="http://schemas.openxmlformats.org/drawingml/2006/table">
            <a:tbl>
              <a:tblPr/>
              <a:tblGrid>
                <a:gridCol w="3276720"/>
                <a:gridCol w="1066680"/>
                <a:gridCol w="1067040"/>
                <a:gridCol w="914400"/>
                <a:gridCol w="914400"/>
                <a:gridCol w="838080"/>
                <a:gridCol w="91440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隶书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姓       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小组发言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全班发言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提出问题个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解答问题个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查找资料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与人合作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2084040" y="374760"/>
            <a:ext cx="56030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备课后思索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1.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新教材对教师备课的深广度的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2.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新教材对师生都提出了合作的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3.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教师需不断提高自身的知识水平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    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知识结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4.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对新教材中新教学理念理会的深刻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93640" y="457200"/>
            <a:ext cx="369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隶书"/>
              </a:rPr>
              <a:t>上课后的思索</a:t>
            </a:r>
            <a:r>
              <a:rPr b="0" lang="zh-CN" sz="4400" spc="-1" strike="noStrike">
                <a:solidFill>
                  <a:srgbClr val="2c2ca0"/>
                </a:solidFill>
                <a:latin typeface="Arial"/>
                <a:ea typeface="隶书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1360" y="1447920"/>
            <a:ext cx="7940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42e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不断调整自己的思维模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2. </a:t>
            </a: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灵活整合教学内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3.</a:t>
            </a: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讲究课堂教学的实效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228600" y="24382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  <a:ea typeface="隶书"/>
              </a:rPr>
              <a:t>Thank you for your atten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50920" y="1125360"/>
            <a:ext cx="108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55640" y="476280"/>
            <a:ext cx="863640" cy="5619600"/>
          </a:xfrm>
          <a:custGeom>
            <a:avLst/>
            <a:gdLst>
              <a:gd name="textAreaLeft" fmla="*/ 551880 w 863640"/>
              <a:gd name="textAreaRight" fmla="*/ 864000 w 863640"/>
              <a:gd name="textAreaTop" fmla="*/ 146520 h 5619600"/>
              <a:gd name="textAreaBottom" fmla="*/ 5473080 h 561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08000" y="0"/>
            <a:ext cx="373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背景知识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35280" y="649440"/>
            <a:ext cx="40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教学内容的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35280" y="1411200"/>
            <a:ext cx="31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教学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763640" y="2173320"/>
            <a:ext cx="6026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语言知识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98d43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2" action="ppaction://hlinksldjump"/>
              </a:rPr>
              <a:t>Topic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Key words &amp;expres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Writ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Grammar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综合知识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德育思想渗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40360" y="4572000"/>
            <a:ext cx="503280" cy="19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72360" y="4221000"/>
            <a:ext cx="2965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对朋友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认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对生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意义的理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21360" y="747720"/>
            <a:ext cx="1731960" cy="856080"/>
          </a:xfrm>
          <a:prstGeom prst="rect">
            <a:avLst/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1" action="ppaction://hlinksldjump"/>
              </a:rPr>
              <a:t>Topic</a:t>
            </a:r>
            <a:r>
              <a:rPr b="0" lang="en-US" sz="4400" spc="-1" strike="noStrike" u="sng">
                <a:solidFill>
                  <a:srgbClr val="cc3300"/>
                </a:solidFill>
                <a:uFillTx/>
                <a:latin typeface="Century Gothic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0920" y="1752480"/>
            <a:ext cx="9537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How to solve problems occurr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   </a:t>
            </a: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in the friendship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The attitude towards frie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Learn how to make fri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4284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89600" y="1397160"/>
            <a:ext cx="515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9999ff"/>
                </a:solidFill>
                <a:uFillTx/>
                <a:latin typeface="Century Gothic"/>
                <a:ea typeface="隶书"/>
                <a:hlinkClick r:id="rId1" action="ppaction://hlinksldjump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目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16000" y="1052640"/>
            <a:ext cx="647640" cy="43210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56840" y="576360"/>
            <a:ext cx="851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知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技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情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348000" y="260280"/>
            <a:ext cx="57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词汇的掌握和灵活运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语法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/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直接和间接引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1557360"/>
            <a:ext cx="374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习得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认知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交际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调控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03640" y="1989000"/>
            <a:ext cx="647640" cy="2019600"/>
          </a:xfrm>
          <a:custGeom>
            <a:avLst/>
            <a:gdLst>
              <a:gd name="textAreaLeft" fmla="*/ 414000 w 647640"/>
              <a:gd name="textAreaRight" fmla="*/ 648000 w 647640"/>
              <a:gd name="textAreaTop" fmla="*/ 52560 h 2019600"/>
              <a:gd name="textAreaBottom" fmla="*/ 1967040 h 201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08360" y="429264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端正学习态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培养合作精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59280" y="4437000"/>
            <a:ext cx="649080" cy="2019240"/>
          </a:xfrm>
          <a:custGeom>
            <a:avLst/>
            <a:gdLst>
              <a:gd name="textAreaLeft" fmla="*/ 414720 w 649080"/>
              <a:gd name="textAreaRight" fmla="*/ 649440 w 649080"/>
              <a:gd name="textAreaTop" fmla="*/ 52560 h 2019240"/>
              <a:gd name="textAreaBottom" fmla="*/ 1966680 h 20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45240" y="1036800"/>
            <a:ext cx="5158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2" action="ppaction://hlinksldjump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3" action="ppaction://hlinksldjump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4" action="ppaction://hlinksldjump"/>
              </a:rPr>
              <a:t>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5" action="ppaction://hlinksldjump"/>
              </a:rPr>
              <a:t>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6" action="ppaction://hlinksldjump"/>
              </a:rPr>
              <a:t>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16000" y="1052640"/>
            <a:ext cx="431640" cy="43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338040 h 4321080"/>
              <a:gd name="textAreaBottom" fmla="*/ 398304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27200" y="647640"/>
            <a:ext cx="25275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任务型教学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突出交际型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以人为本的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21520" y="554508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突出灵活性、流畅性、完整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450280" y="447840"/>
            <a:ext cx="531720" cy="85680"/>
          </a:xfrm>
          <a:custGeom>
            <a:avLst/>
            <a:gdLst>
              <a:gd name="textAreaLeft" fmla="*/ 218880 w 531720"/>
              <a:gd name="textAreaRight" fmla="*/ 312840 w 531720"/>
              <a:gd name="textAreaTop" fmla="*/ 35280 h 85680"/>
              <a:gd name="textAreaBottom" fmla="*/ 50400 h 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384200" y="0"/>
            <a:ext cx="33451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 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1" action="ppaction://hlinksldjump"/>
              </a:rPr>
              <a:t>4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2" action="ppaction://hlinksldjump"/>
              </a:rPr>
              <a:t>教学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9120" y="1052640"/>
            <a:ext cx="846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设计的理念： 创设情景  营造气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面向学生   寓教于乐   创新思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7880" y="3529080"/>
            <a:ext cx="143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课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安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6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71480" y="2637000"/>
            <a:ext cx="67168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Ⅰ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Warming-up &amp;liste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Ⅱ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Speak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Ⅲ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&amp;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Ⅳ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Read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Ⅴ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Language study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Ⅵ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Integrat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-914400" y="-464976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143000" y="5335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i="1" lang="en-US" sz="4400" spc="-1" strike="noStrike">
                <a:solidFill>
                  <a:srgbClr val="0000ff"/>
                </a:solidFill>
                <a:latin typeface="Century Gothic"/>
              </a:rPr>
              <a:t>The First Peri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04920" y="243828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任务 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目标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 语言技能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 活动形式 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活动程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523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Century Gothic"/>
              </a:rPr>
              <a:t>Warming up &amp;Liste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3657600" y="4227480"/>
            <a:ext cx="42670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905120" y="2514600"/>
            <a:ext cx="3809880" cy="18288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38280" y="3048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2e78"/>
                </a:solidFill>
                <a:latin typeface="Times New Roman"/>
              </a:rPr>
              <a:t>A good fri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57400" y="1981080"/>
            <a:ext cx="609480" cy="83844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3581280" y="1600200"/>
            <a:ext cx="76320" cy="106668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648320" y="1828800"/>
            <a:ext cx="457200" cy="83808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409720" y="2514600"/>
            <a:ext cx="685800" cy="7621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10080" y="3733920"/>
            <a:ext cx="990720" cy="4572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52880" y="4114800"/>
            <a:ext cx="381240" cy="9144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3733560" y="4038480"/>
            <a:ext cx="228600" cy="11430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361960" y="4114800"/>
            <a:ext cx="685800" cy="7621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371600" y="3809880"/>
            <a:ext cx="914400" cy="4572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43000" y="2819520"/>
            <a:ext cx="914400" cy="6858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510552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I think a friend should be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good friend is someone who…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7621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99"/>
                </a:solidFill>
                <a:latin typeface="Lucida Console"/>
              </a:rPr>
              <a:t>Brainstor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7:32:08Z</dcterms:created>
  <dc:creator>Urse</dc:creator>
  <dc:description/>
  <dc:language>en-US</dc:language>
  <cp:lastModifiedBy>Administrator</cp:lastModifiedBy>
  <dcterms:modified xsi:type="dcterms:W3CDTF">2004-04-11T02:44:49Z</dcterms:modified>
  <cp:revision>115</cp:revision>
  <dc:subject/>
  <dc:title>PowerPoint 演示文稿</dc:title>
</cp:coreProperties>
</file>