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E86E-9C06-4E3C-BDC8-D0A20EE32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8AE0-CB38-4A17-844A-E5FB456A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6EE6-F07D-400E-A68B-6DBCB33C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3213-14BE-4A0D-B7A9-87A90314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9813-92DF-4DBE-8006-9598475B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5FD-5083-4C29-A0C9-98F075C0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3F99-F8A9-4B3C-9A64-2AEBDEE3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E61-BB4F-400C-8984-D8E30CE3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799D-BA3D-4526-8410-4AF89301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E101-A27A-450D-9AE3-D31BAA7D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671A-8D75-4721-A4A2-3228F3EC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232F-215F-4670-BC39-12FB3AC3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09680" y="7621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3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1567-6D95-4B31-85D2-86A3AB98E2C2}" type="slidenum">
              <a:rPr b="0" lang="zh-CN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cover" descr=""/>
          <p:cNvPicPr/>
          <p:nvPr/>
        </p:nvPicPr>
        <p:blipFill>
          <a:blip r:embed="rId1"/>
          <a:srcRect l="14980" t="34146" r="13753" b="5552"/>
          <a:stretch/>
        </p:blipFill>
        <p:spPr>
          <a:xfrm>
            <a:off x="2925720" y="2743200"/>
            <a:ext cx="3094200" cy="3657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95280" y="2254320"/>
            <a:ext cx="6096240" cy="2104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Mainly Revision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806400"/>
            <a:ext cx="8686800" cy="131292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b97c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bd189"/>
                </a:solidFill>
                <a:latin typeface="Lucida Sans"/>
              </a:rPr>
              <a:t>Book IB  Unit 23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What’s your telephone number in New York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X: Let me see. It’s 243-0876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All right. Don’t worry. I think I can help you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X: Look! There’s a brown box over there. It looks very much like yours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L: Oh, it is mine. Thank goodness! Who put it there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304920"/>
            <a:ext cx="853416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What colour is your box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L: It’s brown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How big is it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L: It’s about this big. It’s full of    books and it’s very heavy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Is it new or old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L: It’s new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56560" y="1219320"/>
            <a:ext cx="25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Times New Roman"/>
                <a:ea typeface="Arial Unicode MS"/>
              </a:rPr>
              <a:t>It’s brown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30481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Times New Roman"/>
                <a:ea typeface="Arial Unicode MS"/>
              </a:rPr>
              <a:t>It’s about this big. It’s full of    books and it’s very heavy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51880" y="5486400"/>
            <a:ext cx="204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Times New Roman"/>
                <a:ea typeface="Arial Unicode MS"/>
              </a:rPr>
              <a:t>It’s new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hat colour is your box?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352680"/>
            <a:ext cx="715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How big is it?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4800600"/>
            <a:ext cx="669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Is it new or old?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1522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he questions that the woman asks Wang Ling: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41960" y="1681200"/>
            <a:ext cx="767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99"/>
                </a:solidFill>
                <a:latin typeface="Comic Sans MS"/>
              </a:rPr>
              <a:t>ticket</a:t>
            </a:r>
            <a:r>
              <a:rPr b="1" lang="zh-CN" sz="6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6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  </a:t>
            </a:r>
            <a:r>
              <a:rPr b="1" i="1" lang="zh-CN" sz="6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n</a:t>
            </a:r>
            <a:r>
              <a:rPr b="1" lang="zh-CN" sz="6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6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票；券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76320"/>
            <a:ext cx="7086600" cy="76176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Lucida Sans"/>
              </a:rPr>
              <a:t>New word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520" y="3129120"/>
            <a:ext cx="725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99"/>
                </a:solidFill>
                <a:latin typeface="Comic Sans MS"/>
              </a:rPr>
              <a:t>New York</a:t>
            </a:r>
            <a:r>
              <a:rPr b="1" lang="zh-CN" sz="6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</a:t>
            </a:r>
            <a:r>
              <a:rPr b="1" i="1" lang="zh-CN" sz="6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n</a:t>
            </a:r>
            <a:r>
              <a:rPr b="1" lang="zh-CN" sz="6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6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纽约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9907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Lucida Sans"/>
              </a:rPr>
              <a:t>1. </a:t>
            </a:r>
            <a:r>
              <a:rPr b="1" lang="en-US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I can’t find my box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7391520" cy="7621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Lucida Sans"/>
              </a:rPr>
              <a:t>Useful expression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28195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2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May I have a look at  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	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your ticket?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45720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3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Here it is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0880" y="12952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4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We’re going to New  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	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York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7391520" cy="7621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Lucida Sans"/>
              </a:rPr>
              <a:t>Useful expression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35053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5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How big is it?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5720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6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It’s about this big.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3520" y="1371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7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It’s full of books.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7391520" cy="7621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Lucida Sans"/>
              </a:rPr>
              <a:t>Useful expression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2004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8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Don’t worry.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648320"/>
            <a:ext cx="86868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9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I think I can help you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391520" cy="7621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Lucida Sans"/>
              </a:rPr>
              <a:t>Useful expression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28195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11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It looks very much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	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	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 like yours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5720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12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Thank goodness!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0666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10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Let me see.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2280" y="106200"/>
            <a:ext cx="5486400" cy="8251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Lucida Sans"/>
              </a:rPr>
              <a:t>Describe object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5486400"/>
            <a:ext cx="3352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Lucida Sans"/>
              </a:rPr>
              <a:t>a s</a:t>
            </a:r>
            <a:r>
              <a:rPr b="1" lang="en-US" sz="60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ofa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280" y="106200"/>
            <a:ext cx="5486400" cy="8251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Lucida Sans"/>
              </a:rPr>
              <a:t>Describe object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2743200"/>
            <a:ext cx="3733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Lucida Sans"/>
              </a:rPr>
              <a:t>sneakers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6320" y="76320"/>
            <a:ext cx="8686800" cy="581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Lucida Sans"/>
              </a:rPr>
              <a:t>Watch the video and complete this for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990720"/>
          <a:ext cx="8534160" cy="548640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cc66"/>
                          </a:solidFill>
                          <a:latin typeface="Arial Narrow"/>
                        </a:rPr>
                        <a:t>Vicky’s breakfast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cc66"/>
                          </a:solidFill>
                          <a:latin typeface="Arial Narrow"/>
                        </a:rPr>
                        <a:t>her favourite sports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</a:tr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cc66"/>
                          </a:solidFill>
                          <a:latin typeface="Arial Narrow"/>
                        </a:rPr>
                        <a:t>Jimmy’s breakfast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66"/>
                          </a:solidFill>
                          <a:latin typeface="Arial Narrow"/>
                        </a:rPr>
                        <a:t>the thing he likes to do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2280" y="106200"/>
            <a:ext cx="5486400" cy="8251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Lucida Sans"/>
              </a:rPr>
              <a:t>Describe object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2895480"/>
            <a:ext cx="3352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Lucida Sans"/>
              </a:rPr>
              <a:t>a clock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200400" y="949320"/>
            <a:ext cx="54864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This girl has long hair. Her hair is black. Her eyes are big and black. Her mouth is small. She is tall. She is wearing a red dress. She likes dancing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0"/>
            <a:ext cx="449568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Describe peop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200400" y="660240"/>
            <a:ext cx="5715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This is a woman. She is old. I think she is about seventy. She has grey hair. She is walking with a stick. She is wearing a light brown coat and a black skirt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449568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Describe peop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267080" y="228600"/>
            <a:ext cx="487692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Describe peop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905120"/>
            <a:ext cx="8915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39006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Courier New"/>
                <a:ea typeface="Arial Unicode MS"/>
              </a:rPr>
              <a:t>	</a:t>
            </a:r>
            <a:r>
              <a:rPr b="1" lang="en-US" sz="48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The boy has </a:t>
            </a:r>
            <a:r>
              <a:rPr b="1" lang="en-US" sz="48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	</a:t>
            </a:r>
            <a:r>
              <a:rPr b="1" lang="en-US" sz="48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yellow hair and </a:t>
            </a:r>
            <a:r>
              <a:rPr b="1" lang="en-US" sz="48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	</a:t>
            </a:r>
            <a:r>
              <a:rPr b="1" lang="en-US" sz="48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blue eyes. His eyes are big. And his ears are big, too. He is wearing a white and red T-shir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34316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 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The man is very 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 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 tall and thin. He has    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             black short hair. He 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 has big mouth, big nose, big eyes and big ears. He is wearing a blue coat and brown trousers. He likes sports very much.</a:t>
            </a:r>
            <a:endParaRPr b="0" lang="en-US" sz="4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0"/>
            <a:ext cx="449568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Describe peop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80880" y="2057400"/>
            <a:ext cx="8534520" cy="2120760"/>
            <a:chOff x="380880" y="2057400"/>
            <a:chExt cx="8534520" cy="2120760"/>
          </a:xfrm>
        </p:grpSpPr>
        <p:grpSp>
          <p:nvGrpSpPr>
            <p:cNvPr id="163" name=""/>
            <p:cNvGrpSpPr/>
            <p:nvPr/>
          </p:nvGrpSpPr>
          <p:grpSpPr>
            <a:xfrm>
              <a:off x="380880" y="2057400"/>
              <a:ext cx="8534520" cy="2120760"/>
              <a:chOff x="380880" y="2057400"/>
              <a:chExt cx="8534520" cy="2120760"/>
            </a:xfrm>
          </p:grpSpPr>
          <p:sp>
            <p:nvSpPr>
              <p:cNvPr id="164" name=""/>
              <p:cNvSpPr/>
              <p:nvPr/>
            </p:nvSpPr>
            <p:spPr>
              <a:xfrm>
                <a:off x="380880" y="2057400"/>
                <a:ext cx="853452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结构：  </a:t>
                </a:r>
                <a:r>
                  <a:rPr b="1" lang="zh-CN" sz="7200" spc="-1" strike="noStrike">
                    <a:solidFill>
                      <a:srgbClr val="ffffff"/>
                    </a:solidFill>
                    <a:latin typeface="Comic Sans MS"/>
                    <a:ea typeface="楷体_GB2312"/>
                  </a:rPr>
                  <a:t>be+v.ing</a:t>
                </a:r>
                <a:endParaRPr b="0" lang="en-US" sz="7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057400" y="3353040"/>
                <a:ext cx="12193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eaeaea"/>
                    </a:solidFill>
                    <a:latin typeface="Comic Sans MS"/>
                  </a:rPr>
                  <a:t>am</a:t>
                </a:r>
                <a:endParaRPr b="0" lang="en-US" sz="4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29000" y="3353040"/>
                <a:ext cx="12193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eaeaea"/>
                    </a:solidFill>
                    <a:latin typeface="Comic Sans MS"/>
                  </a:rPr>
                  <a:t>is</a:t>
                </a:r>
                <a:endParaRPr b="0" lang="en-US" sz="4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43400" y="3353040"/>
                <a:ext cx="12193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eaeaea"/>
                    </a:solidFill>
                    <a:latin typeface="Comic Sans MS"/>
                  </a:rPr>
                  <a:t>are</a:t>
                </a:r>
                <a:endParaRPr b="0" lang="en-US" sz="4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 flipH="1">
              <a:off x="2514600" y="3048120"/>
              <a:ext cx="838080" cy="45720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3048120"/>
              <a:ext cx="0" cy="38088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3886200" y="3048120"/>
              <a:ext cx="990720" cy="45720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0" y="30492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he Present Continuous Tense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2057400"/>
            <a:ext cx="151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ff"/>
                </a:solidFill>
                <a:latin typeface="Comic Sans MS"/>
                <a:ea typeface="楷体_GB2312"/>
              </a:rPr>
              <a:t>b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10240" y="2057400"/>
            <a:ext cx="20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99ff"/>
                </a:solidFill>
                <a:latin typeface="Comic Sans MS"/>
                <a:ea typeface="楷体_GB2312"/>
              </a:rPr>
              <a:t>ing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30492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例句：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144792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1. I am having a meeting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5909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I am not having a meeting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3760" y="259092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not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88620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2. Jim is eating an apple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95288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Is Jim eating an apple?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5840" y="495288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Is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30492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例句：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29528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3. Are you listening to the radio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297180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No, I’m no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400860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4. What are you doing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4815000"/>
            <a:ext cx="929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We are having an English clas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213372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Yes, I am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522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dd –ing to the following word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2200" y="1117440"/>
            <a:ext cx="19332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boat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listen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watch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save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have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come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2680" y="1085760"/>
            <a:ext cx="1933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eat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drink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go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throw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look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jump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21720" y="1101600"/>
            <a:ext cx="1704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take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give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swim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run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put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sit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03560" y="106668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Times New Roman"/>
              </a:rPr>
              <a:t>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9200" y="190512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Times New Roman"/>
              </a:rPr>
              <a:t>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8480" y="274320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Times New Roman"/>
              </a:rPr>
              <a:t>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35160" y="358128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Times New Roman"/>
              </a:rPr>
              <a:t>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7960" y="434340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Times New Roman"/>
              </a:rPr>
              <a:t>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06560" y="518148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Times New Roman"/>
              </a:rPr>
              <a:t>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7480" y="106668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Times New Roman"/>
              </a:rPr>
              <a:t>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26080" y="190512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Times New Roman"/>
              </a:rPr>
              <a:t>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4680" y="274320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Times New Roman"/>
              </a:rPr>
              <a:t>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268520" y="4419720"/>
            <a:ext cx="1400040" cy="916920"/>
            <a:chOff x="4268520" y="4419720"/>
            <a:chExt cx="1400040" cy="916920"/>
          </a:xfrm>
        </p:grpSpPr>
        <p:sp>
          <p:nvSpPr>
            <p:cNvPr id="201" name=""/>
            <p:cNvSpPr/>
            <p:nvPr/>
          </p:nvSpPr>
          <p:spPr>
            <a:xfrm>
              <a:off x="4268520" y="4419720"/>
              <a:ext cx="140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ebd189"/>
                  </a:solidFill>
                  <a:latin typeface="Times New Roman"/>
                </a:rPr>
                <a:t>e</a:t>
              </a:r>
              <a:r>
                <a:rPr b="1" lang="zh-CN" sz="5400" spc="-1" strike="noStrike">
                  <a:solidFill>
                    <a:srgbClr val="00ff00"/>
                  </a:solidFill>
                  <a:latin typeface="Times New Roman"/>
                </a:rPr>
                <a:t>ing</a:t>
              </a:r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75080" y="4724640"/>
              <a:ext cx="304560" cy="5335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7545240" y="2743200"/>
            <a:ext cx="166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Times New Roman"/>
              </a:rPr>
              <a:t>m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07160" y="5181480"/>
            <a:ext cx="132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cc"/>
                </a:solidFill>
                <a:latin typeface="Times New Roman"/>
              </a:rPr>
              <a:t>t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12080" y="4343400"/>
            <a:ext cx="132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cc"/>
                </a:solidFill>
                <a:latin typeface="Times New Roman"/>
              </a:rPr>
              <a:t>t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88400" y="3581280"/>
            <a:ext cx="14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Times New Roman"/>
              </a:rPr>
              <a:t>n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192560" y="3581280"/>
            <a:ext cx="1400040" cy="916920"/>
            <a:chOff x="4192560" y="3581280"/>
            <a:chExt cx="1400040" cy="916920"/>
          </a:xfrm>
        </p:grpSpPr>
        <p:sp>
          <p:nvSpPr>
            <p:cNvPr id="208" name=""/>
            <p:cNvSpPr/>
            <p:nvPr/>
          </p:nvSpPr>
          <p:spPr>
            <a:xfrm>
              <a:off x="4192560" y="3581280"/>
              <a:ext cx="140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ebd189"/>
                  </a:solidFill>
                  <a:latin typeface="Times New Roman"/>
                </a:rPr>
                <a:t>e</a:t>
              </a:r>
              <a:r>
                <a:rPr b="1" lang="zh-CN" sz="5400" spc="-1" strike="noStrike">
                  <a:solidFill>
                    <a:srgbClr val="00ff00"/>
                  </a:solidFill>
                  <a:latin typeface="Times New Roman"/>
                </a:rPr>
                <a:t>ing</a:t>
              </a:r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99120" y="3886200"/>
              <a:ext cx="304560" cy="5335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421160" y="5181480"/>
            <a:ext cx="1400040" cy="916920"/>
            <a:chOff x="4421160" y="5181480"/>
            <a:chExt cx="1400040" cy="916920"/>
          </a:xfrm>
        </p:grpSpPr>
        <p:sp>
          <p:nvSpPr>
            <p:cNvPr id="211" name=""/>
            <p:cNvSpPr/>
            <p:nvPr/>
          </p:nvSpPr>
          <p:spPr>
            <a:xfrm>
              <a:off x="4421160" y="5181480"/>
              <a:ext cx="140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ebd189"/>
                  </a:solidFill>
                  <a:latin typeface="Times New Roman"/>
                </a:rPr>
                <a:t>e</a:t>
              </a:r>
              <a:r>
                <a:rPr b="1" lang="zh-CN" sz="5400" spc="-1" strike="noStrike">
                  <a:solidFill>
                    <a:srgbClr val="00ff00"/>
                  </a:solidFill>
                  <a:latin typeface="Times New Roman"/>
                </a:rPr>
                <a:t>ing</a:t>
              </a:r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27720" y="5486400"/>
              <a:ext cx="304560" cy="5335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980040" y="1066680"/>
            <a:ext cx="1400040" cy="916920"/>
            <a:chOff x="6980040" y="1066680"/>
            <a:chExt cx="1400040" cy="916920"/>
          </a:xfrm>
        </p:grpSpPr>
        <p:sp>
          <p:nvSpPr>
            <p:cNvPr id="214" name=""/>
            <p:cNvSpPr/>
            <p:nvPr/>
          </p:nvSpPr>
          <p:spPr>
            <a:xfrm>
              <a:off x="6980040" y="1066680"/>
              <a:ext cx="140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ebd189"/>
                  </a:solidFill>
                  <a:latin typeface="Times New Roman"/>
                </a:rPr>
                <a:t>e</a:t>
              </a:r>
              <a:r>
                <a:rPr b="1" lang="zh-CN" sz="5400" spc="-1" strike="noStrike">
                  <a:solidFill>
                    <a:srgbClr val="00ff00"/>
                  </a:solidFill>
                  <a:latin typeface="Times New Roman"/>
                </a:rPr>
                <a:t>ing</a:t>
              </a:r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86600" y="1371600"/>
              <a:ext cx="304560" cy="5335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903720" y="1905120"/>
            <a:ext cx="1400040" cy="916920"/>
            <a:chOff x="6903720" y="1905120"/>
            <a:chExt cx="1400040" cy="916920"/>
          </a:xfrm>
        </p:grpSpPr>
        <p:sp>
          <p:nvSpPr>
            <p:cNvPr id="217" name=""/>
            <p:cNvSpPr/>
            <p:nvPr/>
          </p:nvSpPr>
          <p:spPr>
            <a:xfrm>
              <a:off x="6903720" y="1905120"/>
              <a:ext cx="140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ebd189"/>
                  </a:solidFill>
                  <a:latin typeface="Times New Roman"/>
                </a:rPr>
                <a:t>e</a:t>
              </a:r>
              <a:r>
                <a:rPr b="1" lang="zh-CN" sz="5400" spc="-1" strike="noStrike">
                  <a:solidFill>
                    <a:srgbClr val="00ff00"/>
                  </a:solidFill>
                  <a:latin typeface="Times New Roman"/>
                </a:rPr>
                <a:t>ing</a:t>
              </a:r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10280" y="2210040"/>
              <a:ext cx="304560" cy="5335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6320" y="90360"/>
            <a:ext cx="548640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Look and sa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518148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go to the park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106200"/>
            <a:ext cx="8686800" cy="581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Lucida Sans"/>
              </a:rPr>
              <a:t>Watch the video and complete this for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4920" y="990720"/>
          <a:ext cx="8534160" cy="556236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cc66"/>
                          </a:solidFill>
                          <a:latin typeface="Arial Narrow"/>
                        </a:rPr>
                        <a:t>Vicky’s breakfast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cc66"/>
                          </a:solidFill>
                          <a:latin typeface="Arial Narrow"/>
                        </a:rPr>
                        <a:t>her favourite sports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</a:tr>
              <a:tr h="41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457200" y="2286000"/>
            <a:ext cx="4572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a cup of tea,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a piece of bread,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a banana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2590920"/>
            <a:ext cx="4572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swimming,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basketball,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volleyball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6320" y="90360"/>
            <a:ext cx="548640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Look and sa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49528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boat in the middle of the lak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76320" y="90360"/>
            <a:ext cx="548640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Look and sa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518148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eat bread, hungry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320" y="90360"/>
            <a:ext cx="548640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Look and sa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466416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atch the fish, throw bread to the fish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6320" y="90360"/>
            <a:ext cx="548640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Look and sa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5181480"/>
            <a:ext cx="601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oh dear, in the water, can’t swim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6320" y="90360"/>
            <a:ext cx="548640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Look and sa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71600" y="502920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jump into the water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76320" y="90360"/>
            <a:ext cx="548640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Look and sa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510552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swim to her daughter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6320" y="90360"/>
            <a:ext cx="548640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Look and sa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510552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look at them, worried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76320" y="90360"/>
            <a:ext cx="548640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Look and sa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3880" y="518148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save her daughter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8381880" y="6172200"/>
            <a:ext cx="533520" cy="380880"/>
          </a:xfrm>
          <a:custGeom>
            <a:avLst/>
            <a:gdLst>
              <a:gd name="textAreaLeft" fmla="*/ 31680 w 533520"/>
              <a:gd name="textAreaRight" fmla="*/ 501840 w 533520"/>
              <a:gd name="textAreaTop" fmla="*/ 31680 h 380880"/>
              <a:gd name="textAreaBottom" fmla="*/ 3492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448" y="1800"/>
                </a:lnTo>
                <a:lnTo>
                  <a:pt x="1800" y="18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448" y="19800"/>
                </a:lnTo>
                <a:lnTo>
                  <a:pt x="28448" y="18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800" y="19800"/>
                </a:lnTo>
                <a:lnTo>
                  <a:pt x="28448" y="198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800" y="1800"/>
                </a:lnTo>
                <a:lnTo>
                  <a:pt x="1800" y="19800"/>
                </a:lnTo>
                <a:close/>
              </a:path>
              <a:path fill="darken" w="30248" h="21600">
                <a:moveTo>
                  <a:pt x="8416" y="10800"/>
                </a:moveTo>
                <a:lnTo>
                  <a:pt x="21832" y="4092"/>
                </a:lnTo>
                <a:lnTo>
                  <a:pt x="21832" y="17508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76320" y="44280"/>
            <a:ext cx="8076960" cy="11912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Lucida Sans"/>
              </a:rPr>
              <a:t>Watch the video and answer the question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1676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</a:rPr>
              <a:t>What time can Li Fen learn English from Mr Green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342900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Times New Roman"/>
              </a:rPr>
              <a:t>At half past seven on Friday evening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76320" y="44280"/>
            <a:ext cx="9067680" cy="6426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Lucida Sans"/>
              </a:rPr>
              <a:t>Listen and complete the conversation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320" y="762120"/>
            <a:ext cx="906768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Li Fen: ____I come on Monday evening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Jeff:      I’m sorry. I have a _______on  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     Monday evening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Li Fen: How _______ Wednesday 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     afternoon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Jeff:      Er, I have something to do, too. 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_______ you come on Thursday 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afternoon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2280" y="106200"/>
            <a:ext cx="8686800" cy="581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Lucida Sans"/>
              </a:rPr>
              <a:t>Watch the video and complete this for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914400"/>
          <a:ext cx="8534160" cy="5695920"/>
        </p:xfrm>
        <a:graphic>
          <a:graphicData uri="http://schemas.openxmlformats.org/drawingml/2006/table">
            <a:tbl>
              <a:tblPr/>
              <a:tblGrid>
                <a:gridCol w="6019560"/>
                <a:gridCol w="25146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cc66"/>
                          </a:solidFill>
                          <a:latin typeface="Arial Narrow"/>
                        </a:rPr>
                        <a:t>Jimmy’s breakfast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66"/>
                          </a:solidFill>
                          <a:latin typeface="Arial Narrow"/>
                        </a:rPr>
                        <a:t>the thing he likes to do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</a:tr>
              <a:tr h="45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533520" y="2209680"/>
            <a:ext cx="5486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 Narrow"/>
              </a:rPr>
              <a:t>some meat, three or four eggs, some pieces of bread, two glasses of milk, some apple juice, a cup of coffee, some frui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326088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He likes music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80880" y="517680"/>
            <a:ext cx="86868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Li Fen: Sorry. We have a meeting that 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    afternoon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Jeff:      What ______ Friday evening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Li Fen: What time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Jeff:      How about half past seven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Li Fen: That’s ______. May I ______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some of your books, Mr Green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09480" y="746280"/>
            <a:ext cx="8001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Jeff:      Certainly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Li Fen: May I borrow these two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Jeff:      Yes. Please ______ them 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______ next Friday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Li Fen: Certainly. Thanks a lot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76320" y="44280"/>
            <a:ext cx="9067680" cy="6426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Lucida Sans"/>
              </a:rPr>
              <a:t>Listen and complete the conversation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320" y="762120"/>
            <a:ext cx="906768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Li Fen: ____I come on Monday evening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Jeff:      I’m sorry. I have a _______on  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     Monday evening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Li Fen: How _______ Wednesday 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     afternoon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Jeff:      Er, I have something to do, too. 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_______ you come on Thursday 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afternoon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801800" y="74628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Ma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22440" y="1600200"/>
            <a:ext cx="190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meeting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47120" y="3184560"/>
            <a:ext cx="142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abou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59560" y="5318280"/>
            <a:ext cx="150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Could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0880" y="517680"/>
            <a:ext cx="86868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Li Fen: Sorry. We have a meeting that 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    afternoon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Jeff:      What ______ Friday evening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Li Fen: What time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Jeff:      How about half past seven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Li Fen: That’s ______. May I ______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some of your books, Mr Green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3440" y="1981080"/>
            <a:ext cx="142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abou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4680" y="478476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fin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9800" y="4784760"/>
            <a:ext cx="178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borrow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09480" y="746280"/>
            <a:ext cx="8001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Jeff:      Certainly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Li Fen: May I borrow these two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Jeff:      Yes. Please ______ them 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______ next Friday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Li Fen: Certainly. Thanks a lot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31000" y="2514600"/>
            <a:ext cx="13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bring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68680" y="3184560"/>
            <a:ext cx="12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back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37040" y="1066680"/>
            <a:ext cx="750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learn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       </a:t>
            </a:r>
            <a:r>
              <a:rPr b="1" i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v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学，学习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320" y="76320"/>
            <a:ext cx="7391160" cy="76176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Lucida Sans"/>
              </a:rPr>
              <a:t>New word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74360" y="1981080"/>
            <a:ext cx="649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learn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… </a:t>
            </a:r>
            <a:r>
              <a:rPr b="1" lang="zh-CN" sz="4400" spc="-1" strike="noStrike">
                <a:solidFill>
                  <a:srgbClr val="ffff99"/>
                </a:solidFill>
                <a:latin typeface="Comic Sans MS"/>
                <a:ea typeface="楷体_GB2312"/>
              </a:rPr>
              <a:t>from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向……学习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1640" y="2819520"/>
            <a:ext cx="74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meeting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    </a:t>
            </a:r>
            <a:r>
              <a:rPr b="1" i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n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会；集会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1680" y="3657600"/>
            <a:ext cx="564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have a meeting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开会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457200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bring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       </a:t>
            </a:r>
            <a:r>
              <a:rPr b="1" i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v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带来；拿来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7720" y="5486400"/>
            <a:ext cx="756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bring …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Comic Sans MS"/>
                <a:ea typeface="楷体_GB2312"/>
              </a:rPr>
              <a:t>back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把……带回来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0880" y="9907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1. May I come on Monday evening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7391520" cy="7621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Useful expressions: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2666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2. May I borrow some of your books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2670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3. Could you come on Thursday afternoon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0880" y="9907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4. How about Wednesday afternoon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7391520" cy="7621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Useful expression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2666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5. What about Friday evening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42670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6. That’s fine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1236600" y="3352680"/>
            <a:ext cx="6840360" cy="2514600"/>
            <a:chOff x="1236600" y="3352680"/>
            <a:chExt cx="6840360" cy="2514600"/>
          </a:xfrm>
        </p:grpSpPr>
        <p:sp>
          <p:nvSpPr>
            <p:cNvPr id="274" name=""/>
            <p:cNvSpPr txBox="1"/>
            <p:nvPr/>
          </p:nvSpPr>
          <p:spPr>
            <a:xfrm>
              <a:off x="1236600" y="4267080"/>
              <a:ext cx="3657600" cy="898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00ffff"/>
                  </a:soli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华文新魏"/>
                </a:rPr>
                <a:t>Assignment </a:t>
              </a:r>
              <a:endParaRPr b="1" lang="en-US" sz="24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  <a:ea typeface="华文新魏"/>
              </a:endParaRPr>
            </a:p>
          </p:txBody>
        </p:sp>
        <p:pic>
          <p:nvPicPr>
            <p:cNvPr id="275" name="卡通人物001" descr=""/>
            <p:cNvPicPr/>
            <p:nvPr/>
          </p:nvPicPr>
          <p:blipFill>
            <a:blip r:embed="rId1"/>
            <a:stretch/>
          </p:blipFill>
          <p:spPr>
            <a:xfrm>
              <a:off x="5960880" y="3352680"/>
              <a:ext cx="211608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"/>
          <p:cNvSpPr/>
          <p:nvPr/>
        </p:nvSpPr>
        <p:spPr>
          <a:xfrm>
            <a:off x="304920" y="838080"/>
            <a:ext cx="868680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Lucida Sans"/>
              <a:buAutoNum type="arabicPeriod"/>
              <a:tabLst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  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Practice the conversations  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	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we 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	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have learnt.  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(Lesson 91,  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Part 2 &amp; Lesson 92, Part 4)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04920" y="2743200"/>
            <a:ext cx="83818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3. </a:t>
            </a: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Finish Part 5 of Lesson 92.</a:t>
            </a: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609480"/>
            <a:ext cx="838188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2.  Revise the new words 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	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and expression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236600" y="3581280"/>
            <a:ext cx="6840360" cy="2514600"/>
            <a:chOff x="1236600" y="3581280"/>
            <a:chExt cx="6840360" cy="2514600"/>
          </a:xfrm>
        </p:grpSpPr>
        <p:sp>
          <p:nvSpPr>
            <p:cNvPr id="280" name=""/>
            <p:cNvSpPr txBox="1"/>
            <p:nvPr/>
          </p:nvSpPr>
          <p:spPr>
            <a:xfrm>
              <a:off x="1236600" y="4495680"/>
              <a:ext cx="3657600" cy="898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00ffff"/>
                  </a:soli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华文新魏"/>
                </a:rPr>
                <a:t>Assignment </a:t>
              </a:r>
              <a:endParaRPr b="1" lang="en-US" sz="24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  <a:ea typeface="华文新魏"/>
              </a:endParaRPr>
            </a:p>
          </p:txBody>
        </p:sp>
        <p:pic>
          <p:nvPicPr>
            <p:cNvPr id="281" name="卡通人物001" descr=""/>
            <p:cNvPicPr/>
            <p:nvPr/>
          </p:nvPicPr>
          <p:blipFill>
            <a:blip r:embed="rId1"/>
            <a:stretch/>
          </p:blipFill>
          <p:spPr>
            <a:xfrm>
              <a:off x="5960880" y="3581280"/>
              <a:ext cx="2116080" cy="25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1981080"/>
            <a:ext cx="7184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1. Where’s Wang Ling from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505320"/>
            <a:ext cx="718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2. What’s she looking for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106200"/>
            <a:ext cx="8686800" cy="581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Lucida Sans"/>
              </a:rPr>
              <a:t>Watch the video and answer the question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1236600" y="4343400"/>
            <a:ext cx="6535440" cy="2133720"/>
            <a:chOff x="1236600" y="4343400"/>
            <a:chExt cx="6535440" cy="2133720"/>
          </a:xfrm>
        </p:grpSpPr>
        <p:sp>
          <p:nvSpPr>
            <p:cNvPr id="283" name=""/>
            <p:cNvSpPr txBox="1"/>
            <p:nvPr/>
          </p:nvSpPr>
          <p:spPr>
            <a:xfrm>
              <a:off x="1236600" y="5119200"/>
              <a:ext cx="34945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00ffff"/>
                  </a:soli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华文新魏"/>
                </a:rPr>
                <a:t>Assignment </a:t>
              </a:r>
              <a:endParaRPr b="1" lang="en-US" sz="24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  <a:ea typeface="华文新魏"/>
              </a:endParaRPr>
            </a:p>
          </p:txBody>
        </p:sp>
        <p:pic>
          <p:nvPicPr>
            <p:cNvPr id="284" name="卡通人物001" descr=""/>
            <p:cNvPicPr/>
            <p:nvPr/>
          </p:nvPicPr>
          <p:blipFill>
            <a:blip r:embed="rId1"/>
            <a:stretch/>
          </p:blipFill>
          <p:spPr>
            <a:xfrm>
              <a:off x="5750280" y="4343400"/>
              <a:ext cx="2021760" cy="213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/>
          <p:cNvSpPr/>
          <p:nvPr/>
        </p:nvSpPr>
        <p:spPr>
          <a:xfrm>
            <a:off x="380880" y="304920"/>
            <a:ext cx="861084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4.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Finish some of the workbook </a:t>
            </a: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	</a:t>
            </a: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exercise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Ex. 3 of Page 107;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Ex. 1 of Page 108;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Exx. 4 &amp; 5 of Page 110;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Exx. 6 &amp; 7 of Page 111.</a:t>
            </a: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80240" y="1017720"/>
            <a:ext cx="615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Comic Sans MS"/>
              </a:rPr>
              <a:t>music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 </a:t>
            </a:r>
            <a:r>
              <a:rPr b="1" i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n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音乐，乐曲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320" y="76320"/>
            <a:ext cx="7391160" cy="76176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Lucida Sans"/>
              </a:rPr>
              <a:t>New word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7960" y="2071800"/>
            <a:ext cx="501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Comic Sans MS"/>
              </a:rPr>
              <a:t>boat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  </a:t>
            </a:r>
            <a:r>
              <a:rPr b="1" i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v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划船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6640" y="3062160"/>
            <a:ext cx="727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Comic Sans MS"/>
              </a:rPr>
              <a:t>into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</a:t>
            </a:r>
            <a:r>
              <a:rPr b="1" i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prep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到…里，向内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0000" y="4052880"/>
            <a:ext cx="783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Comic Sans MS"/>
              </a:rPr>
              <a:t>worried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i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adj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 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担心的，烦恼的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511956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Comic Sans MS"/>
              </a:rPr>
              <a:t>save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</a:t>
            </a:r>
            <a:r>
              <a:rPr b="1" i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v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救；挽救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832680" y="1523880"/>
            <a:ext cx="596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Comic Sans MS"/>
              </a:rPr>
              <a:t>ticket</a:t>
            </a:r>
            <a:r>
              <a:rPr b="1" lang="zh-CN" sz="5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5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i="1" lang="zh-CN" sz="5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n</a:t>
            </a:r>
            <a:r>
              <a:rPr b="1" lang="zh-CN" sz="5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5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票；券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320" y="76320"/>
            <a:ext cx="7391160" cy="76176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Lucida Sans"/>
              </a:rPr>
              <a:t>New word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6840" y="2971800"/>
            <a:ext cx="654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Comic Sans MS"/>
              </a:rPr>
              <a:t>New York</a:t>
            </a:r>
            <a:r>
              <a:rPr b="1" lang="zh-CN" sz="5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</a:t>
            </a:r>
            <a:r>
              <a:rPr b="1" i="1" lang="zh-CN" sz="5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n</a:t>
            </a:r>
            <a:r>
              <a:rPr b="1" lang="zh-CN" sz="5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5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纽约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37040" y="1066680"/>
            <a:ext cx="750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learn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       </a:t>
            </a:r>
            <a:r>
              <a:rPr b="1" i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v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学，学习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320" y="76320"/>
            <a:ext cx="7391160" cy="76176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Lucida Sans"/>
              </a:rPr>
              <a:t>New word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74360" y="1981080"/>
            <a:ext cx="649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learn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… </a:t>
            </a:r>
            <a:r>
              <a:rPr b="1" lang="zh-CN" sz="4400" spc="-1" strike="noStrike">
                <a:solidFill>
                  <a:srgbClr val="ffff99"/>
                </a:solidFill>
                <a:latin typeface="Comic Sans MS"/>
                <a:ea typeface="楷体_GB2312"/>
              </a:rPr>
              <a:t>from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向……学习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1640" y="2819520"/>
            <a:ext cx="74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meeting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    </a:t>
            </a:r>
            <a:r>
              <a:rPr b="1" i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n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会；集会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1680" y="3657600"/>
            <a:ext cx="564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have a meeting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开会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457200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bring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       </a:t>
            </a:r>
            <a:r>
              <a:rPr b="1" i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v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带来；拿来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7720" y="5486400"/>
            <a:ext cx="756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bring …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Comic Sans MS"/>
                <a:ea typeface="楷体_GB2312"/>
              </a:rPr>
              <a:t>back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把……带回来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1236600" y="3581280"/>
            <a:ext cx="6840360" cy="2514600"/>
            <a:chOff x="1236600" y="3581280"/>
            <a:chExt cx="6840360" cy="2514600"/>
          </a:xfrm>
        </p:grpSpPr>
        <p:sp>
          <p:nvSpPr>
            <p:cNvPr id="303" name=""/>
            <p:cNvSpPr txBox="1"/>
            <p:nvPr/>
          </p:nvSpPr>
          <p:spPr>
            <a:xfrm>
              <a:off x="1236600" y="4495680"/>
              <a:ext cx="3657600" cy="898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00ffff"/>
                  </a:soli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华文新魏"/>
                </a:rPr>
                <a:t>Assignment </a:t>
              </a:r>
              <a:endParaRPr b="1" lang="en-US" sz="24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  <a:ea typeface="华文新魏"/>
              </a:endParaRPr>
            </a:p>
          </p:txBody>
        </p:sp>
        <p:pic>
          <p:nvPicPr>
            <p:cNvPr id="304" name="卡通人物001" descr=""/>
            <p:cNvPicPr/>
            <p:nvPr/>
          </p:nvPicPr>
          <p:blipFill>
            <a:blip r:embed="rId1"/>
            <a:stretch/>
          </p:blipFill>
          <p:spPr>
            <a:xfrm>
              <a:off x="5960880" y="3581280"/>
              <a:ext cx="211608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"/>
          <p:cNvSpPr/>
          <p:nvPr/>
        </p:nvSpPr>
        <p:spPr>
          <a:xfrm>
            <a:off x="380880" y="762120"/>
            <a:ext cx="838224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ff"/>
                </a:solidFill>
                <a:latin typeface="Lucida Sans"/>
                <a:ea typeface="Arial Unicode MS"/>
              </a:rPr>
              <a:t>*5. </a:t>
            </a:r>
            <a:r>
              <a:rPr b="1" lang="zh-CN" sz="4400" spc="-1" strike="noStrike">
                <a:solidFill>
                  <a:srgbClr val="ffccff"/>
                </a:solidFill>
                <a:latin typeface="Lucida Sans"/>
                <a:ea typeface="Times New Roman"/>
              </a:rPr>
              <a:t>Writing: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ff"/>
                </a:solidFill>
                <a:latin typeface="Lucida Sans"/>
                <a:ea typeface="Times New Roman"/>
              </a:rPr>
              <a:t>    </a:t>
            </a:r>
            <a:r>
              <a:rPr b="1" lang="zh-CN" sz="4400" spc="-1" strike="noStrike">
                <a:solidFill>
                  <a:srgbClr val="ffccff"/>
                </a:solidFill>
                <a:latin typeface="Lucida Sans"/>
                <a:ea typeface="Times New Roman"/>
              </a:rPr>
              <a:t>Make a conversation.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ff"/>
                </a:solidFill>
                <a:latin typeface="Lucida Sans"/>
                <a:ea typeface="Times New Roman"/>
              </a:rPr>
              <a:t>    </a:t>
            </a:r>
            <a:r>
              <a:rPr b="1" lang="zh-CN" sz="4400" spc="-1" strike="noStrike">
                <a:solidFill>
                  <a:srgbClr val="ffccff"/>
                </a:solidFill>
                <a:latin typeface="Lucida Sans"/>
                <a:ea typeface="Times New Roman"/>
              </a:rPr>
              <a:t>(Finish Ex. 3 of Page 109.)</a:t>
            </a: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1600200"/>
            <a:ext cx="7184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1. Where’s Wang Ling from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3429000"/>
            <a:ext cx="718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2. What’s she looking for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22860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ff"/>
                </a:solidFill>
                <a:latin typeface="Times New Roman"/>
              </a:rPr>
              <a:t>She’s from Beijing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41911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ff"/>
                </a:solidFill>
                <a:latin typeface="Times New Roman"/>
              </a:rPr>
              <a:t>She’s looking for a box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106200"/>
            <a:ext cx="8686800" cy="581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Lucida Sans"/>
              </a:rPr>
              <a:t>Watch the video and answer the question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09480" y="730080"/>
            <a:ext cx="4267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 Unicode MS"/>
                <a:ea typeface="Arial Unicode MS"/>
              </a:rPr>
              <a:t>What’s Wang Ling’s box like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352680"/>
            <a:ext cx="670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Arial Unicode MS"/>
                <a:ea typeface="Arial Unicode MS"/>
              </a:rPr>
              <a:t>Her box is brown, new and very heavy. It’s full of books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320" y="0"/>
            <a:ext cx="7924680" cy="6426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Lucida Sans"/>
              </a:rPr>
              <a:t>Read the conversation aloud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09480"/>
            <a:ext cx="8534160" cy="68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L: Excuse me. I can’t find my box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Where are you from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L: From Beijing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May I have a look at your ticket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L: Here it is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You are going to …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X: We’re going to New York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304920"/>
            <a:ext cx="853416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What colour is your box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L: It’s brown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How big is it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L: It’s about this big. It’s full of    books and it’s very heavy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Is it new or old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L: It’s new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00:34:31Z</dcterms:created>
  <dc:creator>dell</dc:creator>
  <dc:description/>
  <dc:language>en-US</dc:language>
  <cp:lastModifiedBy>潘雪蓉</cp:lastModifiedBy>
  <dcterms:modified xsi:type="dcterms:W3CDTF">2003-06-09T08:00:53Z</dcterms:modified>
  <cp:revision>25</cp:revision>
  <dc:subject/>
  <dc:title>PowerPoint 演示文稿</dc:title>
</cp:coreProperties>
</file>