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B3E-9E90-46D2-8057-79E306BE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78B-3752-442F-9B97-7A7AF053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EF1-FAE8-49F3-B537-05764DCB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CB4-EAD2-4DF6-B05B-049F8AF7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994-1FD6-4FC4-B152-FE3B6E8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749-3F84-4C0F-8E2F-5715500C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B31-18EF-475D-8ACF-604EA672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4FC-89FD-4D6B-98A5-7768222C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360-6507-45AF-9897-F43CD0BD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D28-5CB0-4B93-82DF-1C91228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C30-C393-4BB8-832E-3C00FA2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A9A-1B51-41E9-9A07-881E300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559-5017-4F5D-BD19-811C7A02EE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9:18Z</dcterms:created>
  <dc:creator>USER13</dc:creator>
  <dc:description/>
  <dc:language>en-US</dc:language>
  <cp:lastModifiedBy>USER13</cp:lastModifiedBy>
  <dcterms:modified xsi:type="dcterms:W3CDTF">2002-05-04T03:09:31Z</dcterms:modified>
  <cp:revision>1</cp:revision>
  <dc:subject/>
  <dc:title>PowerPoint 演示文稿</dc:title>
</cp:coreProperties>
</file>