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491-96D5-4132-927D-5D74A01C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5B7-8663-4A95-9C25-185D9ECE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A2D-92D7-46E4-A37C-92A44A75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118-0466-49D2-B842-EC3AF2A0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C8A-02E5-47BA-9021-4D5451B2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D1E-B3B5-4868-9D04-B632625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520-A6C3-4F67-A9F7-9CBCDA4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4B5-F033-47AB-939E-C1B84B8A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931-770D-433F-8BE3-BC411F4A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A56-18DC-4841-8E87-64B8AC4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709-3B0C-48C4-9D2B-4D68E47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A05-659E-4B77-89CB-C56E3C3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7C4-0651-418D-A9BB-1FA7948AB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2:53Z</dcterms:created>
  <dc:creator>USER13</dc:creator>
  <dc:description/>
  <dc:language>en-US</dc:language>
  <cp:lastModifiedBy>USER13</cp:lastModifiedBy>
  <dcterms:modified xsi:type="dcterms:W3CDTF">2002-05-04T03:23:02Z</dcterms:modified>
  <cp:revision>1</cp:revision>
  <dc:subject/>
  <dc:title>PowerPoint 演示文稿</dc:title>
</cp:coreProperties>
</file>