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6.png" ContentType="image/png"/>
  <Override PartName="/ppt/media/image13.wmf" ContentType="image/x-wmf"/>
  <Override PartName="/ppt/media/image8.jpeg" ContentType="image/jpeg"/>
  <Override PartName="/ppt/media/image35.jpeg" ContentType="image/jpeg"/>
  <Override PartName="/ppt/media/image30.wmf" ContentType="image/x-wmf"/>
  <Override PartName="/ppt/media/image34.wmf" ContentType="image/x-wmf"/>
  <Override PartName="/ppt/media/image38.gif" ContentType="image/gif"/>
  <Override PartName="/ppt/media/image40.gif" ContentType="image/gif"/>
  <Override PartName="/ppt/media/image36.wmf" ContentType="image/x-wmf"/>
  <Override PartName="/ppt/media/image39.gif" ContentType="image/gif"/>
  <Override PartName="/ppt/media/image41.gif" ContentType="image/gif"/>
  <Override PartName="/ppt/media/image42.gif" ContentType="image/gif"/>
  <Override PartName="/ppt/media/image43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12.wmf" ContentType="image/x-wmf"/>
  <Override PartName="/ppt/media/image28.wmf" ContentType="image/x-wmf"/>
  <Override PartName="/ppt/media/image37.jpeg" ContentType="image/jpeg"/>
  <Override PartName="/ppt/media/image3.wmf" ContentType="image/x-wmf"/>
  <Override PartName="/ppt/media/image33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2.wmf" ContentType="image/x-wmf"/>
  <Override PartName="/ppt/media/image2.wmf" ContentType="image/x-wmf"/>
  <Override PartName="/ppt/media/image9.jpeg" ContentType="image/jpeg"/>
  <Override PartName="/ppt/media/image1.wmf" ContentType="image/x-wmf"/>
  <Override PartName="/ppt/media/image7.jpeg" ContentType="image/jpeg"/>
  <Override PartName="/ppt/media/image3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C0D-1F34-49C3-AA77-A183E273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86BA-CA2E-472B-8B73-CCA99DDA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FF79-8DD3-42AF-840D-7FDAB80B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69E-E6BE-4604-870B-B34512A3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DE23-D5D3-48C6-BF2D-F64DD28A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B2C9-39AD-42D8-9AF8-A365595B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A96D-3486-4E86-8B3B-0E71B5A3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A32-1449-46B6-B85B-008CC8D2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A0F-70DB-4891-9389-623FACDB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9647-81EB-4DC4-8C65-E08E114C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868A-D2C5-4537-B53D-BB0AF058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1213-F55B-4C94-ABA0-CCB547FF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3D6E-69FE-431E-B7A6-FFBBDD92C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18.xml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image" Target="../media/image38.gif"/><Relationship Id="rId9" Type="http://schemas.openxmlformats.org/officeDocument/2006/relationships/image" Target="../media/image38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image" Target="../media/image39.gif"/><Relationship Id="rId6" Type="http://schemas.openxmlformats.org/officeDocument/2006/relationships/image" Target="../media/image39.gif"/><Relationship Id="rId7" Type="http://schemas.openxmlformats.org/officeDocument/2006/relationships/image" Target="../media/image39.gif"/><Relationship Id="rId8" Type="http://schemas.openxmlformats.org/officeDocument/2006/relationships/image" Target="../media/image39.gif"/><Relationship Id="rId9" Type="http://schemas.openxmlformats.org/officeDocument/2006/relationships/image" Target="../media/image39.gif"/><Relationship Id="rId10" Type="http://schemas.openxmlformats.org/officeDocument/2006/relationships/image" Target="../media/image39.gif"/><Relationship Id="rId11" Type="http://schemas.openxmlformats.org/officeDocument/2006/relationships/image" Target="../media/image39.gif"/><Relationship Id="rId12" Type="http://schemas.openxmlformats.org/officeDocument/2006/relationships/image" Target="../media/image39.gif"/><Relationship Id="rId13" Type="http://schemas.openxmlformats.org/officeDocument/2006/relationships/image" Target="../media/image39.gif"/><Relationship Id="rId14" Type="http://schemas.openxmlformats.org/officeDocument/2006/relationships/image" Target="../media/image39.gif"/><Relationship Id="rId15" Type="http://schemas.openxmlformats.org/officeDocument/2006/relationships/image" Target="../media/image39.gif"/><Relationship Id="rId16" Type="http://schemas.openxmlformats.org/officeDocument/2006/relationships/image" Target="../media/image39.gif"/><Relationship Id="rId17" Type="http://schemas.openxmlformats.org/officeDocument/2006/relationships/image" Target="../media/image39.gif"/><Relationship Id="rId18" Type="http://schemas.openxmlformats.org/officeDocument/2006/relationships/image" Target="../media/image39.gif"/><Relationship Id="rId1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1.gif"/><Relationship Id="rId5" Type="http://schemas.openxmlformats.org/officeDocument/2006/relationships/image" Target="../media/image41.gif"/><Relationship Id="rId6" Type="http://schemas.openxmlformats.org/officeDocument/2006/relationships/image" Target="../media/image41.gif"/><Relationship Id="rId7" Type="http://schemas.openxmlformats.org/officeDocument/2006/relationships/image" Target="../media/image41.gif"/><Relationship Id="rId8" Type="http://schemas.openxmlformats.org/officeDocument/2006/relationships/image" Target="../media/image41.gif"/><Relationship Id="rId9" Type="http://schemas.openxmlformats.org/officeDocument/2006/relationships/image" Target="../media/image41.gi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75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1905120"/>
            <a:ext cx="4191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Arial Black"/>
              </a:rPr>
              <a:t> </a:t>
            </a:r>
            <a:r>
              <a:rPr b="1" lang="en-US" sz="5400" spc="-1" strike="noStrike">
                <a:solidFill>
                  <a:srgbClr val="ccffcc"/>
                </a:solidFill>
                <a:latin typeface="Arial Black"/>
              </a:rPr>
              <a:t>Unit 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Arial Black"/>
              </a:rPr>
              <a:t>Revi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5029200"/>
            <a:ext cx="1904760" cy="914400"/>
          </a:xfrm>
          <a:prstGeom prst="rect">
            <a:avLst/>
          </a:prstGeom>
          <a:solidFill>
            <a:srgbClr val="ff66cc"/>
          </a:solidFill>
          <a:ln w="0">
            <a:noFill/>
          </a:ln>
          <a:effectLst>
            <a:outerShdw dist="17819" dir="2700000" blurRad="0" rotWithShape="0">
              <a:srgbClr val="98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4952880"/>
            <a:ext cx="1600200" cy="914400"/>
          </a:xfrm>
          <a:prstGeom prst="rect">
            <a:avLst/>
          </a:prstGeom>
          <a:solidFill>
            <a:srgbClr val="ff66cc"/>
          </a:solidFill>
          <a:ln w="0">
            <a:noFill/>
          </a:ln>
          <a:effectLst>
            <a:outerShdw dist="17819" dir="2700000" blurRad="0" rotWithShape="0">
              <a:srgbClr val="98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518148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 Black"/>
              </a:rPr>
              <a:t>Word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 Black"/>
              </a:rPr>
              <a:t>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5029200"/>
            <a:ext cx="1523880" cy="914400"/>
          </a:xfrm>
          <a:prstGeom prst="rect">
            <a:avLst/>
          </a:prstGeom>
          <a:solidFill>
            <a:srgbClr val="ff66cc"/>
          </a:solidFill>
          <a:ln w="0">
            <a:noFill/>
          </a:ln>
          <a:effectLst>
            <a:outerShdw dist="17819" dir="2700000" blurRad="0" rotWithShape="0">
              <a:srgbClr val="98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58240" y="5278320"/>
            <a:ext cx="1390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 Black"/>
                <a:hlinkClick r:id="rId1" action="ppaction://hlinksldjump"/>
              </a:rPr>
              <a:t>Shopping</a:t>
            </a:r>
            <a:r>
              <a:rPr b="0" lang="en-US" sz="2000" spc="-1" strike="noStrike" u="sng">
                <a:solidFill>
                  <a:srgbClr val="ccffcc"/>
                </a:solidFill>
                <a:uFillTx/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5105520"/>
            <a:ext cx="16272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 Black"/>
                <a:hlinkClick r:id="rId2" action="ppaction://hlinksldjump"/>
              </a:rPr>
              <a:t>Text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 Black"/>
                <a:hlinkClick r:id="rId3" action="ppaction://hlinksldjump"/>
              </a:rPr>
              <a:t>sent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34320" y="4952880"/>
            <a:ext cx="1447560" cy="914400"/>
          </a:xfrm>
          <a:prstGeom prst="rect">
            <a:avLst/>
          </a:prstGeom>
          <a:solidFill>
            <a:srgbClr val="ff66cc"/>
          </a:solidFill>
          <a:ln w="0">
            <a:noFill/>
          </a:ln>
          <a:effectLst>
            <a:outerShdw dist="17819" dir="2700000" blurRad="0" rotWithShape="0">
              <a:srgbClr val="98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84520" y="5278320"/>
            <a:ext cx="872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 Black"/>
                <a:hlinkClick r:id="rId4" action="ppaction://hlinksldjump"/>
              </a:rPr>
              <a:t>po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352680" y="0"/>
            <a:ext cx="579132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What can I do for you ?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I am looking for </a:t>
            </a:r>
            <a:r>
              <a:rPr b="1" lang="zh-CN" sz="1600" spc="-1" strike="noStrike" u="sng">
                <a:solidFill>
                  <a:srgbClr val="ff66ff"/>
                </a:solidFill>
                <a:uFillTx/>
                <a:latin typeface="Verdana"/>
              </a:rPr>
              <a:t>a dress</a:t>
            </a:r>
            <a:r>
              <a:rPr b="1" lang="zh-CN" sz="1600" spc="-1" strike="noStrike">
                <a:solidFill>
                  <a:srgbClr val="ff66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What  kind of dress do you want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I’d like a </a:t>
            </a:r>
            <a:r>
              <a:rPr b="1" lang="zh-CN" sz="1600" spc="-1" strike="noStrike" u="sng">
                <a:solidFill>
                  <a:srgbClr val="ff66ff"/>
                </a:solidFill>
                <a:uFillTx/>
                <a:latin typeface="Verdana"/>
              </a:rPr>
              <a:t>silk 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What size do you want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</a:t>
            </a:r>
            <a:r>
              <a:rPr b="1" lang="zh-CN" sz="1600" spc="-1" strike="noStrike" u="sng">
                <a:solidFill>
                  <a:srgbClr val="ff66ff"/>
                </a:solidFill>
                <a:uFillTx/>
                <a:latin typeface="Verdana"/>
              </a:rPr>
              <a:t>Size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What about thi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No , I don’t like </a:t>
            </a:r>
            <a:r>
              <a:rPr b="1" lang="zh-CN" sz="1600" spc="-1" strike="noStrike" u="sng">
                <a:solidFill>
                  <a:srgbClr val="ff66ff"/>
                </a:solidFill>
                <a:uFillTx/>
                <a:latin typeface="Verdana"/>
              </a:rPr>
              <a:t>dark green</a:t>
            </a: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I like </a:t>
            </a:r>
            <a:r>
              <a:rPr b="1" lang="zh-CN" sz="1600" spc="-1" strike="noStrike" u="sng">
                <a:solidFill>
                  <a:srgbClr val="ff66ff"/>
                </a:solidFill>
                <a:uFillTx/>
                <a:latin typeface="Verdana"/>
              </a:rPr>
              <a:t>light blue</a:t>
            </a:r>
            <a:r>
              <a:rPr b="1" lang="zh-CN" sz="1600" spc="-1" strike="noStrike" u="sng">
                <a:solidFill>
                  <a:srgbClr val="0099ff"/>
                </a:solidFill>
                <a:uFillTx/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How  about  this one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oh, so beautiful, Can I try </a:t>
            </a:r>
            <a:r>
              <a:rPr b="1" lang="zh-CN" sz="1600" spc="-1" strike="noStrike">
                <a:solidFill>
                  <a:srgbClr val="ff66ff"/>
                </a:solidFill>
                <a:latin typeface="Verdana"/>
              </a:rPr>
              <a:t>it</a:t>
            </a: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 on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I like it , how much is 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</a:t>
            </a:r>
            <a:r>
              <a:rPr b="1" lang="zh-CN" sz="1600" spc="-1" strike="noStrike">
                <a:solidFill>
                  <a:srgbClr val="ff66ff"/>
                </a:solidFill>
                <a:latin typeface="Verdana"/>
              </a:rPr>
              <a:t>100</a:t>
            </a: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 yua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All right , I ‘ll take it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-304920" y="0"/>
          <a:ext cx="352116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0"/>
                    <a:ext cx="35211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304920"/>
            <a:ext cx="6858000" cy="914400"/>
          </a:xfrm>
          <a:prstGeom prst="rect">
            <a:avLst/>
          </a:prstGeom>
          <a:solidFill>
            <a:srgbClr val="ff7c80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How to  go shopping onli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971800" y="2286000"/>
            <a:ext cx="234324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舒体"/>
              </a:rPr>
              <a:t>compu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舒体"/>
              <a:ea typeface="方正舒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352680" y="2962440"/>
            <a:ext cx="1671840" cy="93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6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PMingLiU"/>
              </a:rPr>
              <a:t>mode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PMingLiU"/>
              <a:ea typeface="PMingLiU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90920" y="4267080"/>
            <a:ext cx="2886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elephone li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19320" y="6021360"/>
            <a:ext cx="2057400" cy="593640"/>
            <a:chOff x="1219320" y="6021360"/>
            <a:chExt cx="2057400" cy="593640"/>
          </a:xfrm>
        </p:grpSpPr>
        <p:sp>
          <p:nvSpPr>
            <p:cNvPr id="124" name=""/>
            <p:cNvSpPr/>
            <p:nvPr/>
          </p:nvSpPr>
          <p:spPr>
            <a:xfrm>
              <a:off x="1219320" y="6095880"/>
              <a:ext cx="2057400" cy="519120"/>
            </a:xfrm>
            <a:prstGeom prst="rect">
              <a:avLst/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47200" y="6021360"/>
              <a:ext cx="178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ffcc"/>
                  </a:solidFill>
                  <a:latin typeface="Arial Black"/>
                </a:rPr>
                <a:t>Websi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04920" y="1523880"/>
            <a:ext cx="3733560" cy="533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You must have 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COMPUTR2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429000" cy="3962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31880" y="5992920"/>
            <a:ext cx="28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 Black"/>
              </a:rPr>
              <a:t>How to  do next 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SHOPPER" descr=""/>
          <p:cNvPicPr/>
          <p:nvPr/>
        </p:nvPicPr>
        <p:blipFill>
          <a:blip r:embed="rId1"/>
          <a:stretch/>
        </p:blipFill>
        <p:spPr>
          <a:xfrm>
            <a:off x="7772400" y="30492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133720" y="304920"/>
            <a:ext cx="4572000" cy="52056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Black"/>
              </a:rPr>
              <a:t>Search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1600200"/>
            <a:ext cx="5943600" cy="60948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Black"/>
              </a:rPr>
              <a:t>Find the ads which you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2743200"/>
            <a:ext cx="5486400" cy="5335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Black"/>
              </a:rPr>
              <a:t>Check out th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3886200"/>
            <a:ext cx="6858000" cy="60948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Black"/>
              </a:rPr>
              <a:t>Choose the shape and size you 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5181480"/>
            <a:ext cx="7924680" cy="68580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Black"/>
              </a:rPr>
              <a:t>Fill  in the form and credit card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380880"/>
            <a:ext cx="6858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676520"/>
            <a:ext cx="657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b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2666880"/>
            <a:ext cx="62388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c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3809880"/>
            <a:ext cx="68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5257800"/>
            <a:ext cx="6858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f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6858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We _____ _____Beijing at 10:0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We had already eaten breakfast  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we went to the hot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1447560" cy="839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19720" y="236232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28954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and  _____ _____our things in the  hot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191120"/>
            <a:ext cx="89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1533240" cy="593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8600" y="5257800"/>
            <a:ext cx="21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We w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35000" y="5181480"/>
            <a:ext cx="34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 Black"/>
              </a:rPr>
              <a:t>On Kunming L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47520"/>
            <a:ext cx="18288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6440" y="3168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85120" y="411480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1521000" y="0"/>
            <a:ext cx="765000" cy="1393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1371600" y="289548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038480" y="0"/>
            <a:ext cx="221004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tex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154" name="PE03255_" descr=""/>
          <p:cNvPicPr/>
          <p:nvPr/>
        </p:nvPicPr>
        <p:blipFill>
          <a:blip r:embed="rId6"/>
          <a:stretch/>
        </p:blipFill>
        <p:spPr>
          <a:xfrm>
            <a:off x="2209680" y="4724280"/>
            <a:ext cx="2438640" cy="1524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761280" y="411624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the Summer Pa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..So adj. that sb.(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主格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)can’t ( could n’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…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too adj.{for sb.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宾格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}to do st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not adj.(opposite )enough{ for sb.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宾格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}to do st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914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Verdana"/>
              </a:rPr>
              <a:t>1.The camera  is  to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dear</a:t>
            </a:r>
            <a:r>
              <a:rPr b="1" lang="en-US" sz="2400" spc="-1" strike="noStrike">
                <a:solidFill>
                  <a:srgbClr val="d60093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or me</a:t>
            </a:r>
            <a:r>
              <a:rPr b="1" lang="en-US" sz="2400" spc="-1" strike="noStrike">
                <a:solidFill>
                  <a:srgbClr val="d60093"/>
                </a:solidFill>
                <a:latin typeface="Verdana"/>
              </a:rPr>
              <a:t>  to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buy</a:t>
            </a:r>
            <a:r>
              <a:rPr b="1" lang="en-US" sz="2400" spc="-1" strike="noStrike">
                <a:solidFill>
                  <a:srgbClr val="d60093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d60093"/>
                </a:solidFill>
                <a:latin typeface="Verdana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400" y="1523880"/>
            <a:ext cx="53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mera is s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d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’t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bu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243828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y si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o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you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5200" y="2751120"/>
            <a:ext cx="64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sister is s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you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’t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2960" y="3630600"/>
            <a:ext cx="55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The suit is to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or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u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5105520"/>
            <a:ext cx="78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M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grandm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was not  </a:t>
            </a:r>
            <a:r>
              <a:rPr b="1" lang="zh-CN" sz="2400" spc="-1" strike="noStrike">
                <a:solidFill>
                  <a:srgbClr val="ff66ff"/>
                </a:solidFill>
                <a:latin typeface="Arial Black"/>
              </a:rPr>
              <a:t>you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enough to </a:t>
            </a:r>
            <a:r>
              <a:rPr b="1" lang="zh-CN" sz="2400" spc="-1" strike="noStrike">
                <a:solidFill>
                  <a:srgbClr val="6600ff"/>
                </a:solidFill>
                <a:latin typeface="Arial Black"/>
              </a:rPr>
              <a:t>wor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agai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8880" y="1913040"/>
            <a:ext cx="65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mera is not </a:t>
            </a:r>
            <a:r>
              <a:rPr b="1" lang="en-US" sz="2400" spc="-1" strike="noStrike">
                <a:solidFill>
                  <a:srgbClr val="ff66ff"/>
                </a:solidFill>
                <a:latin typeface="Arial Black"/>
              </a:rPr>
              <a:t>che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ough  for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bu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1120" y="317340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sister is not </a:t>
            </a:r>
            <a:r>
              <a:rPr b="1" lang="en-US" sz="2400" spc="-1" strike="noStrike">
                <a:solidFill>
                  <a:srgbClr val="ff66ff"/>
                </a:solidFill>
                <a:latin typeface="Arial Black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ough to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8920" y="4122720"/>
            <a:ext cx="52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it is s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’t put on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0760" y="4503600"/>
            <a:ext cx="581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suit is not </a:t>
            </a:r>
            <a:r>
              <a:rPr b="1" lang="zh-CN" sz="2400" spc="-1" strike="noStrike">
                <a:solidFill>
                  <a:srgbClr val="ff66ff"/>
                </a:solidFill>
                <a:latin typeface="Arial Black"/>
              </a:rPr>
              <a:t>bi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enough for me to put on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9680" y="561168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y grandma was so </a:t>
            </a:r>
            <a:r>
              <a:rPr b="1" lang="zh-CN" sz="2400" spc="-1" strike="noStrike" u="sng">
                <a:solidFill>
                  <a:srgbClr val="ff66ff"/>
                </a:solidFill>
                <a:uFillTx/>
                <a:latin typeface="Arial Black"/>
              </a:rPr>
              <a:t>ol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at she could n’t  work ag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28800" y="6027840"/>
            <a:ext cx="50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grandma was to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work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3049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5..This is such a heavy box that I can’t carry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0" y="1295280"/>
            <a:ext cx="65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is is so heavy a box that I can’t carry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40" y="2362320"/>
            <a:ext cx="81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6.My sharpener fell under my desk . I couldn’t see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20" y="3276720"/>
            <a:ext cx="88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My sharpener fell under my desk so that I couldn’t see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" y="4419720"/>
            <a:ext cx="94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7. I am going to the stadium early in order to get a good sea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60" y="5181480"/>
            <a:ext cx="92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I am going to the stadium early so that I can get a good s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30492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he best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The trousers on the shelf look very nice and you’d  better_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Try on it   B.Try it on   C.Try on them  D.Try them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His shoes_________, He had better buy  a new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ears out  B.worn out  C.is worn out   D.are worn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He was excited about ____first prize in the city surfing compet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win           B.To win      C.Winning       D.W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Have you got__________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Cheaper anything.          B.Cheaper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Something cheaper.        D.Anything che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80360" y="1341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2492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35002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40000" y="4724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0120" y="5557680"/>
            <a:ext cx="10746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This pair of shoes _______her 1000 y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cost  B.costs  C.was cost D. is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He heard someone _______Beijing Opera in the next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sings B. sang C. singing D. 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The question is ______difficult _____no one can answer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Such ,that B. so ,  that C. too, to D. very ,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The hotel ___ filled by the time they ca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has been B. was C. had been D.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 The camera seemed to offer the most ______the best pr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.in  B.of C. with D.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 ____this T-shir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that  one is fit for you . They are too big.  A. Either , or  B. Neither , nor C. Both , and  D. Between 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6240" y="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2200" y="1066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57760" y="2174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856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306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8680" y="5486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840120" y="2857680"/>
            <a:ext cx="1463760" cy="1143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I asked God for a flower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971800" y="175248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733920" y="3200400"/>
            <a:ext cx="146340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257800" y="320040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2209680" y="320040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2819520" y="4495680"/>
            <a:ext cx="1463400" cy="1143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990720" y="4495680"/>
            <a:ext cx="1463400" cy="1143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4572000" y="449568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6248520" y="4572000"/>
            <a:ext cx="1463400" cy="1143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He gave me a garden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590920" y="0"/>
            <a:ext cx="5181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彩云"/>
              </a:rPr>
              <a:t>words and phra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彩云"/>
              <a:ea typeface="华文彩云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2700360" cy="2743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15000" y="4952880"/>
            <a:ext cx="1752480" cy="381240"/>
          </a:xfrm>
          <a:custGeom>
            <a:avLst/>
            <a:gdLst>
              <a:gd name="textAreaLeft" fmla="*/ 706680 w 1752480"/>
              <a:gd name="textAreaRight" fmla="*/ 1518480 w 1752480"/>
              <a:gd name="textAreaTop" fmla="*/ 280080 h 381240"/>
              <a:gd name="textAreaBottom" fmla="*/ 3304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8742"/>
                </a:moveTo>
                <a:lnTo>
                  <a:pt x="15857" y="18742"/>
                </a:lnTo>
                <a:lnTo>
                  <a:pt x="15857" y="8710"/>
                </a:lnTo>
                <a:lnTo>
                  <a:pt x="12972" y="8710"/>
                </a:lnTo>
                <a:lnTo>
                  <a:pt x="17286" y="0"/>
                </a:lnTo>
                <a:lnTo>
                  <a:pt x="21600" y="8710"/>
                </a:lnTo>
                <a:lnTo>
                  <a:pt x="18715" y="8710"/>
                </a:lnTo>
                <a:lnTo>
                  <a:pt x="1871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4800600"/>
            <a:ext cx="304812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324480" y="106668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55" name="WALL" descr=""/>
          <p:cNvPicPr/>
          <p:nvPr/>
        </p:nvPicPr>
        <p:blipFill>
          <a:blip r:embed="rId4"/>
          <a:stretch/>
        </p:blipFill>
        <p:spPr>
          <a:xfrm>
            <a:off x="533520" y="1066680"/>
            <a:ext cx="3733560" cy="2365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07120" y="3611520"/>
            <a:ext cx="310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 Black"/>
                <a:ea typeface="隶书"/>
              </a:rPr>
              <a:t>the Great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52320" y="31543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 Black"/>
              </a:rPr>
              <a:t>the mobile 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9640" y="6049800"/>
            <a:ext cx="15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 Black"/>
                <a:ea typeface="隶书"/>
              </a:rPr>
              <a:t>m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66440" y="495288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 Black"/>
                <a:ea typeface="隶书"/>
              </a:rPr>
              <a:t>Sc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038480" y="2666880"/>
            <a:ext cx="743040" cy="8226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I asked God for a tre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20968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962520" y="160020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4876920" y="167652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320040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525780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426708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4191120" y="3581280"/>
            <a:ext cx="742680" cy="8226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9"/>
          <a:stretch/>
        </p:blipFill>
        <p:spPr>
          <a:xfrm>
            <a:off x="3124080" y="35812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2133720" y="350532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1"/>
          <a:stretch/>
        </p:blipFill>
        <p:spPr>
          <a:xfrm>
            <a:off x="5715000" y="167652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2"/>
          <a:stretch/>
        </p:blipFill>
        <p:spPr>
          <a:xfrm>
            <a:off x="6248520" y="259092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3"/>
          <a:stretch/>
        </p:blipFill>
        <p:spPr>
          <a:xfrm>
            <a:off x="5257800" y="35812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4"/>
          <a:stretch/>
        </p:blipFill>
        <p:spPr>
          <a:xfrm>
            <a:off x="5638680" y="44956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5"/>
          <a:stretch/>
        </p:blipFill>
        <p:spPr>
          <a:xfrm>
            <a:off x="4648320" y="4495680"/>
            <a:ext cx="742680" cy="8226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6"/>
          <a:stretch/>
        </p:blipFill>
        <p:spPr>
          <a:xfrm>
            <a:off x="3733920" y="4495680"/>
            <a:ext cx="742680" cy="8226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7"/>
          <a:stretch/>
        </p:blipFill>
        <p:spPr>
          <a:xfrm>
            <a:off x="2743200" y="44956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8"/>
          <a:stretch/>
        </p:blipFill>
        <p:spPr>
          <a:xfrm>
            <a:off x="6248520" y="3581280"/>
            <a:ext cx="742680" cy="822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He gave me a forest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I asked God for a ri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43000" y="3257640"/>
            <a:ext cx="68580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He gave me a ocean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1771560" cy="11210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971800" y="1981080"/>
            <a:ext cx="1771560" cy="1121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724280" y="1981080"/>
            <a:ext cx="1771920" cy="1121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6477120" y="1981080"/>
            <a:ext cx="1771560" cy="11210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1905120" y="2362320"/>
            <a:ext cx="1771560" cy="1120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3657600" y="2362320"/>
            <a:ext cx="1771560" cy="1120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5410080" y="2362320"/>
            <a:ext cx="1771920" cy="1120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2666880" y="2743200"/>
            <a:ext cx="1771920" cy="1120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9"/>
          <a:stretch/>
        </p:blipFill>
        <p:spPr>
          <a:xfrm>
            <a:off x="4419720" y="2743200"/>
            <a:ext cx="17715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I asked God for a friend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505320" y="2133720"/>
            <a:ext cx="1646280" cy="2286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257800" y="2133720"/>
            <a:ext cx="1646280" cy="2286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752480" y="2133720"/>
            <a:ext cx="1646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307000" y="617220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miss%20malaysia" descr=""/>
          <p:cNvPicPr/>
          <p:nvPr/>
        </p:nvPicPr>
        <p:blipFill>
          <a:blip r:embed="rId1"/>
          <a:stretch/>
        </p:blipFill>
        <p:spPr>
          <a:xfrm>
            <a:off x="0" y="-399960"/>
            <a:ext cx="9829800" cy="73724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-151920" y="0"/>
            <a:ext cx="574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f73d"/>
                </a:solidFill>
                <a:latin typeface="Comic Sans MS"/>
              </a:rPr>
              <a:t>And he gave me……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f73d"/>
                </a:solidFill>
                <a:latin typeface="Comic Sans MS"/>
              </a:rPr>
              <a:t>you......!!!!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743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the Great Hall of </a:t>
            </a: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the</a:t>
            </a: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743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Verdana"/>
              </a:rPr>
              <a:t>the Beihai p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360" y="63244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The Summer Pa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37600" y="6019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Verdana"/>
              </a:rPr>
              <a:t>The Tian’anmen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en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90760" cy="2411280"/>
          </a:xfrm>
          <a:prstGeom prst="rect">
            <a:avLst/>
          </a:prstGeom>
          <a:ln w="0">
            <a:noFill/>
          </a:ln>
        </p:spPr>
      </p:pic>
      <p:pic>
        <p:nvPicPr>
          <p:cNvPr id="65" name="ren" descr=""/>
          <p:cNvPicPr/>
          <p:nvPr/>
        </p:nvPicPr>
        <p:blipFill>
          <a:blip r:embed="rId2"/>
          <a:stretch/>
        </p:blipFill>
        <p:spPr>
          <a:xfrm>
            <a:off x="5105520" y="304920"/>
            <a:ext cx="373356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ren" descr=""/>
          <p:cNvPicPr/>
          <p:nvPr/>
        </p:nvPicPr>
        <p:blipFill>
          <a:blip r:embed="rId3"/>
          <a:stretch/>
        </p:blipFill>
        <p:spPr>
          <a:xfrm>
            <a:off x="0" y="3200400"/>
            <a:ext cx="449568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ren" descr=""/>
          <p:cNvPicPr/>
          <p:nvPr/>
        </p:nvPicPr>
        <p:blipFill>
          <a:blip r:embed="rId4"/>
          <a:stretch/>
        </p:blipFill>
        <p:spPr>
          <a:xfrm>
            <a:off x="4876920" y="3276720"/>
            <a:ext cx="39621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8195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049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09680" y="1219320"/>
            <a:ext cx="1152720" cy="1371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8120" y="2362320"/>
            <a:ext cx="228600" cy="228600"/>
          </a:xfrm>
          <a:prstGeom prst="irregularSeal2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133720"/>
            <a:ext cx="304920" cy="380880"/>
          </a:xfrm>
          <a:prstGeom prst="irregularSeal1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0"/>
            <a:ext cx="2514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3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Explan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12193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I need a new pair of shoes , this on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HERLDR1" descr=""/>
          <p:cNvPicPr/>
          <p:nvPr/>
        </p:nvPicPr>
        <p:blipFill>
          <a:blip r:embed="rId3"/>
          <a:stretch/>
        </p:blipFill>
        <p:spPr>
          <a:xfrm>
            <a:off x="6934320" y="2286000"/>
            <a:ext cx="1474560" cy="1967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28195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I am ver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ing the World Cup Match .(I  am so happy, I can’t help dancing in my roo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orn 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1040" y="281952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xcited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5200" y="4343400"/>
            <a:ext cx="661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_____ ____ _______ in the world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ish I will visit them all in some day in the fu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10800" y="430848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ces of  inter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191120" y="5181480"/>
            <a:ext cx="914400" cy="1676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7377120" y="4183200"/>
            <a:ext cx="1766880" cy="2674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5410080" y="4952880"/>
            <a:ext cx="1555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CITYSTR2" descr=""/>
          <p:cNvPicPr/>
          <p:nvPr/>
        </p:nvPicPr>
        <p:blipFill>
          <a:blip r:embed="rId1"/>
          <a:stretch/>
        </p:blipFill>
        <p:spPr>
          <a:xfrm>
            <a:off x="380880" y="0"/>
            <a:ext cx="7925040" cy="4229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71600" y="4419720"/>
            <a:ext cx="4952880" cy="914400"/>
          </a:xfrm>
          <a:prstGeom prst="rect">
            <a:avLst/>
          </a:prstGeom>
          <a:solidFill>
            <a:srgbClr val="ff66cc"/>
          </a:solidFill>
          <a:ln w="0">
            <a:noFill/>
          </a:ln>
          <a:effectLst>
            <a:outerShdw dist="17819" dir="2700000" blurRad="0" rotWithShape="0">
              <a:srgbClr val="98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7880" y="4524480"/>
            <a:ext cx="20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 Black"/>
              </a:rPr>
              <a:t>sho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3352680" cy="4724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629400" y="685800"/>
            <a:ext cx="16002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pap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743200" y="1447920"/>
            <a:ext cx="1828800" cy="396216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1676520" y="685800"/>
            <a:ext cx="2133360" cy="825480"/>
            <a:chOff x="1676520" y="685800"/>
            <a:chExt cx="2133360" cy="825480"/>
          </a:xfrm>
        </p:grpSpPr>
        <p:sp>
          <p:nvSpPr>
            <p:cNvPr id="91" name=""/>
            <p:cNvSpPr/>
            <p:nvPr/>
          </p:nvSpPr>
          <p:spPr>
            <a:xfrm>
              <a:off x="1676520" y="685800"/>
              <a:ext cx="2133360" cy="761760"/>
            </a:xfrm>
            <a:prstGeom prst="wedgeEllipseCallout">
              <a:avLst>
                <a:gd name="adj1" fmla="val 21356"/>
                <a:gd name="adj2" fmla="val 8145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6680" y="685800"/>
              <a:ext cx="159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‘d lik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piece of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10080" y="1066680"/>
            <a:ext cx="1600200" cy="3886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48320" y="2895480"/>
            <a:ext cx="2819160" cy="259092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售货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1218960" cy="295272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6705720" y="685800"/>
            <a:ext cx="1981080" cy="866880"/>
            <a:chOff x="6705720" y="685800"/>
            <a:chExt cx="1981080" cy="866880"/>
          </a:xfrm>
        </p:grpSpPr>
        <p:sp>
          <p:nvSpPr>
            <p:cNvPr id="97" name=""/>
            <p:cNvSpPr/>
            <p:nvPr/>
          </p:nvSpPr>
          <p:spPr>
            <a:xfrm>
              <a:off x="6705720" y="685800"/>
              <a:ext cx="1981080" cy="838080"/>
            </a:xfrm>
            <a:prstGeom prst="wedgeEllipseCallout">
              <a:avLst>
                <a:gd name="adj1" fmla="val -50402"/>
                <a:gd name="adj2" fmla="val 6988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17760" y="727200"/>
              <a:ext cx="159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at can I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 for you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286000" y="1447920"/>
            <a:ext cx="1371600" cy="914400"/>
            <a:chOff x="2286000" y="1447920"/>
            <a:chExt cx="1371600" cy="914400"/>
          </a:xfrm>
        </p:grpSpPr>
        <p:sp>
          <p:nvSpPr>
            <p:cNvPr id="100" name=""/>
            <p:cNvSpPr/>
            <p:nvPr/>
          </p:nvSpPr>
          <p:spPr>
            <a:xfrm>
              <a:off x="2286000" y="1447920"/>
              <a:ext cx="1371600" cy="914400"/>
            </a:xfrm>
            <a:prstGeom prst="cloudCallout">
              <a:avLst>
                <a:gd name="adj1" fmla="val 64467"/>
                <a:gd name="adj2" fmla="val 494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2590920" y="1600200"/>
              <a:ext cx="75060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553080" y="2590920"/>
            <a:ext cx="927360" cy="871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791320" y="2971800"/>
            <a:ext cx="7506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85800" y="0"/>
          <a:ext cx="31240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3124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800600" y="0"/>
          <a:ext cx="3276720" cy="33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0"/>
                    <a:ext cx="32767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80880" y="3276720"/>
          <a:ext cx="3505320" cy="335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276720"/>
                    <a:ext cx="35053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876920" y="3429000"/>
          <a:ext cx="3352680" cy="342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429000"/>
                    <a:ext cx="33526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160080" y="533520"/>
            <a:ext cx="5584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What can I do for you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I am looking for a d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What  kind of dress do you wa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I’d like a silk 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What size do you wa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Size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What about thi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No , I don’t like dark green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I like light b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How  about  this on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oh, so beautiful, Can I try it 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I like it , how much i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100 yu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All right , I ‘ll take i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0"/>
            <a:ext cx="167652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 Black"/>
              </a:rPr>
              <a:t>example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1295280"/>
          <a:ext cx="26668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26668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08:25:26Z</dcterms:created>
  <dc:creator>vicky</dc:creator>
  <dc:description/>
  <dc:language>en-US</dc:language>
  <cp:lastModifiedBy>aa</cp:lastModifiedBy>
  <dcterms:modified xsi:type="dcterms:W3CDTF">2003-06-28T02:39:57Z</dcterms:modified>
  <cp:revision>23</cp:revision>
  <dc:subject/>
  <dc:title>PowerPoint 演示文稿</dc:title>
</cp:coreProperties>
</file>