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FE39-F7A0-460B-BD73-2727CDE92B4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F80E-CDF5-4360-B6CD-8936E224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CBAB-3B64-4F37-AAD6-93E172EF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4F4F-C7A3-42EC-9E45-86902C64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1035-657B-4C85-858E-E66CCEC7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EC68-0FAC-4811-9D24-F20D0417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D64C-18CD-4453-9F90-1D24D295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6A67-85C9-4416-A460-D70ABF9A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D891-47B4-4068-823C-A722319E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0BBE-D11D-4AE2-81BF-729F76FC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BABF-B205-41AF-B43B-2D9C0C8C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19F2-42C5-4E3A-8954-77BFB0BA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89E-C144-4FBA-A737-E0D888D4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39CE-0632-4BBA-9DCC-C6B256436D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4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47920" y="1828800"/>
            <a:ext cx="624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are they talking abou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320040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ir plan for to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68680" y="1397160"/>
            <a:ext cx="117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1371600"/>
            <a:ext cx="6248160" cy="40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ad: ____ we buy some f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nd chips the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on: I think that’s a good ide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ad: Sure! And we’d __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ake our hats. The Su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s bu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5760" y="3530520"/>
            <a:ext cx="1348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t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57600" y="1143000"/>
            <a:ext cx="151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gy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2840" y="1981080"/>
            <a:ext cx="338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River N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8320" y="2666880"/>
            <a:ext cx="173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s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560" y="3581280"/>
            <a:ext cx="347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High D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5640" y="4572000"/>
            <a:ext cx="471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Times New Roman"/>
              </a:rPr>
              <a:t>Abu Simbel Te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1371600"/>
            <a:ext cx="56390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hat’s the relation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between the High D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and Abu Simbel Temp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86200"/>
            <a:ext cx="5562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 main idea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whole fil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905120" y="838080"/>
            <a:ext cx="6172200" cy="5050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12560" y="3352680"/>
            <a:ext cx="461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Abu Simbel Temple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on the edge of the Hi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D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1219320"/>
            <a:ext cx="571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hat’s the relation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between the High D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and Abu Simbel Temp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28800" y="35053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building of the Aswan High D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144792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 main idea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whole fil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81080" y="1752480"/>
            <a:ext cx="41911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Narrow"/>
                <a:ea typeface=""/>
              </a:rPr>
              <a:t>Why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"/>
              </a:rPr>
              <a:t>was the Hi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"/>
              </a:rPr>
              <a:t>Dam built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33720" y="1676520"/>
            <a:ext cx="5410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flood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large are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destroy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houses &amp; crop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control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 wat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ru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regular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produce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electric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2590920"/>
            <a:ext cx="5257800" cy="28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is built fo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1. controlling the wat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of the Ni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2. producing electric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114300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"/>
              </a:rPr>
              <a:t>Why was the High Dam built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47920" y="289548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y are talking about the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plan for their tri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14479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are they talking abou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717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71600" y="1447920"/>
            <a:ext cx="6477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dam, which is the biggest in the world, is _____ metres lo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t is ___ metres wide at the base and ___metres wide at the top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lake that has been made by the dam is about ___ kilometres lo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120" y="200988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,8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70160" y="253368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9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70520" y="31431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08440" y="421020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22600" y="1368360"/>
            <a:ext cx="292392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ere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roblem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057400" y="2133720"/>
            <a:ext cx="4495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o rise by 63 metr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o move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o date fro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o be in dang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33480" y="1371600"/>
            <a:ext cx="577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were the proble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133720"/>
            <a:ext cx="522900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 problems we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1. to move lots of peop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n this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tT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temples there w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n dang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600200" y="1371600"/>
          <a:ext cx="3048120" cy="201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371600"/>
                    <a:ext cx="304812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800600" y="1371600"/>
          <a:ext cx="3048120" cy="1981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371600"/>
                    <a:ext cx="3048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800600" y="3657600"/>
          <a:ext cx="3124080" cy="1892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657600"/>
                    <a:ext cx="312408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676520" y="3657600"/>
          <a:ext cx="2971800" cy="19051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657600"/>
                    <a:ext cx="2971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505320" y="1676520"/>
            <a:ext cx="290808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Verdana"/>
              </a:rPr>
              <a:t>Abu Simbel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447920" y="1066680"/>
          <a:ext cx="6248160" cy="4367160"/>
        </p:xfrm>
        <a:graphic>
          <a:graphicData uri="http://schemas.openxmlformats.org/drawingml/2006/table">
            <a:tbl>
              <a:tblPr/>
              <a:tblGrid>
                <a:gridCol w="1989000"/>
                <a:gridCol w="2200320"/>
                <a:gridCol w="2058840"/>
              </a:tblGrid>
              <a:tr h="620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ly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 it bi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ason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r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co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lem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5792760" y="1219320"/>
            <a:ext cx="17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an-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40480" y="1927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River N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21720" y="2666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00"/>
                </a:solidFill>
                <a:latin typeface="Times New Roman"/>
              </a:rPr>
              <a:t>19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2760" y="327672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5360" y="40384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4648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ove people &amp;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600560" y="1219320"/>
            <a:ext cx="422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pic sentenc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34290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in the middle of the paragraph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22096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t the beginning of the paragraph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46483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at the end of the para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152388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2514600"/>
            <a:ext cx="655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. P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90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 Ex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8160" y="1116000"/>
            <a:ext cx="26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86440" y="3657600"/>
            <a:ext cx="5766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 to search for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n the Three Gorges D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74120" y="2790720"/>
            <a:ext cx="597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y are going to go boat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on the River Nile, and then g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for a walk round Asw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13716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ir plan for to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28800" y="1219320"/>
            <a:ext cx="60199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r. Whi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visit the city of Asw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take a boat to the temp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go for a walk round Aswan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7400" y="1828800"/>
            <a:ext cx="502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rs. White: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do some sho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62320" y="1828800"/>
            <a:ext cx="510516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Pipp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take a boat on the Nile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08040" y="177336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2286000"/>
            <a:ext cx="54100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ob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 visit the High D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676520" y="1600200"/>
            <a:ext cx="5943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shall we do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aybe we could visit…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'd prefer/like to visit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an't we visit…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ou'd better take…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00200" y="1219320"/>
            <a:ext cx="61722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on: Where _____we eat ou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u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ad: Maybe we  ______  f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 restaurant near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a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on: I’d ____ to have a picni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6600" y="1219320"/>
            <a:ext cx="109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31000" y="2514600"/>
            <a:ext cx="1247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u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4840" y="4572000"/>
            <a:ext cx="891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7:04:02Z</dcterms:created>
  <dc:creator>GuoMei</dc:creator>
  <dc:description/>
  <dc:language>en-US</dc:language>
  <cp:lastModifiedBy>潘雪蓉</cp:lastModifiedBy>
  <dcterms:modified xsi:type="dcterms:W3CDTF">2003-06-03T02:22:11Z</dcterms:modified>
  <cp:revision>389</cp:revision>
  <dc:subject/>
  <dc:title>PowerPoint 演示文稿</dc:title>
</cp:coreProperties>
</file>