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523-6A1C-444B-A760-E6F63EC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4B8-22A9-4CDA-BF76-6A046D6A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192-6C27-44F8-B699-225C733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0E3-73A4-46F7-B076-3584555A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5E2-64AC-4F89-BC1E-C732F3F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A85-D136-4C02-92C6-60352925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883-16F3-4010-9FC8-AB3A10E5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BA7-889C-4CA4-A540-C2CC384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1C6-7C3E-4D27-9999-A9B6A46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804-F3DD-4758-931F-D1C0BA9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6CA-604D-42ED-92DC-7BD8991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6C2-71B9-4FB8-957C-14055F8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B4D-DB8E-4C6A-B822-5143CEEF5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440" y="262080"/>
            <a:ext cx="8207280" cy="19227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Unit 1 My name’s G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907920"/>
            <a:ext cx="7775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name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4280" y="83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4280" y="17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9080" y="2567160"/>
            <a:ext cx="33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eng  S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240" y="350208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Ci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66840" y="62064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My name is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Gina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789360"/>
            <a:ext cx="5039280" cy="274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your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my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Nice to meet you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很高兴认识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66120" y="620640"/>
            <a:ext cx="623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he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: Her name is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a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8640" y="2637000"/>
            <a:ext cx="567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: What’s his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: His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1240" y="4533840"/>
            <a:ext cx="4389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er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她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is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他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" name=""/>
          <p:cNvGraphicFramePr/>
          <p:nvPr/>
        </p:nvGraphicFramePr>
        <p:xfrm>
          <a:off x="255600" y="2781360"/>
          <a:ext cx="8637480" cy="1749240"/>
        </p:xfrm>
        <a:graphic>
          <a:graphicData uri="http://schemas.openxmlformats.org/drawingml/2006/table">
            <a:tbl>
              <a:tblPr/>
              <a:tblGrid>
                <a:gridCol w="2160360"/>
                <a:gridCol w="1619280"/>
                <a:gridCol w="1619280"/>
                <a:gridCol w="1619280"/>
                <a:gridCol w="1619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140360" y="3716280"/>
            <a:ext cx="14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640" y="177840"/>
            <a:ext cx="87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Task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了解小组成员的名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你可能会用到以下的对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What’s your name?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My name is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Spell it, please.       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G-I-N-A,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87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312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然后向全班介绍小组各成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例如：</a:t>
            </a:r>
            <a:r>
              <a:rPr b="1" lang="zh-CN" sz="4000" spc="-1" strike="noStrike">
                <a:solidFill>
                  <a:srgbClr val="660066"/>
                </a:solidFill>
                <a:latin typeface="Arial Narrow"/>
              </a:rPr>
              <a:t>My name is Alan. Her name is Gina. Her name is Alice. His name is J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15200" y="605808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" name=""/>
          <p:cNvGraphicFramePr/>
          <p:nvPr/>
        </p:nvGraphicFramePr>
        <p:xfrm>
          <a:off x="684360" y="3716280"/>
          <a:ext cx="7986600" cy="2808360"/>
        </p:xfrm>
        <a:graphic>
          <a:graphicData uri="http://schemas.openxmlformats.org/drawingml/2006/table">
            <a:tbl>
              <a:tblPr/>
              <a:tblGrid>
                <a:gridCol w="2087280"/>
                <a:gridCol w="1474920"/>
                <a:gridCol w="1474920"/>
                <a:gridCol w="1474560"/>
                <a:gridCol w="147492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e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is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284720" y="4508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58972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as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小组成员的名字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可能会听到以下的对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My name is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G-I-N-A,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50760" y="447840"/>
            <a:ext cx="75088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作业：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抄写词组和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you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e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you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is Gin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is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e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Nice to meet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19240"/>
            <a:ext cx="8207280" cy="10083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See you next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11:20Z</dcterms:created>
  <dc:creator>yanjun</dc:creator>
  <dc:description/>
  <dc:language>en-US</dc:language>
  <cp:lastModifiedBy>星沙英语网</cp:lastModifiedBy>
  <dcterms:modified xsi:type="dcterms:W3CDTF">2005-04-29T06:57:53Z</dcterms:modified>
  <cp:revision>8</cp:revision>
  <dc:subject/>
  <dc:title>幻灯片 1</dc:title>
</cp:coreProperties>
</file>