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9BF-F3E7-4CD2-9853-340BFB43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DA7-79FC-475A-B471-B67FAFC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658-DF20-4389-B4F0-ADC7DBC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454-5870-488E-BD38-745DA82C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0750-93A3-4DF6-A769-D439DCE9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D77-A5E9-405B-8396-EEDF18DF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6DF2-2DD4-488C-8EEB-ECB70054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4263-C34D-4536-9142-ED32489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661A-7464-4916-BC8A-6F0277DF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CF9B-22D7-48C8-983C-06AD8E1D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637D-F82C-431D-83E7-807AC0D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A2D-C63D-48EE-8F6C-1363657E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709-48D7-42AC-A3D0-CBDAEAF3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DEA6-7F91-44A1-A8D5-891A088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9BC-AF10-478F-8520-C6D72AD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99B7-F4F9-4413-BE29-03C2172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087C-D99A-4F36-B5FB-AF998CC6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B5B-AF01-4355-A666-C2A5776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9D1-A353-4A59-A14F-8C2E345B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09C-5FE5-49CD-BE8D-6F0BCC38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587-A1A3-4A4C-ACEE-ED7A7B85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9A9-74DB-4787-B8AE-9010C6E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829-E784-469A-8BE4-C20E858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27-E089-4256-B620-76AE6EC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2904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4F5B-9500-41F3-B151-AD170CD9601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C0D-F251-4694-A3CD-F0C869C5399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60199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2" action="ppaction://hlinksldjump"/>
              </a:rPr>
              <a:t>Pair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2051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3" action="ppaction://hlinksldjump"/>
              </a:rPr>
              <a:t>Gramma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1148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4" action="ppaction://hlinksldjump"/>
              </a:rPr>
              <a:t>Group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819520"/>
            <a:ext cx="167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5" action="ppaction://hlinksldjump"/>
              </a:rPr>
              <a:t>First&amp;La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Rounded MT Bold"/>
              </a:rPr>
              <a:t>Wor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434340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What’s your nam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Francisc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i,Mary.I’m J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ello.I’m M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y name’s Jen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57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I’m Gina.Nice t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　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eet you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295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What’s your name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828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Francisc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4131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i,Mary.I’m J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03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ello.I’m Mar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87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My name’s Jenn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370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I’m Gina.Nice to meet you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Pair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AMMAR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erlin Sans FB Demi"/>
              </a:rPr>
              <a:t>Questions &amp; Answer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you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11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is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s name’s To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8308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e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er name’s Gina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6668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438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My name’s Jenny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’m Jen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914400"/>
            <a:ext cx="3048120" cy="4191120"/>
          </a:xfrm>
          <a:prstGeom prst="cloudCallout">
            <a:avLst>
              <a:gd name="adj1" fmla="val -63856"/>
              <a:gd name="adj2" fmla="val 58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’m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 am 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33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First name &amp; last nam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Name = First name + Last na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1905120"/>
            <a:ext cx="7162920" cy="901440"/>
            <a:chOff x="3352680" y="1905120"/>
            <a:chExt cx="7162920" cy="901440"/>
          </a:xfrm>
        </p:grpSpPr>
        <p:sp>
          <p:nvSpPr>
            <p:cNvPr id="203" name=""/>
            <p:cNvSpPr/>
            <p:nvPr/>
          </p:nvSpPr>
          <p:spPr>
            <a:xfrm>
              <a:off x="3352680" y="22860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Arial Black"/>
                </a:rPr>
                <a:t>Given name     Family nam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674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86400" cy="356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oup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716200"/>
            <a:ext cx="9144000" cy="4141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To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Li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55008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K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3004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Ton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73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Lind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1916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Ben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Kat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Ben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77320" y="1981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Words &amp; expression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1430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me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字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称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誉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命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提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叫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指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据以取名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fir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首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初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优先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um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开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比赛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冠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5244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la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后来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鞋楦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e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y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我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03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们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is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他的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95280" y="457056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et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集会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适宜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合适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6872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ook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脸色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面容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表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i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朝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好象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显得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打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用眼神表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期待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380880"/>
            <a:ext cx="6019920" cy="914400"/>
            <a:chOff x="1143000" y="380880"/>
            <a:chExt cx="6019920" cy="914400"/>
          </a:xfrm>
        </p:grpSpPr>
        <p:sp>
          <p:nvSpPr>
            <p:cNvPr id="234" name=""/>
            <p:cNvSpPr/>
            <p:nvPr/>
          </p:nvSpPr>
          <p:spPr>
            <a:xfrm>
              <a:off x="2057400" y="5158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clock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时钟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143000" y="380880"/>
              <a:ext cx="8841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143000" y="1779480"/>
            <a:ext cx="8001000" cy="1116720"/>
            <a:chOff x="1143000" y="1779480"/>
            <a:chExt cx="8001000" cy="1116720"/>
          </a:xfrm>
        </p:grpSpPr>
        <p:sp>
          <p:nvSpPr>
            <p:cNvPr id="238" name=""/>
            <p:cNvSpPr/>
            <p:nvPr/>
          </p:nvSpPr>
          <p:spPr>
            <a:xfrm>
              <a:off x="2133720" y="1827000"/>
              <a:ext cx="7010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question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问题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疑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br>
                <a:rPr sz="2800"/>
              </a:b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v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审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怀疑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143000" y="177948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143000" y="3200400"/>
            <a:ext cx="8001000" cy="990360"/>
            <a:chOff x="1143000" y="3200400"/>
            <a:chExt cx="8001000" cy="990360"/>
          </a:xfrm>
        </p:grpSpPr>
        <p:sp>
          <p:nvSpPr>
            <p:cNvPr id="241" name=""/>
            <p:cNvSpPr/>
            <p:nvPr/>
          </p:nvSpPr>
          <p:spPr>
            <a:xfrm>
              <a:off x="2133720" y="335268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girl: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女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少女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143000" y="3200400"/>
              <a:ext cx="9907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143000" y="4648320"/>
            <a:ext cx="8001000" cy="1066680"/>
            <a:chOff x="1143000" y="4648320"/>
            <a:chExt cx="8001000" cy="10666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143000" y="4648320"/>
              <a:ext cx="94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33720" y="487692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boy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男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儿子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孩子气的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2:13:33Z</dcterms:created>
  <dc:creator>XuYing</dc:creator>
  <dc:description/>
  <dc:language>en-US</dc:language>
  <cp:lastModifiedBy>luomingjiang</cp:lastModifiedBy>
  <dcterms:modified xsi:type="dcterms:W3CDTF">2005-09-17T00:20:4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