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10.gif" ContentType="image/gif"/>
  <Override PartName="/ppt/media/cashreg.wav" ContentType="audio/x-wav"/>
  <Override PartName="/ppt/media/image5.gif" ContentType="image/gif"/>
  <Override PartName="/ppt/media/image4.gif" ContentType="image/gif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3.gif" ContentType="image/gif"/>
  <Override PartName="/ppt/media/image16.png" ContentType="image/png"/>
  <Override PartName="/ppt/media/chimes.wav" ContentType="audio/x-wav"/>
  <Override PartName="/ppt/media/image3.gif" ContentType="image/gi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41C4-906E-4A10-B047-5A1CF4F4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1C9-06F4-4616-8B61-5BC9600C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DA7-93B3-478A-82F9-926C4FEF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C02-5392-4F14-8541-75CE3277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B338-7FCA-404C-BDE3-37ACA463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231C-5776-4EE4-8E1D-5B476B34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5CE9-A002-467A-80E4-C0BFB308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564-FA6A-49D5-886A-61657B7A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FFF0-6961-499D-AA96-8A269C88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CAE2-E508-4494-81F2-97A8214E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4172-47EC-486D-BFE2-47F47032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F12-98FA-49A1-A56F-AC7289B8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BC3A-D481-4DB4-961D-22E10B81A8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10.gif"/><Relationship Id="rId30" Type="http://schemas.openxmlformats.org/officeDocument/2006/relationships/image" Target="../media/image5.gif"/><Relationship Id="rId31" Type="http://schemas.openxmlformats.org/officeDocument/2006/relationships/image" Target="../media/image9.gif"/><Relationship Id="rId32" Type="http://schemas.openxmlformats.org/officeDocument/2006/relationships/image" Target="../media/image8.gif"/><Relationship Id="rId33" Type="http://schemas.openxmlformats.org/officeDocument/2006/relationships/image" Target="../media/image7.gif"/><Relationship Id="rId34" Type="http://schemas.openxmlformats.org/officeDocument/2006/relationships/image" Target="../media/image11.gif"/><Relationship Id="rId35" Type="http://schemas.openxmlformats.org/officeDocument/2006/relationships/image" Target="../media/image11.gif"/><Relationship Id="rId36" Type="http://schemas.openxmlformats.org/officeDocument/2006/relationships/image" Target="../media/image11.gif"/><Relationship Id="rId37" Type="http://schemas.openxmlformats.org/officeDocument/2006/relationships/image" Target="../media/image11.gif"/><Relationship Id="rId38" Type="http://schemas.openxmlformats.org/officeDocument/2006/relationships/image" Target="../media/image11.gif"/><Relationship Id="rId39" Type="http://schemas.openxmlformats.org/officeDocument/2006/relationships/image" Target="../media/image11.gif"/><Relationship Id="rId40" Type="http://schemas.openxmlformats.org/officeDocument/2006/relationships/image" Target="../media/image11.gif"/><Relationship Id="rId41" Type="http://schemas.openxmlformats.org/officeDocument/2006/relationships/image" Target="../media/image11.gif"/><Relationship Id="rId42" Type="http://schemas.openxmlformats.org/officeDocument/2006/relationships/image" Target="../media/image11.gif"/><Relationship Id="rId43" Type="http://schemas.openxmlformats.org/officeDocument/2006/relationships/image" Target="../media/image6.gif"/><Relationship Id="rId44" Type="http://schemas.openxmlformats.org/officeDocument/2006/relationships/image" Target="../media/image12.png"/><Relationship Id="rId4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audio" Target="../media/camera.wav"/><Relationship Id="rId14" Type="http://schemas.openxmlformats.org/officeDocument/2006/relationships/audio" Target="../media/chimes.wav"/><Relationship Id="rId15" Type="http://schemas.openxmlformats.org/officeDocument/2006/relationships/audio" Target="../media/camera.wav"/><Relationship Id="rId16" Type="http://schemas.openxmlformats.org/officeDocument/2006/relationships/audio" Target="../media/chimes.wav"/><Relationship Id="rId17" Type="http://schemas.openxmlformats.org/officeDocument/2006/relationships/audio" Target="../media/camera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chimes.wav"/><Relationship Id="rId7" Type="http://schemas.openxmlformats.org/officeDocument/2006/relationships/audio" Target="../media/cashreg.wav"/><Relationship Id="rId8" Type="http://schemas.openxmlformats.org/officeDocument/2006/relationships/audio" Target="../media/chimes.wav"/><Relationship Id="rId9" Type="http://schemas.openxmlformats.org/officeDocument/2006/relationships/audio" Target="../media/cashreg.wav"/><Relationship Id="rId10" Type="http://schemas.openxmlformats.org/officeDocument/2006/relationships/audio" Target="../media/chimes.wav"/><Relationship Id="rId11" Type="http://schemas.openxmlformats.org/officeDocument/2006/relationships/audio" Target="../media/cashreg.wav"/><Relationship Id="rId12" Type="http://schemas.openxmlformats.org/officeDocument/2006/relationships/audio" Target="../media/chimes.wav"/><Relationship Id="rId13" Type="http://schemas.openxmlformats.org/officeDocument/2006/relationships/audio" Target="../media/cashreg.wav"/><Relationship Id="rId14" Type="http://schemas.openxmlformats.org/officeDocument/2006/relationships/audio" Target="../media/chimes.wav"/><Relationship Id="rId15" Type="http://schemas.openxmlformats.org/officeDocument/2006/relationships/audio" Target="../media/cashreg.wav"/><Relationship Id="rId16" Type="http://schemas.openxmlformats.org/officeDocument/2006/relationships/audio" Target="../media/chimes.wav"/><Relationship Id="rId17" Type="http://schemas.openxmlformats.org/officeDocument/2006/relationships/audio" Target="../media/cashreg.wav"/><Relationship Id="rId18" Type="http://schemas.openxmlformats.org/officeDocument/2006/relationships/audio" Target="../media/chimes.wav"/><Relationship Id="rId19" Type="http://schemas.openxmlformats.org/officeDocument/2006/relationships/audio" Target="../media/cashreg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5812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5029200"/>
            <a:ext cx="53341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35640" y="836640"/>
            <a:ext cx="417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cc00"/>
                </a:solidFill>
                <a:latin typeface="Times New Roman"/>
              </a:rPr>
              <a:t>   </a:t>
            </a:r>
            <a:r>
              <a:rPr b="1" i="1" lang="en-US" sz="6600" spc="-1" strike="noStrike">
                <a:solidFill>
                  <a:srgbClr val="ffcc00"/>
                </a:solidFill>
                <a:latin typeface="Times New Roman"/>
              </a:rPr>
              <a:t>Unit 1  Section 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161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-369720"/>
            <a:ext cx="8839080" cy="70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华文新魏"/>
                <a:ea typeface="华文新魏"/>
              </a:rPr>
              <a:t>Assignment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课后任务）</a:t>
            </a:r>
            <a:r>
              <a:rPr b="0" lang="zh-CN" sz="72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Copy new words three times and write numbers from zero to nine from memory 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抄写新单词五遍，会默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zer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个数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Make a dialogue with “ What’s your telephone number? It’s ….” as long as you can. 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“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’s your telephone number? It’s ….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用所学的英语编尽可能长的对话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Make an ID card for yourself.(Whose card is the most beautiful?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自己制作精美的名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赛谁的卡片最精致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A suggestion:Make an address note for class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建议班长组织制作班级同学通讯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 rot="162600">
            <a:off x="456840" y="5409720"/>
            <a:ext cx="7772400" cy="1676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5430b"/>
                    </a:gs>
                  </a:gsLst>
                  <a:path path="rect">
                    <a:fillToRect l="50000" t="50000" r="50000" b="50000"/>
                  </a:path>
                </a:gradFill>
                <a:latin typeface="华文行楷"/>
              </a:rPr>
              <a:t>Thank you! Goodby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5430b"/>
                  </a:gs>
                </a:gsLst>
                <a:path path="rect">
                  <a:fillToRect l="50000" t="50000" r="50000" b="50000"/>
                </a:path>
              </a:gradFill>
              <a:latin typeface="华文行楷"/>
              <a:ea typeface="华文行楷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7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38480" y="762120"/>
            <a:ext cx="846360" cy="106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811080" cy="134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52680" y="762120"/>
            <a:ext cx="968400" cy="121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886880" y="762120"/>
            <a:ext cx="1257120" cy="89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858000" y="762120"/>
            <a:ext cx="1257480" cy="89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629400" y="1447920"/>
            <a:ext cx="1257480" cy="89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09480" y="3124080"/>
            <a:ext cx="655920" cy="65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609480" y="3733920"/>
            <a:ext cx="655920" cy="655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0" y="3962520"/>
            <a:ext cx="655560" cy="65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0" y="3352680"/>
            <a:ext cx="655560" cy="65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1981080" y="3276720"/>
            <a:ext cx="606600" cy="84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286000" y="3886200"/>
            <a:ext cx="606600" cy="84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2362320" y="3352680"/>
            <a:ext cx="606240" cy="84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2743200" y="3962520"/>
            <a:ext cx="606600" cy="84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2743200" y="3429000"/>
            <a:ext cx="606600" cy="84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3657600" y="3809880"/>
            <a:ext cx="68724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4114800" y="3352680"/>
            <a:ext cx="66204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3657600" y="3429000"/>
            <a:ext cx="633240" cy="876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4267080" y="3809880"/>
            <a:ext cx="687600" cy="952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4800600" y="3733920"/>
            <a:ext cx="633240" cy="876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4572000" y="3352680"/>
            <a:ext cx="577800" cy="800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6019920" y="3429000"/>
            <a:ext cx="720720" cy="876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6400800" y="3276720"/>
            <a:ext cx="720720" cy="799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5791320" y="3733920"/>
            <a:ext cx="720720" cy="799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5"/>
          <a:stretch/>
        </p:blipFill>
        <p:spPr>
          <a:xfrm>
            <a:off x="6781680" y="3505320"/>
            <a:ext cx="720720" cy="799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6"/>
          <a:stretch/>
        </p:blipFill>
        <p:spPr>
          <a:xfrm>
            <a:off x="5867280" y="4114800"/>
            <a:ext cx="720720" cy="800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7"/>
          <a:stretch/>
        </p:blipFill>
        <p:spPr>
          <a:xfrm>
            <a:off x="6324480" y="3657600"/>
            <a:ext cx="8240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8"/>
          <a:stretch/>
        </p:blipFill>
        <p:spPr>
          <a:xfrm>
            <a:off x="6248520" y="4038480"/>
            <a:ext cx="720720" cy="800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9"/>
          <a:stretch/>
        </p:blipFill>
        <p:spPr>
          <a:xfrm>
            <a:off x="5029200" y="838080"/>
            <a:ext cx="1600200" cy="1203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0"/>
          <a:stretch/>
        </p:blipFill>
        <p:spPr>
          <a:xfrm>
            <a:off x="7886880" y="1447920"/>
            <a:ext cx="1257120" cy="896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1"/>
          <a:stretch/>
        </p:blipFill>
        <p:spPr>
          <a:xfrm>
            <a:off x="6858000" y="3886200"/>
            <a:ext cx="720720" cy="800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2"/>
          <a:stretch/>
        </p:blipFill>
        <p:spPr>
          <a:xfrm>
            <a:off x="4876920" y="3276720"/>
            <a:ext cx="577800" cy="799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3"/>
          <a:stretch/>
        </p:blipFill>
        <p:spPr>
          <a:xfrm>
            <a:off x="1905120" y="3809880"/>
            <a:ext cx="606240" cy="846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4"/>
          <a:stretch/>
        </p:blipFill>
        <p:spPr>
          <a:xfrm>
            <a:off x="73152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5"/>
          <a:stretch/>
        </p:blipFill>
        <p:spPr>
          <a:xfrm>
            <a:off x="75438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6"/>
          <a:stretch/>
        </p:blipFill>
        <p:spPr>
          <a:xfrm>
            <a:off x="7391520" y="373392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7"/>
          <a:stretch/>
        </p:blipFill>
        <p:spPr>
          <a:xfrm>
            <a:off x="77724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8"/>
          <a:stretch/>
        </p:blipFill>
        <p:spPr>
          <a:xfrm>
            <a:off x="80010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9"/>
          <a:stretch/>
        </p:blipFill>
        <p:spPr>
          <a:xfrm>
            <a:off x="82296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0"/>
          <a:stretch/>
        </p:blipFill>
        <p:spPr>
          <a:xfrm>
            <a:off x="7620120" y="373392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1"/>
          <a:stretch/>
        </p:blipFill>
        <p:spPr>
          <a:xfrm>
            <a:off x="7924680" y="373392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2"/>
          <a:stretch/>
        </p:blipFill>
        <p:spPr>
          <a:xfrm>
            <a:off x="8213760" y="3733920"/>
            <a:ext cx="93024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0512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tw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20574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thre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660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fou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3"/>
          <a:stretch/>
        </p:blipFill>
        <p:spPr>
          <a:xfrm>
            <a:off x="609480" y="4343400"/>
            <a:ext cx="685800" cy="579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105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fi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51055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si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51055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sev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51055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e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04000" y="5105520"/>
            <a:ext cx="14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n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12952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zer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2860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0" y="3123000"/>
            <a:ext cx="91440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nglish number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0      1     2       3       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91644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5      6      7       8      9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4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225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0"/>
            <a:ext cx="8229600" cy="6477120"/>
          </a:xfrm>
          <a:prstGeom prst="sun">
            <a:avLst>
              <a:gd name="adj" fmla="val 25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-45720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黑体"/>
                <a:ea typeface="黑体"/>
              </a:rPr>
              <a:t>nin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2133720"/>
            <a:ext cx="3962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ff"/>
                </a:solidFill>
                <a:latin typeface="黑体"/>
                <a:ea typeface="黑体"/>
              </a:rPr>
              <a:t>nine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黑体"/>
                <a:ea typeface="黑体"/>
              </a:rPr>
              <a:t>thre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2286000"/>
            <a:ext cx="3962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ff"/>
                </a:solidFill>
                <a:latin typeface="黑体"/>
                <a:ea typeface="黑体"/>
              </a:rPr>
              <a:t>three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06668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黑体"/>
                <a:ea typeface="黑体"/>
              </a:rPr>
              <a:t>fou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213372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four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88604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黑体"/>
                <a:ea typeface="黑体"/>
              </a:rPr>
              <a:t>fiv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20968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five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sev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2286000"/>
            <a:ext cx="396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seven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5268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tw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2209680"/>
            <a:ext cx="3962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two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11480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zer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220968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zero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80060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on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220968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one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56272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eigh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236232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eight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33720" y="685800"/>
            <a:ext cx="7010280" cy="4876920"/>
          </a:xfrm>
          <a:custGeom>
            <a:avLst/>
            <a:gdLst>
              <a:gd name="textAreaLeft" fmla="*/ 1647360 w 7010280"/>
              <a:gd name="textAreaRight" fmla="*/ 5357880 w 7010280"/>
              <a:gd name="textAreaTop" fmla="*/ 573120 h 4876920"/>
              <a:gd name="textAreaBottom" fmla="*/ 3059280 h 4876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276120"/>
            <a:ext cx="73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-2444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67680" y="68580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7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67680" y="144792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102240" y="2209680"/>
            <a:ext cx="192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60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102240" y="2971800"/>
            <a:ext cx="192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83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137160" y="3809880"/>
            <a:ext cx="250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452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171720" y="4648320"/>
            <a:ext cx="309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3219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06280" y="5546880"/>
            <a:ext cx="36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78663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14440" y="1752480"/>
            <a:ext cx="506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1084557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56920" y="1373040"/>
            <a:ext cx="10310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1523880"/>
            <a:ext cx="8618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1523880"/>
            <a:ext cx="19051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黑体"/>
                <a:ea typeface="黑体"/>
              </a:rPr>
              <a:t>74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53800" y="160020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1752480"/>
            <a:ext cx="208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60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02080" y="1600200"/>
            <a:ext cx="227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83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54120" y="177156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452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55160" y="1752480"/>
            <a:ext cx="367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3219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1752480"/>
            <a:ext cx="391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78663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97280" y="5546880"/>
            <a:ext cx="425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108455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198900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  <a:ea typeface="黑体"/>
              </a:rPr>
              <a:t>6371642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2060640"/>
            <a:ext cx="48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  <a:ea typeface="黑体"/>
              </a:rPr>
              <a:t>6371642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09480" y="914400"/>
            <a:ext cx="9144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--What’s your </a:t>
            </a:r>
            <a:r>
              <a:rPr b="1" lang="zh-CN" sz="7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phone number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, Li Xi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--It’s 281-9176 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6324480"/>
            <a:ext cx="920124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69960" y="12193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80880" y="1066680"/>
            <a:ext cx="218916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09880" y="914400"/>
            <a:ext cx="563904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RST NAM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ST NAM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ONE NU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1700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34290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51814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 3 7 1 6 4 2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ff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362320" y="1270080"/>
            <a:ext cx="4495680" cy="3406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743200" cy="2079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>
            <a:lum contrast="76000"/>
          </a:blip>
          <a:stretch/>
        </p:blipFill>
        <p:spPr>
          <a:xfrm>
            <a:off x="228600" y="3581280"/>
            <a:ext cx="2895480" cy="2219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095880" y="380880"/>
            <a:ext cx="2819520" cy="2136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943600" y="3581280"/>
            <a:ext cx="2895480" cy="2195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9480" y="6094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733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5335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1916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4724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961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0"/>
            <a:ext cx="9601200" cy="73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little, two little, three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ur little , five little ,six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ven little ,eight little , nine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n little India bo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n little, nine little, eight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ven little, six little, five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ur little, three little, two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little Indian bo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61912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1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05:34Z</dcterms:created>
  <dc:creator>初三办公室2(1)</dc:creator>
  <dc:description/>
  <dc:language>en-US</dc:language>
  <cp:lastModifiedBy>luomingjiang</cp:lastModifiedBy>
  <dcterms:modified xsi:type="dcterms:W3CDTF">2005-09-17T00:24:19Z</dcterms:modified>
  <cp:revision>50</cp:revision>
  <dc:subject/>
  <dc:title>PowerPoint 演示文稿</dc:title>
</cp:coreProperties>
</file>