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gif" ContentType="image/gif"/>
  <Override PartName="/ppt/media/image22.gif" ContentType="image/gif"/>
  <Override PartName="/ppt/media/image21.gif" ContentType="image/gif"/>
  <Override PartName="/ppt/media/image19.gif" ContentType="image/gif"/>
  <Override PartName="/ppt/media/image20.gif" ContentType="image/gif"/>
  <Override PartName="/ppt/media/image18.gif" ContentType="image/gif"/>
  <Override PartName="/ppt/media/image16.gif" ContentType="image/gif"/>
  <Override PartName="/ppt/media/image15.gif" ContentType="image/gif"/>
  <Override PartName="/ppt/media/image12.gif" ContentType="image/gif"/>
  <Override PartName="/ppt/media/carbrake.wav" ContentType="audio/x-wav"/>
  <Override PartName="/ppt/media/image11.gif" ContentType="image/gif"/>
  <Override PartName="/ppt/media/chimes.wav" ContentType="audio/x-wav"/>
  <Override PartName="/ppt/media/image13.gif" ContentType="image/gif"/>
  <Override PartName="/ppt/media/image7.gif" ContentType="image/gif"/>
  <Override PartName="/ppt/media/image8.gif" ContentType="image/gif"/>
  <Override PartName="/ppt/media/image14.gif" ContentType="image/gif"/>
  <Override PartName="/ppt/media/image9.gif" ContentType="image/gif"/>
  <Override PartName="/ppt/media/image26.gif" ContentType="image/gif"/>
  <Override PartName="/ppt/media/image3.gif" ContentType="image/gif"/>
  <Override PartName="/ppt/media/image28.gif" ContentType="image/gif"/>
  <Override PartName="/ppt/media/image30.gif" ContentType="image/gif"/>
  <Override PartName="/ppt/media/image29.gif" ContentType="image/gif"/>
  <Override PartName="/ppt/media/image31.gif" ContentType="image/gif"/>
  <Override PartName="/ppt/media/image34.gif" ContentType="image/gif"/>
  <Override PartName="/ppt/media/image33.jpeg" ContentType="image/jpeg"/>
  <Override PartName="/ppt/media/image5.gif" ContentType="image/gif"/>
  <Override PartName="/ppt/media/image35.gif" ContentType="image/gif"/>
  <Override PartName="/ppt/media/image4.png" ContentType="image/png"/>
  <Override PartName="/ppt/media/image24.gif" ContentType="image/gif"/>
  <Override PartName="/ppt/media/camera.wav" ContentType="audio/x-wav"/>
  <Override PartName="/ppt/media/image17.gif" ContentType="image/gif"/>
  <Override PartName="/ppt/media/image32.gif" ContentType="image/gif"/>
  <Override PartName="/ppt/media/image2.gif" ContentType="image/gif"/>
  <Override PartName="/ppt/media/type.wav" ContentType="audio/x-wav"/>
  <Override PartName="/ppt/media/image6.jpeg" ContentType="image/jpeg"/>
  <Override PartName="/ppt/media/image25.gif" ContentType="image/gif"/>
  <Override PartName="/ppt/media/whoosh.wav" ContentType="audio/x-wav"/>
  <Override PartName="/ppt/media/image27.gif" ContentType="image/gif"/>
  <Override PartName="/ppt/media/image10.png" ContentType="image/png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10965-7FFC-412F-A606-CF040C6AB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FEA2A-EFC8-4FE3-9D02-10165251C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3D4C2-9297-4C40-9AA3-F5321ECAB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B7078-D430-4E27-B17D-92CCCA4D7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D29A1-B078-447E-BF6F-C1871CC82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E3145-D292-4F0D-AA30-9BE0CBEE3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C3126-6184-4E03-8839-F4C8ADD13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B640F-D2B0-461A-9064-631B6C7A6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9A6E7-5956-4A7E-8514-5E63B554F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23431-7E14-472B-9AC7-21F2C8E22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1BF6D-0398-4F6F-9C42-EACF34560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F1A32-1477-4F02-99F7-2AC058375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D3C20-24C6-411F-A4CC-6CF2ABE260A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gif"/><Relationship Id="rId3" Type="http://schemas.openxmlformats.org/officeDocument/2006/relationships/audio" Target="../media/chimes.wav"/><Relationship Id="rId4" Type="http://schemas.openxmlformats.org/officeDocument/2006/relationships/audio" Target="../media/camera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type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gif"/><Relationship Id="rId3" Type="http://schemas.openxmlformats.org/officeDocument/2006/relationships/image" Target="../media/image8.gif"/><Relationship Id="rId4" Type="http://schemas.openxmlformats.org/officeDocument/2006/relationships/image" Target="../media/image9.gif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audio" Target="../media/chimes.wav"/><Relationship Id="rId13" Type="http://schemas.openxmlformats.org/officeDocument/2006/relationships/audio" Target="../media/chimes.wav"/><Relationship Id="rId14" Type="http://schemas.openxmlformats.org/officeDocument/2006/relationships/audio" Target="../media/chimes.wav"/><Relationship Id="rId15" Type="http://schemas.openxmlformats.org/officeDocument/2006/relationships/audio" Target="../media/chimes.wav"/><Relationship Id="rId16" Type="http://schemas.openxmlformats.org/officeDocument/2006/relationships/audio" Target="../media/chimes.wav"/><Relationship Id="rId17" Type="http://schemas.openxmlformats.org/officeDocument/2006/relationships/audio" Target="../media/chimes.wav"/><Relationship Id="rId1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gif"/><Relationship Id="rId3" Type="http://schemas.openxmlformats.org/officeDocument/2006/relationships/image" Target="../media/image12.gif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image" Target="../media/image15.gif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whoosh.wav"/><Relationship Id="rId12" Type="http://schemas.openxmlformats.org/officeDocument/2006/relationships/audio" Target="../media/chimes.wav"/><Relationship Id="rId13" Type="http://schemas.openxmlformats.org/officeDocument/2006/relationships/audio" Target="../media/chimes.wav"/><Relationship Id="rId14" Type="http://schemas.openxmlformats.org/officeDocument/2006/relationships/audio" Target="../media/chimes.wav"/><Relationship Id="rId15" Type="http://schemas.openxmlformats.org/officeDocument/2006/relationships/audio" Target="../media/chimes.wav"/><Relationship Id="rId16" Type="http://schemas.openxmlformats.org/officeDocument/2006/relationships/audio" Target="../media/chimes.wav"/><Relationship Id="rId17" Type="http://schemas.openxmlformats.org/officeDocument/2006/relationships/audio" Target="../media/chimes.wav"/><Relationship Id="rId1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7.gif"/><Relationship Id="rId3" Type="http://schemas.openxmlformats.org/officeDocument/2006/relationships/image" Target="../media/image18.gif"/><Relationship Id="rId4" Type="http://schemas.openxmlformats.org/officeDocument/2006/relationships/image" Target="../media/image19.gif"/><Relationship Id="rId5" Type="http://schemas.openxmlformats.org/officeDocument/2006/relationships/image" Target="../media/image20.gif"/><Relationship Id="rId6" Type="http://schemas.openxmlformats.org/officeDocument/2006/relationships/image" Target="../media/image21.gif"/><Relationship Id="rId7" Type="http://schemas.openxmlformats.org/officeDocument/2006/relationships/image" Target="../media/image22.gif"/><Relationship Id="rId8" Type="http://schemas.openxmlformats.org/officeDocument/2006/relationships/image" Target="../media/image23.gif"/><Relationship Id="rId9" Type="http://schemas.openxmlformats.org/officeDocument/2006/relationships/image" Target="../media/image24.gif"/><Relationship Id="rId10" Type="http://schemas.openxmlformats.org/officeDocument/2006/relationships/image" Target="../media/image25.gif"/><Relationship Id="rId11" Type="http://schemas.openxmlformats.org/officeDocument/2006/relationships/image" Target="../media/image26.gif"/><Relationship Id="rId12" Type="http://schemas.openxmlformats.org/officeDocument/2006/relationships/image" Target="../media/image27.gif"/><Relationship Id="rId13" Type="http://schemas.openxmlformats.org/officeDocument/2006/relationships/image" Target="../media/image28.gif"/><Relationship Id="rId14" Type="http://schemas.openxmlformats.org/officeDocument/2006/relationships/audio" Target="../media/chimes.wav"/><Relationship Id="rId15" Type="http://schemas.openxmlformats.org/officeDocument/2006/relationships/audio" Target="../media/chimes.wav"/><Relationship Id="rId16" Type="http://schemas.openxmlformats.org/officeDocument/2006/relationships/audio" Target="../media/chimes.wav"/><Relationship Id="rId1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9.gif"/><Relationship Id="rId2" Type="http://schemas.openxmlformats.org/officeDocument/2006/relationships/image" Target="../media/image30.gif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carbrake.wav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1.gif"/><Relationship Id="rId2" Type="http://schemas.openxmlformats.org/officeDocument/2006/relationships/image" Target="../media/image32.gif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gif"/><Relationship Id="rId3" Type="http://schemas.openxmlformats.org/officeDocument/2006/relationships/image" Target="../media/image35.gi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695160" y="-81000"/>
            <a:ext cx="10534320" cy="73962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523880" y="685800"/>
            <a:ext cx="1143000" cy="533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6781680" y="2590920"/>
            <a:ext cx="762120" cy="4032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673280" y="1600200"/>
            <a:ext cx="51548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            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Unit  1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My name’s Gina . 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228600" y="5334120"/>
            <a:ext cx="6705720" cy="11412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453600" y="2092320"/>
            <a:ext cx="4293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0066"/>
                </a:solidFill>
                <a:latin typeface="Times New Roman"/>
              </a:rPr>
              <a:t>（   ）</a:t>
            </a:r>
            <a:r>
              <a:rPr b="0" lang="zh-CN" sz="2400" spc="-1" strike="noStrike">
                <a:solidFill>
                  <a:srgbClr val="cc0066"/>
                </a:solidFill>
                <a:latin typeface="Times New Roman"/>
              </a:rPr>
              <a:t>1. Hello !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0066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cc0066"/>
                </a:solidFill>
                <a:latin typeface="Times New Roman"/>
              </a:rPr>
              <a:t>(    )  2. Good evening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0066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cc0066"/>
                </a:solidFill>
                <a:latin typeface="Times New Roman"/>
              </a:rPr>
              <a:t>(    )  3. Good morn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0066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cc0066"/>
                </a:solidFill>
                <a:latin typeface="Times New Roman"/>
              </a:rPr>
              <a:t>(    )  4. How are you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0066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cc0066"/>
                </a:solidFill>
                <a:latin typeface="Times New Roman"/>
              </a:rPr>
              <a:t>(    )  5. Spell your name, plea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0066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cc0066"/>
                </a:solidFill>
                <a:latin typeface="Times New Roman"/>
              </a:rPr>
              <a:t>(    )  6. What color is it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0066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cc0066"/>
                </a:solidFill>
                <a:latin typeface="Times New Roman"/>
              </a:rPr>
              <a:t>(    )  7. What is this in English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0066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cc0066"/>
                </a:solidFill>
                <a:latin typeface="Times New Roman"/>
              </a:rPr>
              <a:t>(    )  8. What’s your name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256000" y="2057400"/>
            <a:ext cx="32072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cc0066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66"/>
                </a:solidFill>
                <a:latin typeface="Times New Roman"/>
              </a:rPr>
              <a:t>Good morning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cc0066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66"/>
                </a:solidFill>
                <a:latin typeface="Times New Roman"/>
              </a:rPr>
              <a:t>It’s black and white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cc0066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66"/>
                </a:solidFill>
                <a:latin typeface="Times New Roman"/>
              </a:rPr>
              <a:t>J—A—C—K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cc0066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66"/>
                </a:solidFill>
                <a:latin typeface="Times New Roman"/>
              </a:rPr>
              <a:t>It’s an orange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cc0066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66"/>
                </a:solidFill>
                <a:latin typeface="Times New Roman"/>
              </a:rPr>
              <a:t>Hi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cc0066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66"/>
                </a:solidFill>
                <a:latin typeface="Times New Roman"/>
              </a:rPr>
              <a:t>I’m fine, thank you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cc0066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66"/>
                </a:solidFill>
                <a:latin typeface="Times New Roman"/>
              </a:rPr>
              <a:t>Good evening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cc0066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66"/>
                </a:solidFill>
                <a:latin typeface="Times New Roman"/>
              </a:rPr>
              <a:t>My name is Gina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35600" y="498600"/>
            <a:ext cx="839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66"/>
                </a:solidFill>
                <a:latin typeface="Times New Roman"/>
              </a:rPr>
              <a:t>Task 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66"/>
                </a:solidFill>
                <a:latin typeface="Times New Roman"/>
              </a:rPr>
              <a:t>Find proper responses in Column B for each sentence in Column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883520" y="15652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396120" y="15652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63560" y="205740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64280" y="24796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40520" y="28195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63920" y="32004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48080" y="35812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57440" y="39625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64280" y="43434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64280" y="47242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1295280" y="2209680"/>
            <a:ext cx="1600200" cy="10558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533520" y="3429000"/>
            <a:ext cx="1676160" cy="9428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2895480" y="914400"/>
            <a:ext cx="510084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: Hello, Nem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: _____, Dory.  ___ are you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: I’m ____, thank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d how are _____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: ____ fine, ______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: What’s ____  ____ English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: ____  a  ____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: ____ _____ is i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: It is ____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7315200" y="5410080"/>
            <a:ext cx="838080" cy="83844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3811320" y="1285920"/>
            <a:ext cx="97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Hell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793840" y="1362240"/>
            <a:ext cx="94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Ho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22320" y="1766880"/>
            <a:ext cx="73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944320" y="2200320"/>
            <a:ext cx="71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yo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951360" y="2604960"/>
            <a:ext cx="77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I’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699880" y="2581200"/>
            <a:ext cx="63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to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05880" y="3038400"/>
            <a:ext cx="69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th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157440" y="3038400"/>
            <a:ext cx="45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963960" y="3900600"/>
            <a:ext cx="74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It’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258880" y="3900600"/>
            <a:ext cx="69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k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811320" y="4357800"/>
            <a:ext cx="103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Wha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801680" y="4357800"/>
            <a:ext cx="91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col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20800" y="4791240"/>
            <a:ext cx="114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yell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17320" y="271440"/>
            <a:ext cx="138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Task 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1676520"/>
            <a:ext cx="1981080" cy="213336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380160" y="304920"/>
            <a:ext cx="645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Complete the conversations after the mode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       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根据示例完成对话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885760" y="1285920"/>
            <a:ext cx="5322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Model :   A: What’s his name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              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B: His name is Yao M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7543800" y="2743200"/>
            <a:ext cx="1328760" cy="16002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2576160" y="2657520"/>
            <a:ext cx="4838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A:  ____ her name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B: __________ Dais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734640" y="2590920"/>
            <a:ext cx="120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hat’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964680" y="3114720"/>
            <a:ext cx="189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Her name 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581280" y="4768920"/>
            <a:ext cx="5356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2.  A:  ________________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B: __________ Father Christ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1600200" y="4114800"/>
            <a:ext cx="1646280" cy="152388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4785120" y="4714920"/>
            <a:ext cx="256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hat’s his na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97480" y="5172120"/>
            <a:ext cx="185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His name 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2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04920" y="228600"/>
            <a:ext cx="861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Look at the pictures and fill in the blanks.(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看图完成对话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914400" y="1295280"/>
            <a:ext cx="773280" cy="17528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1905120" y="1447920"/>
            <a:ext cx="1143000" cy="16002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915480" y="3124080"/>
            <a:ext cx="80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Li Le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969200" y="3108240"/>
            <a:ext cx="107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Han Me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645360" y="1295280"/>
            <a:ext cx="54475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Li :  Hi, my name is Li Lei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What’s ____ nam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Han: ___ Han Mei. ___ to meet you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Li :  Nice to ____ you, Han Mei. D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you know my father(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父亲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Han : What’s ____ nam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Li :  ___ name ___ Li Mali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486400" y="1676520"/>
            <a:ext cx="97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you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421520" y="2147760"/>
            <a:ext cx="69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I’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402960" y="2147760"/>
            <a:ext cx="93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i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472360" y="2529000"/>
            <a:ext cx="86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me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699880" y="3429000"/>
            <a:ext cx="59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h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340520" y="3809880"/>
            <a:ext cx="76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Hi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005160" y="3809880"/>
            <a:ext cx="41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7238880" y="5105520"/>
            <a:ext cx="1219320" cy="109512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838800" y="4419720"/>
            <a:ext cx="62614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n : Look! ____ is his nam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 : Sun Wuko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n : Oh, great. Wukong is his ____ na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Sun is his ____ nam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592000" y="4410000"/>
            <a:ext cx="103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Wha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471280" y="5248440"/>
            <a:ext cx="67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la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871080" y="5653080"/>
            <a:ext cx="75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r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257080" y="5272200"/>
            <a:ext cx="196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___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93680" y="5705640"/>
            <a:ext cx="178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__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218320" y="3581280"/>
            <a:ext cx="67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66"/>
                </a:solidFill>
                <a:latin typeface="Times New Roman"/>
              </a:rPr>
              <a:t>gir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991440" y="3571920"/>
            <a:ext cx="71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66"/>
                </a:solidFill>
                <a:latin typeface="Times New Roman"/>
              </a:rPr>
              <a:t>bo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6781680" y="1143000"/>
            <a:ext cx="914400" cy="52236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1066680" y="1295280"/>
            <a:ext cx="822600" cy="8226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1676520" y="2590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4"/>
          <a:stretch/>
        </p:blipFill>
        <p:spPr>
          <a:xfrm>
            <a:off x="2666880" y="16765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5"/>
          <a:stretch/>
        </p:blipFill>
        <p:spPr>
          <a:xfrm>
            <a:off x="4191120" y="12193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6"/>
          <a:stretch/>
        </p:blipFill>
        <p:spPr>
          <a:xfrm>
            <a:off x="5638680" y="17524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7"/>
          <a:stretch/>
        </p:blipFill>
        <p:spPr>
          <a:xfrm>
            <a:off x="6553080" y="251460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8"/>
          <a:stretch/>
        </p:blipFill>
        <p:spPr>
          <a:xfrm>
            <a:off x="5791320" y="35053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9"/>
          <a:stretch/>
        </p:blipFill>
        <p:spPr>
          <a:xfrm>
            <a:off x="4648320" y="434340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10"/>
          <a:stretch/>
        </p:blipFill>
        <p:spPr>
          <a:xfrm>
            <a:off x="3352680" y="42670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11"/>
          <a:stretch/>
        </p:blipFill>
        <p:spPr>
          <a:xfrm>
            <a:off x="2133720" y="365760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12"/>
          <a:stretch/>
        </p:blipFill>
        <p:spPr>
          <a:xfrm>
            <a:off x="7162920" y="4648320"/>
            <a:ext cx="1295280" cy="16002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2270520" y="2914560"/>
            <a:ext cx="77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973240" y="2147760"/>
            <a:ext cx="71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tw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060440" y="1743120"/>
            <a:ext cx="89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th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167080" y="2133720"/>
            <a:ext cx="77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ou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427440" y="3062160"/>
            <a:ext cx="73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650560" y="4052880"/>
            <a:ext cx="59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i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20800" y="4890960"/>
            <a:ext cx="99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ev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277080" y="4876920"/>
            <a:ext cx="89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eig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743920" y="3824280"/>
            <a:ext cx="79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300800" y="4019400"/>
            <a:ext cx="519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3"/>
          <a:stretch/>
        </p:blipFill>
        <p:spPr>
          <a:xfrm>
            <a:off x="3809880" y="2666880"/>
            <a:ext cx="1295640" cy="97164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4115160" y="3382920"/>
            <a:ext cx="88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ze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719280" y="425520"/>
            <a:ext cx="141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ask 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65120" y="609480"/>
            <a:ext cx="372960" cy="30492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1170720" y="1066680"/>
            <a:ext cx="66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Do you know these numbers?(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你知道这些号码吗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?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02200" y="1967040"/>
            <a:ext cx="61041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气象查询电话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________________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电话号码查号台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______________ 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火警报警电话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________________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医疗急救电话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________________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报警电话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____________________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3733920" y="4876920"/>
            <a:ext cx="1523880" cy="129852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4267440" y="1981080"/>
            <a:ext cx="260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121 one-two-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632480" y="2514600"/>
            <a:ext cx="266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114 one-one-fou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481640" y="2986200"/>
            <a:ext cx="268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119 one-one-n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461840" y="3505320"/>
            <a:ext cx="27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120 one-two-z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870720" y="3952800"/>
            <a:ext cx="268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110 one-one-z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1174320" y="609480"/>
            <a:ext cx="631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Let’s read these numbers.(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朗读这些数词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975240" y="1295280"/>
            <a:ext cx="107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5973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033000" y="1295280"/>
            <a:ext cx="89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236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013360" y="1295280"/>
            <a:ext cx="125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80653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994800" y="1295280"/>
            <a:ext cx="107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6021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984600" y="1905120"/>
            <a:ext cx="107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2655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048480" y="1905120"/>
            <a:ext cx="107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9461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023080" y="1905120"/>
            <a:ext cx="107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0548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010640" y="1905120"/>
            <a:ext cx="107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2589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4000" y="2452680"/>
            <a:ext cx="55634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Can you solve the addition problem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            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你会做下列加法题吗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?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）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811800" y="3495600"/>
            <a:ext cx="758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Example (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例如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):  --What’s six and one? –It’s seve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050840" y="4267080"/>
            <a:ext cx="6013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33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–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hat’s two and three?  –It’s 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33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--What’s zero and nine?  –It’s 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33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--What’s four and three? --It’s 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33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--What’s one and seven? –It’s 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7696080" y="4495680"/>
            <a:ext cx="892440" cy="182880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7086600" y="4114800"/>
            <a:ext cx="1295280" cy="114300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6005160" y="4257720"/>
            <a:ext cx="73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004800" y="4648320"/>
            <a:ext cx="79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944680" y="5119560"/>
            <a:ext cx="99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ev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964840" y="5500800"/>
            <a:ext cx="89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eig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1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-304920" y="-304920"/>
            <a:ext cx="9753840" cy="769644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6248520" y="5105520"/>
            <a:ext cx="1017360" cy="124596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3"/>
          <a:stretch/>
        </p:blipFill>
        <p:spPr>
          <a:xfrm>
            <a:off x="228600" y="2438280"/>
            <a:ext cx="903240" cy="89244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 txBox="1"/>
          <p:nvPr/>
        </p:nvSpPr>
        <p:spPr>
          <a:xfrm>
            <a:off x="1905120" y="0"/>
            <a:ext cx="5867280" cy="426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宋体"/>
              </a:rPr>
              <a:t>Goodbye !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6T05:10:11Z</dcterms:created>
  <dc:creator>hgp</dc:creator>
  <dc:description/>
  <dc:language>en-US</dc:language>
  <cp:lastModifiedBy>luomingjiang</cp:lastModifiedBy>
  <dcterms:modified xsi:type="dcterms:W3CDTF">2005-09-17T00:22:45Z</dcterms:modified>
  <cp:revision>10</cp:revision>
  <dc:subject/>
  <dc:title>PowerPoint 演示文稿</dc:title>
</cp:coreProperties>
</file>