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6.png" ContentType="image/png"/>
  <Override PartName="/ppt/media/image13.wmf" ContentType="image/x-wmf"/>
  <Override PartName="/ppt/media/image8.jpeg" ContentType="image/jpeg"/>
  <Override PartName="/ppt/media/image35.jpeg" ContentType="image/jpeg"/>
  <Override PartName="/ppt/media/image30.wmf" ContentType="image/x-wmf"/>
  <Override PartName="/ppt/media/image34.wmf" ContentType="image/x-wmf"/>
  <Override PartName="/ppt/media/image38.gif" ContentType="image/gif"/>
  <Override PartName="/ppt/media/image40.gif" ContentType="image/gif"/>
  <Override PartName="/ppt/media/image36.wmf" ContentType="image/x-wmf"/>
  <Override PartName="/ppt/media/image39.gif" ContentType="image/gif"/>
  <Override PartName="/ppt/media/image41.gif" ContentType="image/gif"/>
  <Override PartName="/ppt/media/image42.gif" ContentType="image/gif"/>
  <Override PartName="/ppt/media/image43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12.wmf" ContentType="image/x-wmf"/>
  <Override PartName="/ppt/media/image28.wmf" ContentType="image/x-wmf"/>
  <Override PartName="/ppt/media/image37.jpeg" ContentType="image/jpeg"/>
  <Override PartName="/ppt/media/image3.wmf" ContentType="image/x-wmf"/>
  <Override PartName="/ppt/media/image33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9.jpeg" ContentType="image/jpeg"/>
  <Override PartName="/ppt/media/image1.wmf" ContentType="image/x-wmf"/>
  <Override PartName="/ppt/media/image7.jpeg" ContentType="image/jpeg"/>
  <Override PartName="/ppt/media/image3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D2D-359F-4FA5-AD7D-E517E6DB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135-5C30-4817-8B37-9E42650B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8DA-D611-4BDF-9A64-4271FA34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6BC-9246-49C8-B34B-27954F67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D6B-A490-4B29-8F1D-88CB88F8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859-4909-4555-B7AB-E5E50C8A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72F-C1ED-4AB2-9063-046C3ED8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0F7-6337-46A8-8539-E00D4B47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946-A51C-4D99-B371-56DF85FF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C85-14B0-4F46-96ED-0BC0A075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C67-A02C-49F1-9DF8-0C8932CF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4A5-7456-4A9C-A78C-BDDC776A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636B-87F7-4A40-93FD-85CD5F614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18.xml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9.gif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image" Target="../media/image41.gif"/><Relationship Id="rId7" Type="http://schemas.openxmlformats.org/officeDocument/2006/relationships/image" Target="../media/image41.gif"/><Relationship Id="rId8" Type="http://schemas.openxmlformats.org/officeDocument/2006/relationships/image" Target="../media/image41.gif"/><Relationship Id="rId9" Type="http://schemas.openxmlformats.org/officeDocument/2006/relationships/image" Target="../media/image41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5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905120"/>
            <a:ext cx="419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Unit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Revi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029200"/>
            <a:ext cx="190476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952880"/>
            <a:ext cx="160020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814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Black"/>
              </a:rPr>
              <a:t>Word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Black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5029200"/>
            <a:ext cx="152388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8240" y="5278320"/>
            <a:ext cx="1390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1" action="ppaction://hlinksldjump"/>
              </a:rPr>
              <a:t>Shopping</a:t>
            </a:r>
            <a:r>
              <a:rPr b="0" lang="en-US" sz="2000" spc="-1" strike="noStrike" u="sng">
                <a:solidFill>
                  <a:srgbClr val="ccffcc"/>
                </a:solidFill>
                <a:uFillTx/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5105520"/>
            <a:ext cx="1627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2" action="ppaction://hlinksldjump"/>
              </a:rPr>
              <a:t>Text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4952880"/>
            <a:ext cx="144756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84520" y="5278320"/>
            <a:ext cx="872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4" action="ppaction://hlinksldjump"/>
              </a:rPr>
              <a:t>po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52680" y="0"/>
            <a:ext cx="579132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can I do for you ?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 am looking for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a dress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 kind of dress do you w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’d like a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silk 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size do you w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Siz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about thi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No , I don’t like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dark green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I like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light blue</a:t>
            </a:r>
            <a:r>
              <a:rPr b="1" lang="zh-CN" sz="1600" spc="-1" strike="noStrike" u="sng">
                <a:solidFill>
                  <a:srgbClr val="0099ff"/>
                </a:solidFill>
                <a:uFillTx/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How  about  this on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oh, so beautiful, Can I try 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it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 like it , how much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100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yua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All right , I ‘ll take it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04920" y="0"/>
          <a:ext cx="35211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0"/>
                    <a:ext cx="35211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304920"/>
            <a:ext cx="6858000" cy="914400"/>
          </a:xfrm>
          <a:prstGeom prst="rect">
            <a:avLst/>
          </a:prstGeom>
          <a:solidFill>
            <a:srgbClr val="ff7c80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How to  go shopping onl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71800" y="2286000"/>
            <a:ext cx="23432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comp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352680" y="2962440"/>
            <a:ext cx="167184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PMingLiU"/>
              </a:rPr>
              <a:t>mod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PMingLiU"/>
              <a:ea typeface="PMingLiU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90920" y="4267080"/>
            <a:ext cx="2886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elephone l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6021360"/>
            <a:ext cx="2057400" cy="593640"/>
            <a:chOff x="1219320" y="6021360"/>
            <a:chExt cx="2057400" cy="593640"/>
          </a:xfrm>
        </p:grpSpPr>
        <p:sp>
          <p:nvSpPr>
            <p:cNvPr id="124" name=""/>
            <p:cNvSpPr/>
            <p:nvPr/>
          </p:nvSpPr>
          <p:spPr>
            <a:xfrm>
              <a:off x="1219320" y="6095880"/>
              <a:ext cx="2057400" cy="5191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7200" y="6021360"/>
              <a:ext cx="178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cc"/>
                  </a:solidFill>
                  <a:latin typeface="Arial Black"/>
                </a:rPr>
                <a:t>Websi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1523880"/>
            <a:ext cx="373356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You must have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OMPUTR2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3962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31880" y="5992920"/>
            <a:ext cx="28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Black"/>
              </a:rPr>
              <a:t>How to  do next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HOPPER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33720" y="304920"/>
            <a:ext cx="4572000" cy="52056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Search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600200"/>
            <a:ext cx="5943600" cy="60948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Find the ads which you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2743200"/>
            <a:ext cx="5486400" cy="5335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Check out th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3886200"/>
            <a:ext cx="6858000" cy="60948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Choose the shape and size you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181480"/>
            <a:ext cx="7924680" cy="68580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Fill  in the form and credit card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380880"/>
            <a:ext cx="6858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676520"/>
            <a:ext cx="657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2666880"/>
            <a:ext cx="6238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3809880"/>
            <a:ext cx="68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5257800"/>
            <a:ext cx="6858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f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_____ _____Beijing at 10: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had already eaten breakfast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went to the hot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447560" cy="83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28954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and  _____ _____our things in the  ho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91120"/>
            <a:ext cx="8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533240" cy="59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5257800"/>
            <a:ext cx="21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w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5000" y="51814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 Black"/>
              </a:rPr>
              <a:t>On Kunming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7520"/>
            <a:ext cx="18288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440" y="3168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5120" y="41148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521000" y="0"/>
            <a:ext cx="765000" cy="139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371600" y="28954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038480" y="0"/>
            <a:ext cx="22100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tex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54" name="PE03255_" descr=""/>
          <p:cNvPicPr/>
          <p:nvPr/>
        </p:nvPicPr>
        <p:blipFill>
          <a:blip r:embed="rId6"/>
          <a:stretch/>
        </p:blipFill>
        <p:spPr>
          <a:xfrm>
            <a:off x="2209680" y="4724280"/>
            <a:ext cx="2438640" cy="1524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61280" y="41162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he Summer Pa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..So adj. that sb.(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主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)can’t ( could n’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…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too adj.{for sb.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宾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}to do s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not adj.(opposite )enough{ for sb.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宾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}to do s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914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1.The camera  is 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dear</a:t>
            </a:r>
            <a:r>
              <a:rPr b="1" lang="en-US" sz="24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r me</a:t>
            </a: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 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1" lang="en-US" sz="24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400" y="152388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d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4382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y si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yo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5200" y="275112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ister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yo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2960" y="3630600"/>
            <a:ext cx="55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The suit i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u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105520"/>
            <a:ext cx="78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M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grand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was not  </a:t>
            </a:r>
            <a:r>
              <a:rPr b="1" lang="zh-CN" sz="2400" spc="-1" strike="noStrike">
                <a:solidFill>
                  <a:srgbClr val="ff66ff"/>
                </a:solidFill>
                <a:latin typeface="Arial Black"/>
              </a:rPr>
              <a:t>you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nough to </a:t>
            </a:r>
            <a:r>
              <a:rPr b="1" lang="zh-CN" sz="2400" spc="-1" strike="noStrike">
                <a:solidFill>
                  <a:srgbClr val="6600ff"/>
                </a:solidFill>
                <a:latin typeface="Arial Black"/>
              </a:rPr>
              <a:t>wor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aga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8880" y="191304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not </a:t>
            </a:r>
            <a:r>
              <a:rPr b="1" lang="en-US" sz="2400" spc="-1" strike="noStrike">
                <a:solidFill>
                  <a:srgbClr val="ff66ff"/>
                </a:solidFill>
                <a:latin typeface="Arial Black"/>
              </a:rPr>
              <a:t>c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ough  fo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1120" y="317340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ister is not </a:t>
            </a:r>
            <a:r>
              <a:rPr b="1" lang="en-US" sz="2400" spc="-1" strike="noStrike">
                <a:solidFill>
                  <a:srgbClr val="ff66ff"/>
                </a:solidFill>
                <a:latin typeface="Arial Black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ough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8920" y="4122720"/>
            <a:ext cx="52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it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put on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0760" y="4503600"/>
            <a:ext cx="58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suit is not </a:t>
            </a:r>
            <a:r>
              <a:rPr b="1" lang="zh-CN" sz="2400" spc="-1" strike="noStrike">
                <a:solidFill>
                  <a:srgbClr val="ff66ff"/>
                </a:solidFill>
                <a:latin typeface="Arial Black"/>
              </a:rPr>
              <a:t>bi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nough for me to put on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80" y="561168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y grandma was so </a:t>
            </a:r>
            <a:r>
              <a:rPr b="1" lang="zh-CN" sz="2400" spc="-1" strike="noStrike" u="sng">
                <a:solidFill>
                  <a:srgbClr val="ff66ff"/>
                </a:solidFill>
                <a:uFillTx/>
                <a:latin typeface="Arial Black"/>
              </a:rPr>
              <a:t>ol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t she could n’t  work ag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8800" y="602784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grandma wa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work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5..This is such a heavy box that I can’t carry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" y="129528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is is so heavy a box that I can’t carry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40" y="2362320"/>
            <a:ext cx="81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6.My sharpener fell under my desk . I couldn’t se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0" y="3276720"/>
            <a:ext cx="88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My sharpener fell under my desk so that I couldn’t se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" y="4419720"/>
            <a:ext cx="94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7. I am going to the stadium early in order to get a good sea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5181480"/>
            <a:ext cx="92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I am going to the stadium early so that I can get a good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The trousers on the shelf look very nice and you’d  better_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ry on it   B.Try it on   C.Try on them  D.Try the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His shoes_________, He had better buy  a new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rs out  B.worn out  C.is worn out   D.are worn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He was excited about ____first prize in the city surfing compe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in           B.To win      C.Winning       D.W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Have you got___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Cheaper anything.          B.Cheaper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Something cheaper.        D.Anything ch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500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472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5557680"/>
            <a:ext cx="10746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This pair of shoes _______her 1000 y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cost  B.costs  C.was cost D. is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He heard someone _______Beijing Opera in the next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sings B. sang C. singing D. 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The question is ______difficult _____no one can answer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Such ,that B. so ,  that C. too, to D. very ,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The hotel ___ filled by the time they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has been B. was C. had been D.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The camera seemed to offer the most ______the best pr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.in  B.of C. with D.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____this T-shir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that  one is fit for you . They are too big.  A. Either , or  B. Neither , nor C. Both , and  D. Between 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6240" y="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2200" y="106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57760" y="217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856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306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868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40120" y="2857680"/>
            <a:ext cx="146376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flower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733920" y="320040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25780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20968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28195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9907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4572000" y="44956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6248520" y="4572000"/>
            <a:ext cx="1463400" cy="1143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garden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90920" y="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words and phr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70036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4952880"/>
            <a:ext cx="1752480" cy="381240"/>
          </a:xfrm>
          <a:custGeom>
            <a:avLst/>
            <a:gdLst>
              <a:gd name="textAreaLeft" fmla="*/ 706680 w 1752480"/>
              <a:gd name="textAreaRight" fmla="*/ 1518480 w 1752480"/>
              <a:gd name="textAreaTop" fmla="*/ 280080 h 381240"/>
              <a:gd name="textAreaBottom" fmla="*/ 330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8742"/>
                </a:moveTo>
                <a:lnTo>
                  <a:pt x="15857" y="18742"/>
                </a:lnTo>
                <a:lnTo>
                  <a:pt x="15857" y="8710"/>
                </a:lnTo>
                <a:lnTo>
                  <a:pt x="12972" y="8710"/>
                </a:lnTo>
                <a:lnTo>
                  <a:pt x="17286" y="0"/>
                </a:lnTo>
                <a:lnTo>
                  <a:pt x="21600" y="8710"/>
                </a:lnTo>
                <a:lnTo>
                  <a:pt x="18715" y="8710"/>
                </a:lnTo>
                <a:lnTo>
                  <a:pt x="187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30481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10666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WALL" descr=""/>
          <p:cNvPicPr/>
          <p:nvPr/>
        </p:nvPicPr>
        <p:blipFill>
          <a:blip r:embed="rId4"/>
          <a:stretch/>
        </p:blipFill>
        <p:spPr>
          <a:xfrm>
            <a:off x="533520" y="1066680"/>
            <a:ext cx="3733560" cy="236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7120" y="361152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the Great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2320" y="31543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</a:rPr>
              <a:t>the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9640" y="604980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66440" y="495288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743040" cy="822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tre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876920" y="16765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2004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2578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42670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4191120" y="35812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312408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2133720" y="35053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5715000" y="167652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6248520" y="25909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525780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563868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46483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"/>
          <a:stretch/>
        </p:blipFill>
        <p:spPr>
          <a:xfrm>
            <a:off x="37339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274320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6248520" y="3581280"/>
            <a:ext cx="742680" cy="822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forest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3257640"/>
            <a:ext cx="68580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ocean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1771920" cy="1121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4771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90512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365760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5410080" y="236232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2666880" y="274320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4419720" y="2743200"/>
            <a:ext cx="177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friend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752480" y="213372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7000" y="6172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miss%20malaysia" descr=""/>
          <p:cNvPicPr/>
          <p:nvPr/>
        </p:nvPicPr>
        <p:blipFill>
          <a:blip r:embed="rId1"/>
          <a:stretch/>
        </p:blipFill>
        <p:spPr>
          <a:xfrm>
            <a:off x="0" y="-399960"/>
            <a:ext cx="9829800" cy="7372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-151920" y="0"/>
            <a:ext cx="57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And he gave me……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you......!!!!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743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 Great Hall of 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743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the Beihai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360" y="63244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 Summer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37600" y="6019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The Tian’anmen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en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411280"/>
          </a:xfrm>
          <a:prstGeom prst="rect">
            <a:avLst/>
          </a:prstGeom>
          <a:ln w="0">
            <a:noFill/>
          </a:ln>
        </p:spPr>
      </p:pic>
      <p:pic>
        <p:nvPicPr>
          <p:cNvPr id="65" name="ren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ren" descr=""/>
          <p:cNvPicPr/>
          <p:nvPr/>
        </p:nvPicPr>
        <p:blipFill>
          <a:blip r:embed="rId3"/>
          <a:stretch/>
        </p:blipFill>
        <p:spPr>
          <a:xfrm>
            <a:off x="0" y="320040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ren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3962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195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115272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2362320"/>
            <a:ext cx="228600" cy="2286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133720"/>
            <a:ext cx="304920" cy="3808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0"/>
            <a:ext cx="2514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xplan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1219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I need a new pair of shoes , this on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HERLDR1" descr=""/>
          <p:cNvPicPr/>
          <p:nvPr/>
        </p:nvPicPr>
        <p:blipFill>
          <a:blip r:embed="rId3"/>
          <a:stretch/>
        </p:blipFill>
        <p:spPr>
          <a:xfrm>
            <a:off x="6934320" y="2286000"/>
            <a:ext cx="1474560" cy="196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8195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I am ver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ing the World Cup Match .(I  am so happy, I can’t help dancing in my ro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orn 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1040" y="281952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xcited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5200" y="4343400"/>
            <a:ext cx="661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_____ ____ _______ in the world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I will visit them all in some day in the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10800" y="43084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ces of  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191120" y="5181480"/>
            <a:ext cx="914400" cy="1676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377120" y="4183200"/>
            <a:ext cx="1766880" cy="267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410080" y="4952880"/>
            <a:ext cx="1555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ITYSTR2" descr=""/>
          <p:cNvPicPr/>
          <p:nvPr/>
        </p:nvPicPr>
        <p:blipFill>
          <a:blip r:embed="rId1"/>
          <a:stretch/>
        </p:blipFill>
        <p:spPr>
          <a:xfrm>
            <a:off x="380880" y="0"/>
            <a:ext cx="7925040" cy="422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4419720"/>
            <a:ext cx="495288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7880" y="4524480"/>
            <a:ext cx="20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s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685800"/>
            <a:ext cx="16002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pap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1828800" cy="39621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676520" y="685800"/>
            <a:ext cx="2133360" cy="825480"/>
            <a:chOff x="1676520" y="685800"/>
            <a:chExt cx="2133360" cy="825480"/>
          </a:xfrm>
        </p:grpSpPr>
        <p:sp>
          <p:nvSpPr>
            <p:cNvPr id="91" name=""/>
            <p:cNvSpPr/>
            <p:nvPr/>
          </p:nvSpPr>
          <p:spPr>
            <a:xfrm>
              <a:off x="1676520" y="685800"/>
              <a:ext cx="2133360" cy="761760"/>
            </a:xfrm>
            <a:prstGeom prst="wedgeEllipseCallout">
              <a:avLst>
                <a:gd name="adj1" fmla="val 21356"/>
                <a:gd name="adj2" fmla="val 8145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6680" y="685800"/>
              <a:ext cx="159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‘d lik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piece of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160020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2895480"/>
            <a:ext cx="2819160" cy="259092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售货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1218960" cy="29527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705720" y="685800"/>
            <a:ext cx="1981080" cy="866880"/>
            <a:chOff x="6705720" y="685800"/>
            <a:chExt cx="1981080" cy="866880"/>
          </a:xfrm>
        </p:grpSpPr>
        <p:sp>
          <p:nvSpPr>
            <p:cNvPr id="97" name=""/>
            <p:cNvSpPr/>
            <p:nvPr/>
          </p:nvSpPr>
          <p:spPr>
            <a:xfrm>
              <a:off x="6705720" y="685800"/>
              <a:ext cx="1981080" cy="838080"/>
            </a:xfrm>
            <a:prstGeom prst="wedgeEllipseCallout">
              <a:avLst>
                <a:gd name="adj1" fmla="val -50402"/>
                <a:gd name="adj2" fmla="val 698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7760" y="727200"/>
              <a:ext cx="159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can 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 for yo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86000" y="1447920"/>
            <a:ext cx="1371600" cy="914400"/>
            <a:chOff x="2286000" y="1447920"/>
            <a:chExt cx="1371600" cy="914400"/>
          </a:xfrm>
        </p:grpSpPr>
        <p:sp>
          <p:nvSpPr>
            <p:cNvPr id="100" name=""/>
            <p:cNvSpPr/>
            <p:nvPr/>
          </p:nvSpPr>
          <p:spPr>
            <a:xfrm>
              <a:off x="2286000" y="1447920"/>
              <a:ext cx="1371600" cy="914400"/>
            </a:xfrm>
            <a:prstGeom prst="cloudCallout">
              <a:avLst>
                <a:gd name="adj1" fmla="val 64467"/>
                <a:gd name="adj2" fmla="val 494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2590920" y="1600200"/>
              <a:ext cx="75060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553080" y="2590920"/>
            <a:ext cx="927360" cy="87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791320" y="2971800"/>
            <a:ext cx="750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0"/>
          <a:ext cx="3124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3124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800600" y="0"/>
          <a:ext cx="327672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0"/>
                    <a:ext cx="32767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80880" y="3276720"/>
          <a:ext cx="350532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276720"/>
                    <a:ext cx="35053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876920" y="3429000"/>
          <a:ext cx="3352680" cy="342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29000"/>
                    <a:ext cx="33526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60080" y="533520"/>
            <a:ext cx="558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can I do for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 am looking for a 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 kind of dress do you w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’d like a silk 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size do you w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Size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about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No , I don’t like dark green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I like light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How  about  this 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oh, so beautiful, Can I try it 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 like it , how much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100 yu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All right , I ‘ll take i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16765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example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295280"/>
          <a:ext cx="2666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2666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8:25:26Z</dcterms:created>
  <dc:creator>vicky</dc:creator>
  <dc:description/>
  <dc:language>en-US</dc:language>
  <cp:lastModifiedBy>aa</cp:lastModifiedBy>
  <dcterms:modified xsi:type="dcterms:W3CDTF">2003-06-28T02:39:57Z</dcterms:modified>
  <cp:revision>23</cp:revision>
  <dc:subject/>
  <dc:title>PowerPoint 演示文稿</dc:title>
</cp:coreProperties>
</file>