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1.wmf" ContentType="image/x-wmf"/>
  <Override PartName="/ppt/media/image3.png" ContentType="image/png"/>
  <Override PartName="/ppt/media/image17.jpeg" ContentType="image/jpeg"/>
  <Override PartName="/ppt/media/image7.gif" ContentType="image/gif"/>
  <Override PartName="/ppt/media/image18.wmf" ContentType="image/x-wmf"/>
  <Override PartName="/ppt/media/image12.jpeg" ContentType="image/jpeg"/>
  <Override PartName="/ppt/media/image10.wmf" ContentType="image/x-wmf"/>
  <Override PartName="/ppt/media/image2.png" ContentType="image/pn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1.png" ContentType="image/png"/>
  <Override PartName="/ppt/media/image9.jpeg" ContentType="image/jpeg"/>
  <Override PartName="/ppt/media/image4.png" ContentType="image/png"/>
  <Override PartName="/ppt/media/image8.jpeg" ContentType="image/jpeg"/>
  <Override PartName="/ppt/media/image13.jpeg" ContentType="image/jpeg"/>
  <Override PartName="/ppt/media/image14.jpeg" ContentType="image/jpeg"/>
  <Override PartName="/ppt/media/image5.gif" ContentType="image/gif"/>
  <Override PartName="/ppt/media/image6.png" ContentType="image/pn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625768C-A67E-4A5A-81AE-E3DDAF4614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8FED5-854C-48E1-9819-8868376944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6742678-6F28-4845-884E-0C545E8B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06A3DC-6D2D-4CD3-A9D4-9ADD46740B2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0BF5541-BE5E-4D2A-BB2D-E8F980718B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FA82F-F331-42FE-A2CD-57EE338AF5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973CB7A-2C4F-442C-AD19-72C7C212C7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9E3C21-C55C-4250-938B-DB7C43A660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1F63BF-6C13-4030-AC5C-3FA8E3105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67089-FD23-40F6-8265-C44E41F45C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702018-571A-4F95-B027-207D954ECA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F6B979C-9378-4D6D-B529-8468E1D625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24C24-B6C7-488B-BF9E-ADF669CB3E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8A7D14-F410-4825-B0B7-F1FBBFF3C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D69545-8AC5-4803-9B48-A25BA8CC89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487917-69C6-48E8-AEAC-C1D65F9DE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55D56F-3510-4C23-9A02-56325F709A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C17B19E-F3C3-4065-8475-03BD4130A2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2FF8AD3-6BF5-4F70-BA35-EA02B7F90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02AAE6-D879-4C18-AD3C-8A37221CF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EDDDF09-8A03-4F43-89C9-79131A2F03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B4800E6-46B1-4DCA-999A-0DF3AB4EA7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F81CC3F-508E-47B8-B4AC-E138F4D709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DB286-0CCE-4EC2-B805-8BC6871E6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1B5B69-54E8-4D6B-8A32-E00CD4981E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6572E93-F313-484A-899E-A2440417D5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89A88FC-F73E-45EA-924F-514B23001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2FE0F6-11AE-4D96-B772-EA69C0C5207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0DB2C72-D3C9-4C52-AACA-6195EF200A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83F6270-D737-47BE-9253-B0A76034E2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9049C22-3D60-4E75-9D35-2DABFF7E20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451029B-E3BB-4E5C-B791-DD5444BDAD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9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F50DF3-70D6-4AF7-98E3-1F97957F0D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2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0F11A31-B148-40EE-B50C-337AC56820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1FAD630-80C6-45CC-99AB-D9CC5D445D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8AC8942-C40D-4934-87D1-9C26D27B91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467D37F-6528-4EDA-8FAD-03A1E55D8D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966446-19A4-43F3-A31F-0EE50971D3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75651-7B78-4A1E-8812-B752B88F59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E07FC3B-0246-4F12-96FE-A18BF55BD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0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5FDA1F9-A9E3-46C5-BD94-C1D93E494B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5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40EE973-8D0C-4924-A79F-30A08E70BF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6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4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8E2A7A8-5177-4EFE-8655-418D30BDC7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D377A1-FF86-4381-8373-C1190675EE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subTitle"/>
          </p:nvPr>
        </p:nvSpPr>
        <p:spPr>
          <a:xfrm>
            <a:off x="685800" y="464040"/>
            <a:ext cx="7772400" cy="6651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BD4FAD-9602-4C20-B927-1BEB12EE44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D5C21A0-47D1-45AA-9007-471E3E2AF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E709CA-BA57-49A7-A1FE-E6F9762647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83A49D8-EDB5-49CE-8BBF-3174A3C958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1.xml"/><Relationship Id="rId8" Type="http://schemas.openxmlformats.org/officeDocument/2006/relationships/slideLayout" Target="../slideLayouts/slideLayout2.xml"/><Relationship Id="rId9" Type="http://schemas.openxmlformats.org/officeDocument/2006/relationships/slideLayout" Target="../slideLayouts/slideLayout3.xml"/><Relationship Id="rId10" Type="http://schemas.openxmlformats.org/officeDocument/2006/relationships/slideLayout" Target="../slideLayouts/slideLayout4.xml"/><Relationship Id="rId11" Type="http://schemas.openxmlformats.org/officeDocument/2006/relationships/slideLayout" Target="../slideLayouts/slideLayout5.xml"/><Relationship Id="rId12" Type="http://schemas.openxmlformats.org/officeDocument/2006/relationships/slideLayout" Target="../slideLayouts/slideLayout6.xml"/><Relationship Id="rId13" Type="http://schemas.openxmlformats.org/officeDocument/2006/relationships/slideLayout" Target="../slideLayouts/slideLayout7.xml"/><Relationship Id="rId14" Type="http://schemas.openxmlformats.org/officeDocument/2006/relationships/slideLayout" Target="../slideLayouts/slideLayout8.xml"/><Relationship Id="rId15" Type="http://schemas.openxmlformats.org/officeDocument/2006/relationships/slideLayout" Target="../slideLayouts/slideLayout9.xml"/><Relationship Id="rId16" Type="http://schemas.openxmlformats.org/officeDocument/2006/relationships/slideLayout" Target="../slideLayouts/slideLayout10.xml"/><Relationship Id="rId17" Type="http://schemas.openxmlformats.org/officeDocument/2006/relationships/slideLayout" Target="../slideLayouts/slideLayout11.xml"/><Relationship Id="rId18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5.gi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103320" y="1308240"/>
            <a:ext cx="9350640" cy="5632560"/>
            <a:chOff x="-103320" y="1308240"/>
            <a:chExt cx="9350640" cy="5632560"/>
          </a:xfrm>
        </p:grpSpPr>
        <p:sp>
          <p:nvSpPr>
            <p:cNvPr id="1" name=""/>
            <p:cNvSpPr/>
            <p:nvPr/>
          </p:nvSpPr>
          <p:spPr>
            <a:xfrm flipV="1" rot="20798400">
              <a:off x="-22320" y="163908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 flipV="1" rot="20774400">
              <a:off x="-37800" y="178884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 flipV="1" rot="20757600">
              <a:off x="-42840" y="190152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 flipV="1" rot="20684400">
              <a:off x="-68040" y="203616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 rot="20631600">
              <a:off x="-81360" y="221760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 flipV="1" rot="20554800">
              <a:off x="-103320" y="241740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 flipV="1" rot="20466600">
              <a:off x="-147600" y="268920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 flipV="1" rot="20343600">
              <a:off x="-156960" y="295740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 flipV="1" rot="20211600">
              <a:off x="-261720" y="325800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 flipV="1" rot="20103000">
              <a:off x="-339840" y="363312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 flipV="1" rot="19923600">
              <a:off x="-496800" y="415440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 flipV="1" rot="19686600">
              <a:off x="14040" y="457272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 flipV="1" rot="19383600">
              <a:off x="2093760" y="464724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 flipV="1" rot="18994200">
              <a:off x="4255920" y="487404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 flipV="1" rot="18603600">
              <a:off x="6433200" y="556164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 flipH="1" flipV="1" rot="18391200">
              <a:off x="8521560" y="661392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 rot="1058400">
              <a:off x="-231480" y="374652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 rot="1563600">
              <a:off x="-314280" y="539100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 rot="1732800">
              <a:off x="-262080" y="575316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 rot="1968600">
              <a:off x="-174240" y="622584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 rot="1386000">
              <a:off x="-343080" y="511344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 rot="983400">
              <a:off x="-182160" y="337968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 flipV="1" rot="930600">
              <a:off x="127080" y="308808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 rot="867600">
              <a:off x="593640" y="286020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 rot="775200">
              <a:off x="1346040" y="251100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 rot="735000">
              <a:off x="1671480" y="234324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 rot="692400">
              <a:off x="1974960" y="218556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 flipV="1" rot="655800">
              <a:off x="2360160" y="207180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 flipV="1" rot="637200">
              <a:off x="2619000" y="193320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" name=""/>
            <p:cNvSpPr/>
            <p:nvPr/>
          </p:nvSpPr>
          <p:spPr>
            <a:xfrm flipV="1" rot="804000">
              <a:off x="969480" y="267228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" name=""/>
            <p:cNvSpPr/>
            <p:nvPr/>
          </p:nvSpPr>
          <p:spPr>
            <a:xfrm flipV="1" rot="1273800">
              <a:off x="-323640" y="472356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" name=""/>
            <p:cNvSpPr/>
            <p:nvPr/>
          </p:nvSpPr>
          <p:spPr>
            <a:xfrm flipV="1" rot="1170000">
              <a:off x="-275760" y="422640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1174680" y="533232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374760" y="48798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52360" y="579744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3297240" y="42242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1941480" y="48830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676600" y="453564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1190520" y="450684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582480" y="421632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1860480" y="41940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3811680" y="3944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3032280" y="36734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3578400" y="34196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4352760" y="365904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4464000" y="301320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5907240" y="28447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600880" y="3009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4863960" y="282240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5202360" y="321300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4805280" y="342900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490840" y="389412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2957400" y="321948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2401920" y="34527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1890720" y="366876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832040" y="324972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1812960" y="2862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2381400" y="30351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863800" y="2859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27560" y="30243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3860640" y="28368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746280" y="322596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108000" y="3438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1266840" y="3041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722160" y="285264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179280" y="30178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685800" y="36878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292400" y="345744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1252440" y="392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038480" y="319896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2313000" y="26989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77344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2198520" y="239076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735200" y="253224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1257480" y="268272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192480" y="2400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313080" y="26924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722760" y="254160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260960" y="267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1279440" y="24004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85880" y="253512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61800" y="239400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249120" y="26956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583160" y="253224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4888080" y="239868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191200" y="267984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481720" y="25383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796000" y="239076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6748560" y="24019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6192720" y="27003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6486480" y="255276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2035080" y="579924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122480" y="637236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38440" y="49053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4133880" y="45514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4614840" y="423540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5156280" y="389556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2859120" y="5334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5575320" y="36543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318360" y="319716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5958000" y="34257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629400" y="30132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886440" y="285264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7151760" y="269892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7399440" y="254484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7624800" y="240048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7826400" y="227160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08796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5216400" y="227016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4718160" y="216864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5003640" y="20509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4794120" y="18572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3878280" y="217188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3652920" y="19368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3325680" y="203832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3537000" y="228924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1760400" y="226044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969840" y="203832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484200" y="215568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247680" y="1832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203960" y="21668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6996240" y="228600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6337440" y="215280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5502240" y="215280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27720" y="194940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4251240" y="1760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38520" y="165888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3083040" y="1650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1727280" y="202716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1312920" y="21430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852480" y="226692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1008000" y="168264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2444760" y="1666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1778040" y="168768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6558120" y="2038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5519880" y="184644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5262480" y="19512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503856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3803760" y="16686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4395960" y="22953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4216320" y="20541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3970440" y="183996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3527280" y="174780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3220920" y="184464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2976480" y="21528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6" name=""/>
            <p:cNvSpPr/>
            <p:nvPr/>
          </p:nvSpPr>
          <p:spPr>
            <a:xfrm>
              <a:off x="2871720" y="194148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7" name=""/>
            <p:cNvSpPr/>
            <p:nvPr/>
          </p:nvSpPr>
          <p:spPr>
            <a:xfrm>
              <a:off x="2759040" y="17431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2513160" y="204624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2189160" y="213192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2427120" y="18352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2054160" y="194004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2085840" y="17654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717560" y="185112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392120" y="177948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389240" y="193032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079640" y="1857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652320" y="195588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689040" y="174636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89000" y="208296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0" name=""/>
            <p:cNvSpPr/>
            <p:nvPr/>
          </p:nvSpPr>
          <p:spPr>
            <a:xfrm>
              <a:off x="1362240" y="158904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2128680" y="160812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760840" y="160020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3359160" y="158904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3683160" y="149400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4129200" y="15796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2646360" y="225432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4059360" y="24066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5745240" y="20430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6018120" y="192420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3387600" y="144144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2006640" y="144144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2335320" y="13795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2619360" y="130824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4" name=""/>
            <p:cNvSpPr/>
            <p:nvPr/>
          </p:nvSpPr>
          <p:spPr>
            <a:xfrm>
              <a:off x="3044880" y="137952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5" name=""/>
            <p:cNvSpPr/>
            <p:nvPr/>
          </p:nvSpPr>
          <p:spPr>
            <a:xfrm>
              <a:off x="2730600" y="146520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3036960" y="151920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2446200" y="152712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708200" y="151272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3147840" y="639288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3905280" y="582768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5140440" y="4954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5635800" y="457200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4591080" y="53611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6141960" y="421812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492960" y="392904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6869160" y="36734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7480440" y="320976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8" name=""/>
            <p:cNvSpPr/>
            <p:nvPr/>
          </p:nvSpPr>
          <p:spPr>
            <a:xfrm>
              <a:off x="7196040" y="34322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7719840" y="30481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7951680" y="28684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8193240" y="27018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8377200" y="25621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8569440" y="241452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167440" y="646272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5796000" y="586260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7577280" y="588168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7129440" y="642780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6332400" y="53910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767640" y="498636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8007480" y="542592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7227720" y="456084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8402760" y="494676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8726400" y="45705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7575480" y="42433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7883640" y="394956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8642520" y="325764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8193240" y="367344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8442360" y="345456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8859960" y="30686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9031320" y="287496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2f2f47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989920" y="42544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2c2c43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-103320" y="454824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240" y="393228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-14400" y="227952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928000" y="636588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02030"/>
                </a:gs>
                <a:gs pos="100000">
                  <a:srgbClr val="52527c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216" name="PlaceHolder 1"/>
          <p:cNvSpPr>
            <a:spLocks noGrp="1"/>
          </p:cNvSpPr>
          <p:nvPr>
            <p:ph type="sldNum" idx="1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6F195A-11CC-4D62-B7A5-578289605889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 type="dt" idx="2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 type="ftr" idx="3"/>
          </p:nvPr>
        </p:nvSpPr>
        <p:spPr>
          <a:xfrm>
            <a:off x="3124080" y="6243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33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SzPct val="102872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ccccff"/>
              </a:buClr>
              <a:buSzPct val="5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PlaceHolder 5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dfdef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7"/>
    <p:sldLayoutId id="2147483650" r:id="rId8"/>
    <p:sldLayoutId id="2147483651" r:id="rId9"/>
    <p:sldLayoutId id="2147483652" r:id="rId10"/>
    <p:sldLayoutId id="2147483653" r:id="rId11"/>
    <p:sldLayoutId id="2147483654" r:id="rId12"/>
    <p:sldLayoutId id="2147483655" r:id="rId13"/>
    <p:sldLayoutId id="2147483656" r:id="rId14"/>
    <p:sldLayoutId id="2147483657" r:id="rId15"/>
    <p:sldLayoutId id="2147483658" r:id="rId16"/>
    <p:sldLayoutId id="2147483659" r:id="rId17"/>
    <p:sldLayoutId id="2147483660" r:id="rId18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31314a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57" name=""/>
          <p:cNvGrpSpPr/>
          <p:nvPr/>
        </p:nvGrpSpPr>
        <p:grpSpPr>
          <a:xfrm>
            <a:off x="-105120" y="1311120"/>
            <a:ext cx="9350640" cy="5632560"/>
            <a:chOff x="-105120" y="1311120"/>
            <a:chExt cx="9350640" cy="5632560"/>
          </a:xfrm>
        </p:grpSpPr>
        <p:sp>
          <p:nvSpPr>
            <p:cNvPr id="258" name=""/>
            <p:cNvSpPr/>
            <p:nvPr/>
          </p:nvSpPr>
          <p:spPr>
            <a:xfrm flipV="1" rot="20798400">
              <a:off x="-24120" y="1641960"/>
              <a:ext cx="2768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59" name=""/>
            <p:cNvSpPr/>
            <p:nvPr/>
          </p:nvSpPr>
          <p:spPr>
            <a:xfrm flipV="1" rot="20774400">
              <a:off x="-39600" y="1791720"/>
              <a:ext cx="322740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0" name=""/>
            <p:cNvSpPr/>
            <p:nvPr/>
          </p:nvSpPr>
          <p:spPr>
            <a:xfrm flipV="1" rot="20757600">
              <a:off x="-44640" y="1904400"/>
              <a:ext cx="35654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1" name=""/>
            <p:cNvSpPr/>
            <p:nvPr/>
          </p:nvSpPr>
          <p:spPr>
            <a:xfrm flipV="1" rot="20684400">
              <a:off x="-69840" y="2039040"/>
              <a:ext cx="393084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2" name=""/>
            <p:cNvSpPr/>
            <p:nvPr/>
          </p:nvSpPr>
          <p:spPr>
            <a:xfrm flipV="1" rot="20631600">
              <a:off x="-83160" y="2220480"/>
              <a:ext cx="4397760" cy="972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3" name=""/>
            <p:cNvSpPr/>
            <p:nvPr/>
          </p:nvSpPr>
          <p:spPr>
            <a:xfrm flipV="1" rot="20554800">
              <a:off x="-105120" y="2420280"/>
              <a:ext cx="4854600" cy="936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4" name=""/>
            <p:cNvSpPr/>
            <p:nvPr/>
          </p:nvSpPr>
          <p:spPr>
            <a:xfrm flipV="1" rot="20466600">
              <a:off x="-149400" y="2692080"/>
              <a:ext cx="5402160" cy="10080"/>
            </a:xfrm>
            <a:prstGeom prst="rect">
              <a:avLst/>
            </a:prstGeom>
            <a:gradFill rotWithShape="0">
              <a:gsLst>
                <a:gs pos="0">
                  <a:srgbClr val="666699"/>
                </a:gs>
                <a:gs pos="100000">
                  <a:srgbClr val="5c5c8a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5" name=""/>
            <p:cNvSpPr/>
            <p:nvPr/>
          </p:nvSpPr>
          <p:spPr>
            <a:xfrm flipV="1" rot="20343600">
              <a:off x="-158760" y="2960280"/>
              <a:ext cx="5951520" cy="10080"/>
            </a:xfrm>
            <a:prstGeom prst="rect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720" bIns="-3672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6" name=""/>
            <p:cNvSpPr/>
            <p:nvPr/>
          </p:nvSpPr>
          <p:spPr>
            <a:xfrm flipV="1" rot="20211600">
              <a:off x="-263520" y="3260880"/>
              <a:ext cx="6681960" cy="9720"/>
            </a:xfrm>
            <a:prstGeom prst="rect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7" name=""/>
            <p:cNvSpPr/>
            <p:nvPr/>
          </p:nvSpPr>
          <p:spPr>
            <a:xfrm flipV="1" rot="20103000">
              <a:off x="-341640" y="3636000"/>
              <a:ext cx="732168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8" name=""/>
            <p:cNvSpPr/>
            <p:nvPr/>
          </p:nvSpPr>
          <p:spPr>
            <a:xfrm flipV="1" rot="19923600">
              <a:off x="-498600" y="4157280"/>
              <a:ext cx="825480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69" name=""/>
            <p:cNvSpPr/>
            <p:nvPr/>
          </p:nvSpPr>
          <p:spPr>
            <a:xfrm flipV="1" rot="19686600">
              <a:off x="12240" y="4575600"/>
              <a:ext cx="8574120" cy="9720"/>
            </a:xfrm>
            <a:prstGeom prst="rect">
              <a:avLst/>
            </a:prstGeom>
            <a:gradFill rotWithShape="0">
              <a:gsLst>
                <a:gs pos="0">
                  <a:srgbClr val="2f2f46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0" name=""/>
            <p:cNvSpPr/>
            <p:nvPr/>
          </p:nvSpPr>
          <p:spPr>
            <a:xfrm flipV="1" rot="19383600">
              <a:off x="2091960" y="4650120"/>
              <a:ext cx="7321680" cy="9000"/>
            </a:xfrm>
            <a:prstGeom prst="rect">
              <a:avLst/>
            </a:prstGeom>
            <a:gradFill rotWithShape="0">
              <a:gsLst>
                <a:gs pos="0">
                  <a:srgbClr val="1e1e2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1" name=""/>
            <p:cNvSpPr/>
            <p:nvPr/>
          </p:nvSpPr>
          <p:spPr>
            <a:xfrm flipV="1" rot="18994200">
              <a:off x="4254120" y="4876920"/>
              <a:ext cx="5676840" cy="9720"/>
            </a:xfrm>
            <a:prstGeom prst="rect">
              <a:avLst/>
            </a:prstGeom>
            <a:gradFill rotWithShape="0">
              <a:gsLst>
                <a:gs pos="0">
                  <a:srgbClr val="030304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2" name=""/>
            <p:cNvSpPr/>
            <p:nvPr/>
          </p:nvSpPr>
          <p:spPr>
            <a:xfrm flipV="1" rot="18603600">
              <a:off x="6431400" y="5564520"/>
              <a:ext cx="3300480" cy="936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3" name=""/>
            <p:cNvSpPr/>
            <p:nvPr/>
          </p:nvSpPr>
          <p:spPr>
            <a:xfrm flipH="1" flipV="1" rot="18391200">
              <a:off x="8519760" y="6616800"/>
              <a:ext cx="795240" cy="9000"/>
            </a:xfrm>
            <a:prstGeom prst="rect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vert="eaVer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rot="1058400">
              <a:off x="-233280" y="3749400"/>
              <a:ext cx="9597960" cy="936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 rot="1563600">
              <a:off x="-316080" y="5393880"/>
              <a:ext cx="6575400" cy="972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rot="1732800">
              <a:off x="-263880" y="5756040"/>
              <a:ext cx="4451400" cy="9360"/>
            </a:xfrm>
            <a:prstGeom prst="rect">
              <a:avLst/>
            </a:prstGeom>
            <a:gradFill rotWithShape="0">
              <a:gsLst>
                <a:gs pos="0">
                  <a:srgbClr val="404060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 rot="1968600">
              <a:off x="-176040" y="6228720"/>
              <a:ext cx="2222640" cy="9360"/>
            </a:xfrm>
            <a:prstGeom prst="rect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 rot="1386000">
              <a:off x="-344880" y="5116320"/>
              <a:ext cx="8695080" cy="9360"/>
            </a:xfrm>
            <a:prstGeom prst="rect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79" name=""/>
            <p:cNvSpPr/>
            <p:nvPr/>
          </p:nvSpPr>
          <p:spPr>
            <a:xfrm rot="983400">
              <a:off x="-183960" y="3382560"/>
              <a:ext cx="9550440" cy="9720"/>
            </a:xfrm>
            <a:prstGeom prst="rect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 flipV="1" rot="930600">
              <a:off x="125280" y="3090960"/>
              <a:ext cx="913752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1" name=""/>
            <p:cNvSpPr/>
            <p:nvPr/>
          </p:nvSpPr>
          <p:spPr>
            <a:xfrm rot="867600">
              <a:off x="591840" y="2863080"/>
              <a:ext cx="8691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2" name=""/>
            <p:cNvSpPr/>
            <p:nvPr/>
          </p:nvSpPr>
          <p:spPr>
            <a:xfrm rot="775200">
              <a:off x="1344240" y="2513880"/>
              <a:ext cx="7899480" cy="972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 rot="735000">
              <a:off x="1669680" y="2346120"/>
              <a:ext cx="755496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4" name=""/>
            <p:cNvSpPr/>
            <p:nvPr/>
          </p:nvSpPr>
          <p:spPr>
            <a:xfrm rot="692400">
              <a:off x="1973160" y="2188440"/>
              <a:ext cx="723420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5" name=""/>
            <p:cNvSpPr/>
            <p:nvPr/>
          </p:nvSpPr>
          <p:spPr>
            <a:xfrm flipV="1" rot="655800">
              <a:off x="2358360" y="2074680"/>
              <a:ext cx="6848640" cy="900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800" bIns="-3780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6" name=""/>
            <p:cNvSpPr/>
            <p:nvPr/>
          </p:nvSpPr>
          <p:spPr>
            <a:xfrm flipV="1" rot="637200">
              <a:off x="2617200" y="1936080"/>
              <a:ext cx="6594480" cy="9720"/>
            </a:xfrm>
            <a:prstGeom prst="rect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7" name=""/>
            <p:cNvSpPr/>
            <p:nvPr/>
          </p:nvSpPr>
          <p:spPr>
            <a:xfrm flipV="1" rot="804000">
              <a:off x="967680" y="2675160"/>
              <a:ext cx="8261640" cy="9360"/>
            </a:xfrm>
            <a:prstGeom prst="rect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440" bIns="-3744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8" name=""/>
            <p:cNvSpPr/>
            <p:nvPr/>
          </p:nvSpPr>
          <p:spPr>
            <a:xfrm flipV="1" rot="1273800">
              <a:off x="-325440" y="4726440"/>
              <a:ext cx="9762840" cy="9720"/>
            </a:xfrm>
            <a:prstGeom prst="rect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89" name=""/>
            <p:cNvSpPr/>
            <p:nvPr/>
          </p:nvSpPr>
          <p:spPr>
            <a:xfrm flipV="1" rot="1170000">
              <a:off x="-277560" y="4229280"/>
              <a:ext cx="9690120" cy="9720"/>
            </a:xfrm>
            <a:prstGeom prst="rect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7080" bIns="-37080" anchor="t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1172880" y="533520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372960" y="488268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250560" y="5800320"/>
              <a:ext cx="311040" cy="168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3295440" y="422712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39680" y="488592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674800" y="4538520"/>
              <a:ext cx="247680" cy="1425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188720" y="4509720"/>
              <a:ext cx="239760" cy="14148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580680" y="4219200"/>
              <a:ext cx="238320" cy="13356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858680" y="419688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3809880" y="39477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3030480" y="36763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3576600" y="34225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4350960" y="3661920"/>
              <a:ext cx="222480" cy="1144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4462200" y="301608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5905440" y="284760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5599080" y="3012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4862160" y="2825280"/>
              <a:ext cx="203400" cy="98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3040" bIns="230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5200560" y="321588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4803480" y="3431880"/>
              <a:ext cx="211320" cy="96840"/>
            </a:xfrm>
            <a:prstGeom prst="ellipse">
              <a:avLst/>
            </a:prstGeom>
            <a:gradFill rotWithShape="0">
              <a:gsLst>
                <a:gs pos="0">
                  <a:srgbClr val="3d3d5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2489040" y="389700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2955600" y="322236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2400120" y="345564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1888920" y="3671640"/>
              <a:ext cx="212760" cy="114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1830240" y="325260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1811160" y="2865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2379600" y="30380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2862000" y="2862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425760" y="30272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3858840" y="283968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44480" y="3228840"/>
              <a:ext cx="212400" cy="115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920" bIns="349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06200" y="3441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265040" y="3044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20360" y="285552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77480" y="30207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684000" y="36907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290600" y="3460320"/>
              <a:ext cx="212400" cy="96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250640" y="39272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4036680" y="3201840"/>
              <a:ext cx="222480" cy="114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311200" y="270180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77164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196720" y="2393640"/>
              <a:ext cx="19548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1733400" y="2535120"/>
              <a:ext cx="19512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1255680" y="268560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3190680" y="240336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3311280" y="26953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3720960" y="254448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4259160" y="267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1277640" y="24033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84080" y="253800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360000" y="239688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47320" y="2698560"/>
              <a:ext cx="195480" cy="7920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4581360" y="2535120"/>
              <a:ext cx="19692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4886280" y="2401560"/>
              <a:ext cx="19656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5189400" y="268272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5479920" y="25412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5794200" y="239364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6746760" y="24048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6190920" y="27032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6484680" y="2555640"/>
              <a:ext cx="203400" cy="7920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033280" y="5802120"/>
              <a:ext cx="311400" cy="1760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1120680" y="6375240"/>
              <a:ext cx="303120" cy="177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536640" y="490824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4132080" y="45543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4613040" y="423828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5154480" y="3898440"/>
              <a:ext cx="237960" cy="142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2857320" y="5337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5573520" y="36572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6316560" y="320004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5956200" y="34286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6627600" y="301608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6884640" y="2855520"/>
              <a:ext cx="20484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7149960" y="2701800"/>
              <a:ext cx="196920" cy="8064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7397640" y="2547720"/>
              <a:ext cx="195120" cy="792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7623000" y="2403360"/>
              <a:ext cx="203040" cy="8064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7824600" y="2274480"/>
              <a:ext cx="176040" cy="79560"/>
            </a:xfrm>
            <a:prstGeom prst="ellipse">
              <a:avLst/>
            </a:prstGeom>
            <a:gradFill rotWithShape="0">
              <a:gsLst>
                <a:gs pos="0">
                  <a:srgbClr val="373752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608616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5214600" y="227304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716360" y="217152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001840" y="205380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792320" y="18601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3876480" y="2174760"/>
              <a:ext cx="177840" cy="80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651120" y="19396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3323880" y="204120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3535200" y="2292120"/>
              <a:ext cx="176040" cy="7920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1758600" y="2263320"/>
              <a:ext cx="177840" cy="7956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968040" y="2041200"/>
              <a:ext cx="17640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2400" y="2158560"/>
              <a:ext cx="176040" cy="81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245880" y="1834920"/>
              <a:ext cx="177840" cy="792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7202160" y="21697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6994440" y="2288880"/>
              <a:ext cx="166680" cy="6984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335640" y="2155680"/>
              <a:ext cx="168120" cy="71280"/>
            </a:xfrm>
            <a:prstGeom prst="ellipse">
              <a:avLst/>
            </a:prstGeom>
            <a:gradFill rotWithShape="0">
              <a:gsLst>
                <a:gs pos="0">
                  <a:srgbClr val="43436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5500440" y="2155680"/>
              <a:ext cx="168480" cy="7128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525920" y="195228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249440" y="176328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536720" y="166176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3081240" y="165384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1725480" y="2030040"/>
              <a:ext cx="16812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1311120" y="214596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850680" y="226980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1006200" y="1685520"/>
              <a:ext cx="168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2442960" y="1669680"/>
              <a:ext cx="16812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1776240" y="1690560"/>
              <a:ext cx="16668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6556320" y="2041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18080" y="1849320"/>
              <a:ext cx="17748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260680" y="19540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03676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3801960" y="16714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394160" y="22982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214520" y="205704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3537c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3968640" y="1842840"/>
              <a:ext cx="1760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3525480" y="175068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3219120" y="184752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2974680" y="215568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2869920" y="1944360"/>
              <a:ext cx="17640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757240" y="174600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2511360" y="2049120"/>
              <a:ext cx="17748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2187360" y="213480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95985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2425320" y="183816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2052360" y="1942920"/>
              <a:ext cx="17784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2084040" y="17683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1715760" y="1854000"/>
              <a:ext cx="176400" cy="712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600" bIns="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1390320" y="1782360"/>
              <a:ext cx="177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1387440" y="1933200"/>
              <a:ext cx="1760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1077840" y="186012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50520" y="1958760"/>
              <a:ext cx="17640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87240" y="1749240"/>
              <a:ext cx="1778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187200" y="2085840"/>
              <a:ext cx="17604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1360440" y="159192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2126880" y="1611000"/>
              <a:ext cx="1605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2759040" y="1603080"/>
              <a:ext cx="160200" cy="6048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600" bIns="-36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3357360" y="1591920"/>
              <a:ext cx="15876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3681360" y="149688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4127400" y="1582560"/>
              <a:ext cx="160200" cy="6192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" bIns="-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2644560" y="2257200"/>
              <a:ext cx="168120" cy="81000"/>
            </a:xfrm>
            <a:prstGeom prst="ellipse">
              <a:avLst/>
            </a:prstGeom>
            <a:gradFill rotWithShape="0">
              <a:gsLst>
                <a:gs pos="0">
                  <a:srgbClr val="565681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4057560" y="240948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505078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5743440" y="2045880"/>
              <a:ext cx="177840" cy="8100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6016320" y="1927080"/>
              <a:ext cx="176400" cy="8064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800" bIns="10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3385800" y="1444320"/>
              <a:ext cx="12564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2004840" y="144432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2333520" y="1382400"/>
              <a:ext cx="12528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2617560" y="131112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3043080" y="1382400"/>
              <a:ext cx="13320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2728800" y="1468080"/>
              <a:ext cx="131760" cy="5400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8640" bIns="-86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3035160" y="1522080"/>
              <a:ext cx="15084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2444400" y="1530000"/>
              <a:ext cx="14148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1706400" y="1515600"/>
              <a:ext cx="160200" cy="716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3146040" y="6395760"/>
              <a:ext cx="309600" cy="1666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3903480" y="5830560"/>
              <a:ext cx="311040" cy="177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5138640" y="495756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634000" y="4574880"/>
              <a:ext cx="249120" cy="14112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4589280" y="5364000"/>
              <a:ext cx="266760" cy="150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140160" y="4221000"/>
              <a:ext cx="239760" cy="13320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491160" y="3931920"/>
              <a:ext cx="247680" cy="141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6867360" y="3676320"/>
              <a:ext cx="212760" cy="11448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560" bIns="345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7478640" y="3212640"/>
              <a:ext cx="212760" cy="115920"/>
            </a:xfrm>
            <a:prstGeom prst="ellipse">
              <a:avLst/>
            </a:prstGeom>
            <a:gradFill rotWithShape="0">
              <a:gsLst>
                <a:gs pos="0">
                  <a:srgbClr val="31314a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7194240" y="3435120"/>
              <a:ext cx="22068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7718040" y="305100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7949880" y="2871360"/>
              <a:ext cx="203400" cy="96840"/>
            </a:xfrm>
            <a:prstGeom prst="ellipse">
              <a:avLst/>
            </a:prstGeom>
            <a:gradFill rotWithShape="0">
              <a:gsLst>
                <a:gs pos="0">
                  <a:srgbClr val="34344e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8191440" y="2704680"/>
              <a:ext cx="195120" cy="7956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720" bIns="972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8375400" y="2565000"/>
              <a:ext cx="1969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8567640" y="2417400"/>
              <a:ext cx="195120" cy="81000"/>
            </a:xfrm>
            <a:prstGeom prst="ellipse">
              <a:avLst/>
            </a:prstGeom>
            <a:gradFill rotWithShape="0">
              <a:gsLst>
                <a:gs pos="0">
                  <a:srgbClr val="4a4a6f"/>
                </a:gs>
                <a:gs pos="100000">
                  <a:srgbClr val="5b5b8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5165640" y="6465600"/>
              <a:ext cx="311040" cy="1681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5794200" y="5865480"/>
              <a:ext cx="311040" cy="17640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7575480" y="5884560"/>
              <a:ext cx="31896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7127640" y="6430680"/>
              <a:ext cx="311040" cy="16668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6330600" y="5393880"/>
              <a:ext cx="266760" cy="1526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6765840" y="498924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8005680" y="5428800"/>
              <a:ext cx="264960" cy="15084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225920" y="456372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8400960" y="4949640"/>
              <a:ext cx="266400" cy="150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8724600" y="457344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7573680" y="424620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881840" y="3952440"/>
              <a:ext cx="247680" cy="1335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8640720" y="3260520"/>
              <a:ext cx="21240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8191440" y="3676320"/>
              <a:ext cx="222120" cy="11592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5280" bIns="352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8440560" y="3457440"/>
              <a:ext cx="212760" cy="9684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8858160" y="307152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9029520" y="2877840"/>
              <a:ext cx="203040" cy="96840"/>
            </a:xfrm>
            <a:prstGeom prst="ellipse">
              <a:avLst/>
            </a:prstGeom>
            <a:gradFill rotWithShape="0">
              <a:gsLst>
                <a:gs pos="0">
                  <a:srgbClr val="3a3a57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960" bIns="2196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8988120" y="4257360"/>
              <a:ext cx="247680" cy="131760"/>
            </a:xfrm>
            <a:prstGeom prst="ellipse">
              <a:avLst/>
            </a:prstGeom>
            <a:gradFill rotWithShape="0">
              <a:gsLst>
                <a:gs pos="0">
                  <a:srgbClr val="37375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>
              <a:off x="-105120" y="4551120"/>
              <a:ext cx="238320" cy="141120"/>
            </a:xfrm>
            <a:prstGeom prst="ellipse">
              <a:avLst/>
            </a:prstGeom>
            <a:gradFill rotWithShape="0">
              <a:gsLst>
                <a:gs pos="0">
                  <a:srgbClr val="46466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1440" y="3935160"/>
              <a:ext cx="247680" cy="141120"/>
            </a:xfrm>
            <a:prstGeom prst="ellipse">
              <a:avLst/>
            </a:prstGeom>
            <a:gradFill rotWithShape="0">
              <a:gsLst>
                <a:gs pos="0">
                  <a:srgbClr val="4c4c73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-16200" y="2282400"/>
              <a:ext cx="168480" cy="69840"/>
            </a:xfrm>
            <a:prstGeom prst="ellipse">
              <a:avLst/>
            </a:prstGeom>
            <a:gradFill rotWithShape="0">
              <a:gsLst>
                <a:gs pos="0">
                  <a:srgbClr val="5c5c8a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880" bIns="288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8926200" y="6368760"/>
              <a:ext cx="319320" cy="168120"/>
            </a:xfrm>
            <a:prstGeom prst="ellipse">
              <a:avLst/>
            </a:prstGeom>
            <a:gradFill rotWithShape="0">
              <a:gsLst>
                <a:gs pos="0">
                  <a:srgbClr val="27273b"/>
                </a:gs>
                <a:gs pos="100000">
                  <a:srgbClr val="6666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685800" y="1844640"/>
            <a:ext cx="7772400" cy="1736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dfdef6"/>
                </a:solidFill>
                <a:latin typeface="Arial"/>
              </a:rPr>
              <a:t>Click to edit the title text format</a:t>
            </a:r>
            <a:endParaRPr b="0" lang="en-US" sz="5400" spc="-1" strike="noStrike">
              <a:solidFill>
                <a:srgbClr val="dfdef6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853864-8D0A-408D-BFC1-BCBB029B38A0}" type="slidenum">
              <a:rPr b="0" lang="zh-CN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13" name=""/>
          <p:cNvGrpSpPr/>
          <p:nvPr/>
        </p:nvGrpSpPr>
        <p:grpSpPr>
          <a:xfrm>
            <a:off x="-1541880" y="-11520"/>
            <a:ext cx="10685880" cy="7440120"/>
            <a:chOff x="-1541880" y="-11520"/>
            <a:chExt cx="10685880" cy="7440120"/>
          </a:xfrm>
        </p:grpSpPr>
        <p:sp>
          <p:nvSpPr>
            <p:cNvPr id="514" name=""/>
            <p:cNvSpPr/>
            <p:nvPr/>
          </p:nvSpPr>
          <p:spPr>
            <a:xfrm>
              <a:off x="2590920" y="6120"/>
              <a:ext cx="2757240" cy="687816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5" name=""/>
            <p:cNvSpPr/>
            <p:nvPr/>
          </p:nvSpPr>
          <p:spPr>
            <a:xfrm>
              <a:off x="0" y="2880"/>
              <a:ext cx="2757600" cy="68720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6" name=""/>
            <p:cNvSpPr/>
            <p:nvPr/>
          </p:nvSpPr>
          <p:spPr>
            <a:xfrm>
              <a:off x="5943600" y="7560"/>
              <a:ext cx="2760840" cy="68734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7" name=""/>
            <p:cNvSpPr/>
            <p:nvPr/>
          </p:nvSpPr>
          <p:spPr>
            <a:xfrm>
              <a:off x="3048120" y="0"/>
              <a:ext cx="3301920" cy="686412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8" name=""/>
            <p:cNvSpPr/>
            <p:nvPr/>
          </p:nvSpPr>
          <p:spPr>
            <a:xfrm>
              <a:off x="185760" y="16812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19" name=""/>
            <p:cNvSpPr/>
            <p:nvPr/>
          </p:nvSpPr>
          <p:spPr>
            <a:xfrm flipH="1" rot="2703000">
              <a:off x="1285200" y="1230120"/>
              <a:ext cx="403848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0" name=""/>
            <p:cNvSpPr/>
            <p:nvPr/>
          </p:nvSpPr>
          <p:spPr>
            <a:xfrm>
              <a:off x="131760" y="91800"/>
              <a:ext cx="5562720" cy="2437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1" name=""/>
            <p:cNvSpPr/>
            <p:nvPr/>
          </p:nvSpPr>
          <p:spPr>
            <a:xfrm rot="18703800">
              <a:off x="-1561680" y="166608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2" name=""/>
            <p:cNvSpPr/>
            <p:nvPr/>
          </p:nvSpPr>
          <p:spPr>
            <a:xfrm rot="19294800">
              <a:off x="2112840" y="1463040"/>
              <a:ext cx="5705640" cy="27540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3" name=""/>
            <p:cNvSpPr/>
            <p:nvPr/>
          </p:nvSpPr>
          <p:spPr>
            <a:xfrm flipH="1" rot="2085000">
              <a:off x="2951280" y="1386720"/>
              <a:ext cx="556236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4" name=""/>
            <p:cNvSpPr/>
            <p:nvPr/>
          </p:nvSpPr>
          <p:spPr>
            <a:xfrm>
              <a:off x="6746760" y="2880"/>
              <a:ext cx="1729080" cy="362700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5" name=""/>
            <p:cNvSpPr/>
            <p:nvPr/>
          </p:nvSpPr>
          <p:spPr>
            <a:xfrm>
              <a:off x="0" y="6221160"/>
              <a:ext cx="9144000" cy="68544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6" name=""/>
            <p:cNvSpPr/>
            <p:nvPr/>
          </p:nvSpPr>
          <p:spPr>
            <a:xfrm>
              <a:off x="2590920" y="6294240"/>
              <a:ext cx="2757240" cy="60588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7" name=""/>
            <p:cNvSpPr/>
            <p:nvPr/>
          </p:nvSpPr>
          <p:spPr>
            <a:xfrm>
              <a:off x="0" y="6294240"/>
              <a:ext cx="2757600" cy="6044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8" name=""/>
            <p:cNvSpPr/>
            <p:nvPr/>
          </p:nvSpPr>
          <p:spPr>
            <a:xfrm>
              <a:off x="5943600" y="6294240"/>
              <a:ext cx="2760840" cy="60588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29" name=""/>
            <p:cNvSpPr/>
            <p:nvPr/>
          </p:nvSpPr>
          <p:spPr>
            <a:xfrm>
              <a:off x="3048120" y="6294240"/>
              <a:ext cx="3301920" cy="60444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0" name=""/>
            <p:cNvSpPr/>
            <p:nvPr/>
          </p:nvSpPr>
          <p:spPr>
            <a:xfrm>
              <a:off x="0" y="6213240"/>
              <a:ext cx="9144000" cy="68544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1" name=""/>
            <p:cNvSpPr/>
            <p:nvPr/>
          </p:nvSpPr>
          <p:spPr>
            <a:xfrm>
              <a:off x="4100400" y="6233760"/>
              <a:ext cx="1644840" cy="66636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2" name=""/>
            <p:cNvSpPr/>
            <p:nvPr/>
          </p:nvSpPr>
          <p:spPr>
            <a:xfrm flipH="1" rot="18897000">
              <a:off x="2358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3" name=""/>
            <p:cNvSpPr/>
            <p:nvPr/>
          </p:nvSpPr>
          <p:spPr>
            <a:xfrm flipH="1" rot="18897000">
              <a:off x="1215720" y="6182640"/>
              <a:ext cx="1682640" cy="7621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4" name=""/>
            <p:cNvSpPr/>
            <p:nvPr/>
          </p:nvSpPr>
          <p:spPr>
            <a:xfrm flipH="1" rot="18897000">
              <a:off x="48240" y="6132960"/>
              <a:ext cx="164124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5" name=""/>
            <p:cNvSpPr/>
            <p:nvPr/>
          </p:nvSpPr>
          <p:spPr>
            <a:xfrm flipH="1" flipV="1">
              <a:off x="913680" y="6221160"/>
              <a:ext cx="563868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6" name=""/>
            <p:cNvSpPr/>
            <p:nvPr/>
          </p:nvSpPr>
          <p:spPr>
            <a:xfrm flipH="1" flipV="1">
              <a:off x="38052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7" name=""/>
            <p:cNvSpPr/>
            <p:nvPr/>
          </p:nvSpPr>
          <p:spPr>
            <a:xfrm flipH="1" flipV="1">
              <a:off x="4819680" y="6297480"/>
              <a:ext cx="2114640" cy="6076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8" name=""/>
            <p:cNvSpPr/>
            <p:nvPr/>
          </p:nvSpPr>
          <p:spPr>
            <a:xfrm flipH="1" flipV="1">
              <a:off x="6324480" y="6221160"/>
              <a:ext cx="243864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39" name=""/>
            <p:cNvSpPr/>
            <p:nvPr/>
          </p:nvSpPr>
          <p:spPr>
            <a:xfrm flipH="1" flipV="1">
              <a:off x="5486400" y="6221160"/>
              <a:ext cx="3657600" cy="6854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0" y="6254640"/>
              <a:ext cx="9144000" cy="216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</p:grpSp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685800" y="46404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f98d43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9ce157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2663a0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 type="dt" idx="7"/>
          </p:nvPr>
        </p:nvSpPr>
        <p:spPr>
          <a:xfrm>
            <a:off x="71280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 type="ftr" idx="8"/>
          </p:nvPr>
        </p:nvSpPr>
        <p:spPr>
          <a:xfrm>
            <a:off x="3151080" y="63133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45" name="PlaceHolder 5"/>
          <p:cNvSpPr>
            <a:spLocks noGrp="1"/>
          </p:cNvSpPr>
          <p:nvPr>
            <p:ph type="sldNum" idx="9"/>
          </p:nvPr>
        </p:nvSpPr>
        <p:spPr>
          <a:xfrm>
            <a:off x="6580080" y="6313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4C0F6-8EE3-48E5-AE05-DA56CE0EE786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2" name=""/>
          <p:cNvGrpSpPr/>
          <p:nvPr/>
        </p:nvGrpSpPr>
        <p:grpSpPr>
          <a:xfrm>
            <a:off x="-1542240" y="-25560"/>
            <a:ext cx="10697400" cy="6896160"/>
            <a:chOff x="-1542240" y="-25560"/>
            <a:chExt cx="10697400" cy="6896160"/>
          </a:xfrm>
        </p:grpSpPr>
        <p:sp>
          <p:nvSpPr>
            <p:cNvPr id="583" name=""/>
            <p:cNvSpPr/>
            <p:nvPr/>
          </p:nvSpPr>
          <p:spPr>
            <a:xfrm>
              <a:off x="2590920" y="-7920"/>
              <a:ext cx="2757240" cy="687852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4" name=""/>
            <p:cNvSpPr/>
            <p:nvPr/>
          </p:nvSpPr>
          <p:spPr>
            <a:xfrm>
              <a:off x="0" y="-11160"/>
              <a:ext cx="2757600" cy="68724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5" name=""/>
            <p:cNvSpPr/>
            <p:nvPr/>
          </p:nvSpPr>
          <p:spPr>
            <a:xfrm>
              <a:off x="5943600" y="-6480"/>
              <a:ext cx="2760840" cy="68738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6" name=""/>
            <p:cNvSpPr/>
            <p:nvPr/>
          </p:nvSpPr>
          <p:spPr>
            <a:xfrm>
              <a:off x="3048120" y="-14400"/>
              <a:ext cx="3301920" cy="686448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7" name=""/>
            <p:cNvSpPr/>
            <p:nvPr/>
          </p:nvSpPr>
          <p:spPr>
            <a:xfrm>
              <a:off x="185760" y="15408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000044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8" name=""/>
            <p:cNvSpPr/>
            <p:nvPr/>
          </p:nvSpPr>
          <p:spPr>
            <a:xfrm flipH="1" rot="2703000">
              <a:off x="1285920" y="1215720"/>
              <a:ext cx="4038840" cy="16002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89" name=""/>
            <p:cNvSpPr/>
            <p:nvPr/>
          </p:nvSpPr>
          <p:spPr>
            <a:xfrm>
              <a:off x="131760" y="7776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0" name=""/>
            <p:cNvSpPr/>
            <p:nvPr/>
          </p:nvSpPr>
          <p:spPr>
            <a:xfrm rot="18703800">
              <a:off x="-1562400" y="1652400"/>
              <a:ext cx="5562720" cy="243828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1" name=""/>
            <p:cNvSpPr/>
            <p:nvPr/>
          </p:nvSpPr>
          <p:spPr>
            <a:xfrm rot="19294800">
              <a:off x="2112840" y="1449000"/>
              <a:ext cx="5705640" cy="27543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2" name=""/>
            <p:cNvSpPr/>
            <p:nvPr/>
          </p:nvSpPr>
          <p:spPr>
            <a:xfrm flipH="1" rot="2085000">
              <a:off x="2950920" y="1372680"/>
              <a:ext cx="5562360" cy="24386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3" name=""/>
            <p:cNvSpPr/>
            <p:nvPr/>
          </p:nvSpPr>
          <p:spPr>
            <a:xfrm>
              <a:off x="6746760" y="-11160"/>
              <a:ext cx="1729080" cy="3627360"/>
            </a:xfrm>
            <a:custGeom>
              <a:avLst/>
              <a:gdLst/>
              <a:ahLst/>
              <a:rect l="l" t="t" r="r" b="b"/>
              <a:pathLst>
                <a:path w="1089" h="2285">
                  <a:moveTo>
                    <a:pt x="0" y="2265"/>
                  </a:moveTo>
                  <a:cubicBezTo>
                    <a:pt x="438" y="996"/>
                    <a:pt x="865" y="377"/>
                    <a:pt x="1030" y="0"/>
                  </a:cubicBezTo>
                  <a:cubicBezTo>
                    <a:pt x="1030" y="0"/>
                    <a:pt x="1059" y="0"/>
                    <a:pt x="1089" y="0"/>
                  </a:cubicBezTo>
                  <a:cubicBezTo>
                    <a:pt x="565" y="834"/>
                    <a:pt x="181" y="1853"/>
                    <a:pt x="37" y="2285"/>
                  </a:cubicBezTo>
                  <a:cubicBezTo>
                    <a:pt x="37" y="2285"/>
                    <a:pt x="0" y="2265"/>
                    <a:pt x="0" y="2265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4" name=""/>
            <p:cNvSpPr/>
            <p:nvPr/>
          </p:nvSpPr>
          <p:spPr>
            <a:xfrm>
              <a:off x="0" y="3875040"/>
              <a:ext cx="9144000" cy="6858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5" name=""/>
            <p:cNvSpPr/>
            <p:nvPr/>
          </p:nvSpPr>
          <p:spPr>
            <a:xfrm>
              <a:off x="2590920" y="3948120"/>
              <a:ext cx="2757240" cy="60624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6" name=""/>
            <p:cNvSpPr/>
            <p:nvPr/>
          </p:nvSpPr>
          <p:spPr>
            <a:xfrm>
              <a:off x="0" y="3948120"/>
              <a:ext cx="2757600" cy="604800"/>
            </a:xfrm>
            <a:custGeom>
              <a:avLst/>
              <a:gdLst/>
              <a:ahLst/>
              <a:rect l="l" t="t" r="r" b="b"/>
              <a:pathLst>
                <a:path w="1737" h="4320">
                  <a:moveTo>
                    <a:pt x="494" y="4309"/>
                  </a:moveTo>
                  <a:lnTo>
                    <a:pt x="1737" y="43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309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7" name=""/>
            <p:cNvSpPr/>
            <p:nvPr/>
          </p:nvSpPr>
          <p:spPr>
            <a:xfrm>
              <a:off x="5943600" y="3948120"/>
              <a:ext cx="2760840" cy="606240"/>
            </a:xfrm>
            <a:custGeom>
              <a:avLst/>
              <a:gdLst/>
              <a:ahLst/>
              <a:rect l="l" t="t" r="r" b="b"/>
              <a:pathLst>
                <a:path w="1739" h="4420">
                  <a:moveTo>
                    <a:pt x="494" y="4415"/>
                  </a:moveTo>
                  <a:lnTo>
                    <a:pt x="1739" y="4420"/>
                  </a:lnTo>
                  <a:lnTo>
                    <a:pt x="524" y="0"/>
                  </a:lnTo>
                  <a:lnTo>
                    <a:pt x="0" y="7"/>
                  </a:lnTo>
                  <a:lnTo>
                    <a:pt x="494" y="4415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8" name=""/>
            <p:cNvSpPr/>
            <p:nvPr/>
          </p:nvSpPr>
          <p:spPr>
            <a:xfrm>
              <a:off x="3048120" y="3948120"/>
              <a:ext cx="3301920" cy="604800"/>
            </a:xfrm>
            <a:custGeom>
              <a:avLst/>
              <a:gdLst/>
              <a:ahLst/>
              <a:rect l="l" t="t" r="r" b="b"/>
              <a:pathLst>
                <a:path w="2080" h="4338">
                  <a:moveTo>
                    <a:pt x="0" y="7"/>
                  </a:moveTo>
                  <a:lnTo>
                    <a:pt x="1870" y="4338"/>
                  </a:lnTo>
                  <a:lnTo>
                    <a:pt x="2080" y="4338"/>
                  </a:lnTo>
                  <a:lnTo>
                    <a:pt x="1033" y="0"/>
                  </a:lnTo>
                  <a:lnTo>
                    <a:pt x="0" y="7"/>
                  </a:lnTo>
                  <a:close/>
                </a:path>
              </a:pathLst>
            </a:cu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599" name=""/>
            <p:cNvSpPr/>
            <p:nvPr/>
          </p:nvSpPr>
          <p:spPr>
            <a:xfrm>
              <a:off x="11160" y="3898800"/>
              <a:ext cx="9144000" cy="685800"/>
            </a:xfrm>
            <a:prstGeom prst="rect">
              <a:avLst/>
            </a:prstGeom>
            <a:solidFill>
              <a:srgbClr val="000044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0" name=""/>
            <p:cNvSpPr/>
            <p:nvPr/>
          </p:nvSpPr>
          <p:spPr>
            <a:xfrm>
              <a:off x="4100400" y="3887640"/>
              <a:ext cx="1644840" cy="666720"/>
            </a:xfrm>
            <a:custGeom>
              <a:avLst/>
              <a:gdLst/>
              <a:ahLst/>
              <a:rect l="l" t="t" r="r" b="b"/>
              <a:pathLst>
                <a:path w="1036" h="420">
                  <a:moveTo>
                    <a:pt x="1027" y="0"/>
                  </a:moveTo>
                  <a:cubicBezTo>
                    <a:pt x="508" y="159"/>
                    <a:pt x="167" y="347"/>
                    <a:pt x="0" y="417"/>
                  </a:cubicBezTo>
                  <a:cubicBezTo>
                    <a:pt x="0" y="417"/>
                    <a:pt x="12" y="418"/>
                    <a:pt x="24" y="420"/>
                  </a:cubicBezTo>
                  <a:cubicBezTo>
                    <a:pt x="237" y="321"/>
                    <a:pt x="708" y="105"/>
                    <a:pt x="1036" y="16"/>
                  </a:cubicBezTo>
                  <a:cubicBezTo>
                    <a:pt x="1036" y="16"/>
                    <a:pt x="1027" y="0"/>
                    <a:pt x="1027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1" name=""/>
            <p:cNvSpPr/>
            <p:nvPr/>
          </p:nvSpPr>
          <p:spPr>
            <a:xfrm flipH="1" rot="18897000">
              <a:off x="2358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2" name=""/>
            <p:cNvSpPr/>
            <p:nvPr/>
          </p:nvSpPr>
          <p:spPr>
            <a:xfrm flipH="1" rot="18897000">
              <a:off x="1215720" y="3836880"/>
              <a:ext cx="1683000" cy="76176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3" name=""/>
            <p:cNvSpPr/>
            <p:nvPr/>
          </p:nvSpPr>
          <p:spPr>
            <a:xfrm flipH="1" rot="18897000">
              <a:off x="47160" y="3786840"/>
              <a:ext cx="1641600" cy="77292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4" name=""/>
            <p:cNvSpPr/>
            <p:nvPr/>
          </p:nvSpPr>
          <p:spPr>
            <a:xfrm flipH="1" flipV="1">
              <a:off x="913680" y="3874320"/>
              <a:ext cx="563868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5" name=""/>
            <p:cNvSpPr/>
            <p:nvPr/>
          </p:nvSpPr>
          <p:spPr>
            <a:xfrm flipH="1" flipV="1">
              <a:off x="38052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6" name=""/>
            <p:cNvSpPr/>
            <p:nvPr/>
          </p:nvSpPr>
          <p:spPr>
            <a:xfrm flipH="1" flipV="1">
              <a:off x="4819680" y="3950640"/>
              <a:ext cx="2114640" cy="60804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7" name=""/>
            <p:cNvSpPr/>
            <p:nvPr/>
          </p:nvSpPr>
          <p:spPr>
            <a:xfrm flipH="1" flipV="1">
              <a:off x="6324480" y="3874320"/>
              <a:ext cx="243864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8" name=""/>
            <p:cNvSpPr/>
            <p:nvPr/>
          </p:nvSpPr>
          <p:spPr>
            <a:xfrm flipH="1" flipV="1">
              <a:off x="5486400" y="3874320"/>
              <a:ext cx="3657600" cy="685800"/>
            </a:xfrm>
            <a:custGeom>
              <a:avLst/>
              <a:gdLst/>
              <a:ahLst/>
              <a:rect l="l" t="t" r="r" b="b"/>
              <a:pathLst>
                <a:path w="4763" h="1845">
                  <a:moveTo>
                    <a:pt x="0" y="1778"/>
                  </a:moveTo>
                  <a:cubicBezTo>
                    <a:pt x="2065" y="797"/>
                    <a:pt x="3942" y="281"/>
                    <a:pt x="4742" y="0"/>
                  </a:cubicBezTo>
                  <a:lnTo>
                    <a:pt x="4763" y="42"/>
                  </a:lnTo>
                  <a:cubicBezTo>
                    <a:pt x="3976" y="350"/>
                    <a:pt x="1830" y="918"/>
                    <a:pt x="20" y="1845"/>
                  </a:cubicBezTo>
                  <a:cubicBezTo>
                    <a:pt x="20" y="1845"/>
                    <a:pt x="0" y="1778"/>
                    <a:pt x="0" y="1778"/>
                  </a:cubicBezTo>
                  <a:close/>
                </a:path>
              </a:pathLst>
            </a:custGeom>
            <a:gradFill rotWithShape="0">
              <a:gsLst>
                <a:gs pos="0">
                  <a:srgbClr val="000066"/>
                </a:gs>
                <a:gs pos="50000">
                  <a:srgbClr val="2663a0"/>
                </a:gs>
                <a:gs pos="100000">
                  <a:srgbClr val="00006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0" y="3908520"/>
              <a:ext cx="9144000" cy="2196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50000">
                  <a:srgbClr val="9ce157"/>
                </a:gs>
                <a:gs pos="100000">
                  <a:srgbClr val="00004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4840" bIns="-2484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0" name=""/>
            <p:cNvSpPr/>
            <p:nvPr/>
          </p:nvSpPr>
          <p:spPr>
            <a:xfrm>
              <a:off x="0" y="4572000"/>
              <a:ext cx="9144000" cy="914400"/>
            </a:xfrm>
            <a:prstGeom prst="rect">
              <a:avLst/>
            </a:prstGeom>
            <a:gradFill rotWithShape="0">
              <a:gsLst>
                <a:gs pos="0">
                  <a:srgbClr val="000044"/>
                </a:gs>
                <a:gs pos="100000">
                  <a:srgbClr val="00006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sp>
          <p:nvSpPr>
            <p:cNvPr id="611" name=""/>
            <p:cNvSpPr/>
            <p:nvPr/>
          </p:nvSpPr>
          <p:spPr>
            <a:xfrm>
              <a:off x="0" y="5410080"/>
              <a:ext cx="9144000" cy="1447920"/>
            </a:xfrm>
            <a:prstGeom prst="rect">
              <a:avLst/>
            </a:prstGeom>
            <a:solidFill>
              <a:srgbClr val="0000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ff"/>
                </a:solidFill>
                <a:latin typeface="Times New Roman"/>
              </a:endParaRPr>
            </a:p>
          </p:txBody>
        </p:sp>
        <p:pic>
          <p:nvPicPr>
            <p:cNvPr id="612" name="" descr=""/>
            <p:cNvPicPr/>
            <p:nvPr/>
          </p:nvPicPr>
          <p:blipFill>
            <a:blip r:embed="rId2"/>
            <a:stretch/>
          </p:blipFill>
          <p:spPr>
            <a:xfrm>
              <a:off x="1247760" y="2619360"/>
              <a:ext cx="324000" cy="324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613" name="PlaceHolder 1"/>
          <p:cNvSpPr>
            <a:spLocks noGrp="1"/>
          </p:cNvSpPr>
          <p:nvPr>
            <p:ph type="title"/>
          </p:nvPr>
        </p:nvSpPr>
        <p:spPr>
          <a:xfrm>
            <a:off x="1676520" y="1904760"/>
            <a:ext cx="723888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00"/>
                </a:solidFill>
                <a:latin typeface="Arial Black"/>
              </a:rPr>
              <a:t>Click to edit the title text format</a:t>
            </a: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  <p:sp>
        <p:nvSpPr>
          <p:cNvPr id="614" name="PlaceHolder 2"/>
          <p:cNvSpPr>
            <a:spLocks noGrp="1"/>
          </p:cNvSpPr>
          <p:nvPr>
            <p:ph type="dt" idx="10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5" name="PlaceHolder 3"/>
          <p:cNvSpPr>
            <a:spLocks noGrp="1"/>
          </p:cNvSpPr>
          <p:nvPr>
            <p:ph type="ftr" idx="11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ffffff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6" name="PlaceHolder 4"/>
          <p:cNvSpPr>
            <a:spLocks noGrp="1"/>
          </p:cNvSpPr>
          <p:nvPr>
            <p:ph type="sldNum" idx="12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CB1F1E-C1B0-4778-85DC-F2AE3941B4C0}" type="slidenum">
              <a:rPr b="0" lang="zh-CN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image" Target="../media/image15.jpeg"/><Relationship Id="rId5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wmf"/><Relationship Id="rId3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20.xml"/><Relationship Id="rId5" Type="http://schemas.openxmlformats.org/officeDocument/2006/relationships/slide" Target="slide24.xml"/><Relationship Id="rId6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2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2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4.xml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image" Target="../media/image7.gif"/><Relationship Id="rId3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2.xml"/><Relationship Id="rId6" Type="http://schemas.openxmlformats.org/officeDocument/2006/relationships/slide" Target="slide2.xml"/><Relationship Id="rId7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654" name=""/>
          <p:cNvSpPr/>
          <p:nvPr/>
        </p:nvSpPr>
        <p:spPr>
          <a:xfrm>
            <a:off x="755640" y="907920"/>
            <a:ext cx="7272360" cy="423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6600cc"/>
                </a:solidFill>
                <a:latin typeface="Bookman Old Style"/>
                <a:ea typeface="隶书"/>
              </a:rPr>
              <a:t>      </a:t>
            </a:r>
            <a:r>
              <a:rPr b="1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Unit 1 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 </a:t>
            </a:r>
            <a:r>
              <a:rPr b="1" lang="zh-CN" sz="6600" spc="-1" strike="noStrike">
                <a:solidFill>
                  <a:srgbClr val="0000ff"/>
                </a:solidFill>
                <a:latin typeface="Comic Sans MS"/>
                <a:ea typeface="隶书"/>
              </a:rPr>
              <a:t>Good   friend</a:t>
            </a:r>
            <a:r>
              <a:rPr b="0" lang="zh-CN" sz="6600" spc="-1" strike="noStrike">
                <a:solidFill>
                  <a:srgbClr val="6600cc"/>
                </a:solidFill>
                <a:latin typeface="Comic Sans MS"/>
                <a:ea typeface="隶书"/>
              </a:rPr>
              <a:t> </a:t>
            </a:r>
            <a:endParaRPr b="0" lang="en-US" sz="6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ffff"/>
                </a:solidFill>
                <a:latin typeface="Arial"/>
                <a:ea typeface="隶书"/>
              </a:rPr>
              <a:t>                                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2663a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"/>
          <p:cNvSpPr/>
          <p:nvPr/>
        </p:nvSpPr>
        <p:spPr>
          <a:xfrm>
            <a:off x="914400" y="838080"/>
            <a:ext cx="3581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-1" strike="noStrike">
                <a:solidFill>
                  <a:srgbClr val="ffffff"/>
                </a:solidFill>
                <a:latin typeface="Times New Roman"/>
              </a:rPr>
              <a:t>Pre-listening</a:t>
            </a:r>
            <a:r>
              <a:rPr b="0" i="1" lang="en-US" sz="4000" spc="-1" strike="noStrike">
                <a:solidFill>
                  <a:srgbClr val="ffffff"/>
                </a:solidFill>
                <a:latin typeface="Tahoma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6" name=""/>
          <p:cNvSpPr/>
          <p:nvPr/>
        </p:nvSpPr>
        <p:spPr>
          <a:xfrm>
            <a:off x="1143000" y="3124080"/>
            <a:ext cx="5715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07" name=""/>
          <p:cNvGraphicFramePr/>
          <p:nvPr/>
        </p:nvGraphicFramePr>
        <p:xfrm>
          <a:off x="990720" y="2362320"/>
          <a:ext cx="7391160" cy="2908080"/>
        </p:xfrm>
        <a:graphic>
          <a:graphicData uri="http://schemas.openxmlformats.org/drawingml/2006/table">
            <a:tbl>
              <a:tblPr/>
              <a:tblGrid>
                <a:gridCol w="1218960"/>
                <a:gridCol w="1752840"/>
                <a:gridCol w="1981080"/>
                <a:gridCol w="2438280"/>
              </a:tblGrid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ea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itua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blem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olut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7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68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8" name=""/>
          <p:cNvSpPr/>
          <p:nvPr/>
        </p:nvSpPr>
        <p:spPr>
          <a:xfrm>
            <a:off x="1143000" y="762120"/>
            <a:ext cx="7315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3600" spc="-1" strike="noStrike">
                <a:solidFill>
                  <a:srgbClr val="000044"/>
                </a:solidFill>
                <a:latin typeface="Arial Black"/>
              </a:rPr>
              <a:t>The Third &amp; Fourth Period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9" name=""/>
          <p:cNvSpPr/>
          <p:nvPr/>
        </p:nvSpPr>
        <p:spPr>
          <a:xfrm>
            <a:off x="1447920" y="2057400"/>
            <a:ext cx="5562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 Black"/>
              </a:rPr>
              <a:t>                </a:t>
            </a:r>
            <a:r>
              <a:rPr b="0" i="1" lang="en-US" sz="4000" spc="-1" strike="noStrike">
                <a:solidFill>
                  <a:srgbClr val="000044"/>
                </a:solidFill>
                <a:latin typeface="Arial Black"/>
              </a:rPr>
              <a:t>Read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0" name=""/>
          <p:cNvSpPr/>
          <p:nvPr/>
        </p:nvSpPr>
        <p:spPr>
          <a:xfrm>
            <a:off x="1371600" y="3352680"/>
            <a:ext cx="7010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44"/>
                </a:solidFill>
                <a:latin typeface="隶书"/>
                <a:ea typeface="隶书"/>
              </a:rPr>
              <a:t>任务 →目标 →语言技能 →活动形式→ 阅读教学模式 →教学思路 →教学程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"/>
          <p:cNvSpPr/>
          <p:nvPr/>
        </p:nvSpPr>
        <p:spPr>
          <a:xfrm>
            <a:off x="0" y="0"/>
            <a:ext cx="9144000" cy="826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                         </a:t>
            </a:r>
            <a:r>
              <a:rPr b="1" lang="zh-CN" sz="3600" spc="-1" strike="noStrike">
                <a:solidFill>
                  <a:srgbClr val="f98d43"/>
                </a:solidFill>
                <a:latin typeface="Arial"/>
                <a:ea typeface="隶书"/>
              </a:rPr>
              <a:t>Reading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1 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师生互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描写在孤岛上生存的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情感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2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个人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快读查找每段主题句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/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细读找出段落大意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3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小组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讨论发表自己的意见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Activity 4  </a:t>
            </a:r>
            <a:r>
              <a:rPr b="1" lang="zh-CN" sz="3600" spc="-1" strike="noStrike">
                <a:solidFill>
                  <a:srgbClr val="000044"/>
                </a:solidFill>
                <a:latin typeface="Arial"/>
                <a:ea typeface="隶书"/>
              </a:rPr>
              <a:t>班级活动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归纳学生意见，从而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                                            </a:t>
            </a:r>
            <a:r>
              <a:rPr b="0" lang="zh-CN" sz="3200" spc="-1" strike="noStrike">
                <a:solidFill>
                  <a:srgbClr val="000044"/>
                </a:solidFill>
                <a:latin typeface="Arial"/>
                <a:ea typeface="隶书"/>
              </a:rPr>
              <a:t>得出结论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12" name="" descr=""/>
          <p:cNvPicPr/>
          <p:nvPr/>
        </p:nvPicPr>
        <p:blipFill>
          <a:blip r:embed="rId1"/>
          <a:stretch/>
        </p:blipFill>
        <p:spPr>
          <a:xfrm flipH="1">
            <a:off x="2771640" y="0"/>
            <a:ext cx="6019920" cy="109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" dur="indefinite" restart="never" nodeType="tmRoot">
          <p:childTnLst>
            <p:seq>
              <p:cTn id="104" dur="indefinite" nodeType="mainSeq">
                <p:childTnLst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09" dur="500"/>
                                        <p:tgtEl>
                                          <p:spTgt spid="7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3" name="" descr=""/>
          <p:cNvPicPr/>
          <p:nvPr/>
        </p:nvPicPr>
        <p:blipFill>
          <a:blip r:embed="rId1"/>
          <a:stretch/>
        </p:blipFill>
        <p:spPr>
          <a:xfrm>
            <a:off x="3886200" y="0"/>
            <a:ext cx="5257800" cy="3276720"/>
          </a:xfrm>
          <a:prstGeom prst="rect">
            <a:avLst/>
          </a:prstGeom>
          <a:ln w="0">
            <a:noFill/>
          </a:ln>
        </p:spPr>
      </p:pic>
      <p:pic>
        <p:nvPicPr>
          <p:cNvPr id="714" name="" descr=""/>
          <p:cNvPicPr/>
          <p:nvPr/>
        </p:nvPicPr>
        <p:blipFill>
          <a:blip r:embed="rId2"/>
          <a:stretch/>
        </p:blipFill>
        <p:spPr>
          <a:xfrm>
            <a:off x="0" y="0"/>
            <a:ext cx="3886200" cy="3505320"/>
          </a:xfrm>
          <a:prstGeom prst="rect">
            <a:avLst/>
          </a:prstGeom>
          <a:ln w="0">
            <a:noFill/>
          </a:ln>
        </p:spPr>
      </p:pic>
      <p:pic>
        <p:nvPicPr>
          <p:cNvPr id="715" name="" descr=""/>
          <p:cNvPicPr/>
          <p:nvPr/>
        </p:nvPicPr>
        <p:blipFill>
          <a:blip r:embed="rId3"/>
          <a:stretch/>
        </p:blipFill>
        <p:spPr>
          <a:xfrm>
            <a:off x="0" y="3243240"/>
            <a:ext cx="3809880" cy="3614760"/>
          </a:xfrm>
          <a:prstGeom prst="rect">
            <a:avLst/>
          </a:prstGeom>
          <a:ln w="0">
            <a:noFill/>
          </a:ln>
        </p:spPr>
      </p:pic>
      <p:pic>
        <p:nvPicPr>
          <p:cNvPr id="716" name="" descr=""/>
          <p:cNvPicPr/>
          <p:nvPr/>
        </p:nvPicPr>
        <p:blipFill>
          <a:blip r:embed="rId4"/>
          <a:stretch/>
        </p:blipFill>
        <p:spPr>
          <a:xfrm>
            <a:off x="3809880" y="3276720"/>
            <a:ext cx="5334120" cy="3581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" dur="indefinite" restart="never" nodeType="tmRoot">
          <p:childTnLst>
            <p:seq>
              <p:cTn id="111" dur="indefinite" nodeType="mainSeq">
                <p:childTnLst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16" dur="500"/>
                                        <p:tgtEl>
                                          <p:spTgt spid="7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7" fill="hold">
                      <p:stCondLst>
                        <p:cond delay="indefinite"/>
                      </p:stCondLst>
                      <p:childTnLst>
                        <p:par>
                          <p:cTn id="118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1" dur="500"/>
                                        <p:tgtEl>
                                          <p:spTgt spid="7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6" dur="500"/>
                                        <p:tgtEl>
                                          <p:spTgt spid="7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131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7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18" name=""/>
          <p:cNvSpPr/>
          <p:nvPr/>
        </p:nvSpPr>
        <p:spPr>
          <a:xfrm>
            <a:off x="228600" y="533520"/>
            <a:ext cx="47242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ere is the man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19" name=""/>
          <p:cNvSpPr/>
          <p:nvPr/>
        </p:nvSpPr>
        <p:spPr>
          <a:xfrm>
            <a:off x="389160" y="1663560"/>
            <a:ext cx="6234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Century Gothic"/>
              </a:rPr>
              <a:t>What happened to him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0" name=""/>
          <p:cNvSpPr/>
          <p:nvPr/>
        </p:nvSpPr>
        <p:spPr>
          <a:xfrm>
            <a:off x="3733920" y="2352600"/>
            <a:ext cx="487656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cc"/>
                </a:solidFill>
                <a:latin typeface="Times New Roman"/>
              </a:rPr>
              <a:t>drift=cast away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1" name=""/>
          <p:cNvSpPr/>
          <p:nvPr/>
        </p:nvSpPr>
        <p:spPr>
          <a:xfrm>
            <a:off x="0" y="4419720"/>
            <a:ext cx="88390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3300"/>
                </a:solidFill>
                <a:latin typeface="Comic Sans MS"/>
              </a:rPr>
              <a:t> </a:t>
            </a:r>
            <a:r>
              <a:rPr b="0" lang="en-US" sz="4000" spc="-1" strike="noStrike">
                <a:solidFill>
                  <a:srgbClr val="ff3300"/>
                </a:solidFill>
                <a:latin typeface="Comic Sans MS"/>
              </a:rPr>
              <a:t>Has he got a friend on the island?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2" name=""/>
          <p:cNvSpPr/>
          <p:nvPr/>
        </p:nvSpPr>
        <p:spPr>
          <a:xfrm>
            <a:off x="3710160" y="3083040"/>
            <a:ext cx="2800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Comic Sans MS"/>
              </a:rPr>
              <a:t>castaway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2" dur="indefinite" restart="never" nodeType="tmRoot">
          <p:childTnLst>
            <p:seq>
              <p:cTn id="133" dur="indefinite" nodeType="mainSeq">
                <p:childTnLst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7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7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1" dur="500" fill="hold"/>
                                        <p:tgtEl>
                                          <p:spTgt spid="7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7" dur="500" fill="hold"/>
                                        <p:tgtEl>
                                          <p:spTgt spid="7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8" fill="hold">
                      <p:stCondLst>
                        <p:cond delay="indefinite"/>
                      </p:stCondLst>
                      <p:childTnLst>
                        <p:par>
                          <p:cTn id="159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500" fill="hold"/>
                                        <p:tgtEl>
                                          <p:spTgt spid="7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24" name=""/>
          <p:cNvSpPr/>
          <p:nvPr/>
        </p:nvSpPr>
        <p:spPr>
          <a:xfrm>
            <a:off x="380880" y="838080"/>
            <a:ext cx="83059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How would you        feel if you were alone                   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without friends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imes New Roman"/>
              </a:rPr>
              <a:t>just like the man?  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500" fill="hold"/>
                                        <p:tgtEl>
                                          <p:spTgt spid="7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"/>
          <p:cNvSpPr/>
          <p:nvPr/>
        </p:nvSpPr>
        <p:spPr>
          <a:xfrm>
            <a:off x="457200" y="750960"/>
            <a:ext cx="8305920" cy="2318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cc0066"/>
                </a:solidFill>
                <a:latin typeface="Arial"/>
                <a:ea typeface="隶书"/>
              </a:rPr>
              <a:t>    </a:t>
            </a:r>
            <a:r>
              <a:rPr b="1" lang="zh-CN" sz="5400" spc="-1" strike="noStrike">
                <a:solidFill>
                  <a:srgbClr val="990000"/>
                </a:solidFill>
                <a:latin typeface="Arial"/>
                <a:ea typeface="隶书"/>
              </a:rPr>
              <a:t>阅读教学模式</a:t>
            </a:r>
            <a:endParaRPr b="0" lang="en-US" sz="5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独立阅读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合作交流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,</a:t>
            </a:r>
            <a:r>
              <a:rPr b="1" lang="zh-CN" sz="4800" spc="-1" strike="noStrike">
                <a:solidFill>
                  <a:srgbClr val="990000"/>
                </a:solidFill>
                <a:latin typeface="Arial"/>
                <a:ea typeface="隶书"/>
              </a:rPr>
              <a:t>个性构建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26" name="" descr=""/>
          <p:cNvPicPr/>
          <p:nvPr/>
        </p:nvPicPr>
        <p:blipFill>
          <a:blip r:embed="rId2"/>
          <a:stretch/>
        </p:blipFill>
        <p:spPr>
          <a:xfrm>
            <a:off x="0" y="3830760"/>
            <a:ext cx="4495680" cy="302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cc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7" name=""/>
          <p:cNvSpPr/>
          <p:nvPr/>
        </p:nvSpPr>
        <p:spPr>
          <a:xfrm>
            <a:off x="1143000" y="2209680"/>
            <a:ext cx="365760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Befor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8" name=""/>
          <p:cNvSpPr/>
          <p:nvPr/>
        </p:nvSpPr>
        <p:spPr>
          <a:xfrm>
            <a:off x="3886200" y="2286000"/>
            <a:ext cx="16765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29" name=""/>
          <p:cNvSpPr/>
          <p:nvPr/>
        </p:nvSpPr>
        <p:spPr>
          <a:xfrm flipV="1">
            <a:off x="2666880" y="1981080"/>
            <a:ext cx="1143000" cy="60984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0" name=""/>
          <p:cNvSpPr/>
          <p:nvPr/>
        </p:nvSpPr>
        <p:spPr>
          <a:xfrm>
            <a:off x="2590920" y="2743200"/>
            <a:ext cx="1143000" cy="53352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1" name=""/>
          <p:cNvSpPr/>
          <p:nvPr/>
        </p:nvSpPr>
        <p:spPr>
          <a:xfrm>
            <a:off x="3809880" y="1676520"/>
            <a:ext cx="5334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A successful businessman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2" name=""/>
          <p:cNvSpPr/>
          <p:nvPr/>
        </p:nvSpPr>
        <p:spPr>
          <a:xfrm>
            <a:off x="3886200" y="2971800"/>
            <a:ext cx="5257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Has little time for friends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3" name=""/>
          <p:cNvSpPr/>
          <p:nvPr/>
        </p:nvSpPr>
        <p:spPr>
          <a:xfrm>
            <a:off x="1219320" y="4114800"/>
            <a:ext cx="2438280" cy="132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Af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44"/>
                </a:solidFill>
                <a:latin typeface="Times New Roman"/>
              </a:rPr>
              <a:t>the crash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4" name=""/>
          <p:cNvSpPr/>
          <p:nvPr/>
        </p:nvSpPr>
        <p:spPr>
          <a:xfrm flipV="1">
            <a:off x="2895480" y="4190760"/>
            <a:ext cx="1219320" cy="53316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5" name=""/>
          <p:cNvSpPr/>
          <p:nvPr/>
        </p:nvSpPr>
        <p:spPr>
          <a:xfrm>
            <a:off x="2895480" y="4876920"/>
            <a:ext cx="1143000" cy="609480"/>
          </a:xfrm>
          <a:prstGeom prst="line">
            <a:avLst/>
          </a:prstGeom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6" name=""/>
          <p:cNvSpPr/>
          <p:nvPr/>
        </p:nvSpPr>
        <p:spPr>
          <a:xfrm>
            <a:off x="3733920" y="3886200"/>
            <a:ext cx="58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The most difficult challeng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7" name=""/>
          <p:cNvSpPr/>
          <p:nvPr/>
        </p:nvSpPr>
        <p:spPr>
          <a:xfrm>
            <a:off x="4114800" y="5105520"/>
            <a:ext cx="43434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44"/>
                </a:solidFill>
                <a:latin typeface="Times New Roman"/>
              </a:rPr>
              <a:t>Learn and understand the friendship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8" name=""/>
          <p:cNvSpPr/>
          <p:nvPr/>
        </p:nvSpPr>
        <p:spPr>
          <a:xfrm>
            <a:off x="0" y="3048120"/>
            <a:ext cx="990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Times New Roman"/>
              </a:rPr>
              <a:t>The clue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39" name=""/>
          <p:cNvSpPr/>
          <p:nvPr/>
        </p:nvSpPr>
        <p:spPr>
          <a:xfrm>
            <a:off x="1203480" y="3276720"/>
            <a:ext cx="549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0" name=""/>
          <p:cNvSpPr/>
          <p:nvPr/>
        </p:nvSpPr>
        <p:spPr>
          <a:xfrm>
            <a:off x="1066680" y="2666880"/>
            <a:ext cx="304920" cy="1981440"/>
          </a:xfrm>
          <a:custGeom>
            <a:avLst/>
            <a:gdLst>
              <a:gd name="textAreaLeft" fmla="*/ 194760 w 304920"/>
              <a:gd name="textAreaRight" fmla="*/ 305280 w 304920"/>
              <a:gd name="textAreaTop" fmla="*/ 51480 h 1981440"/>
              <a:gd name="textAreaBottom" fmla="*/ 1929960 h 19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1" name=""/>
          <p:cNvSpPr/>
          <p:nvPr/>
        </p:nvSpPr>
        <p:spPr>
          <a:xfrm>
            <a:off x="533520" y="762120"/>
            <a:ext cx="6858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entury Gothic"/>
              </a:rPr>
              <a:t>What kind of person Chuck is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78" dur="500"/>
                                        <p:tgtEl>
                                          <p:spTgt spid="7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83" dur="500"/>
                                        <p:tgtEl>
                                          <p:spTgt spid="7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fill="hold">
                      <p:stCondLst>
                        <p:cond delay="indefinite"/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8" fill="hold">
                      <p:stCondLst>
                        <p:cond delay="indefinite"/>
                      </p:stCondLst>
                      <p:childTnLst>
                        <p:par>
                          <p:cTn id="189" fill="hold">
                            <p:stCondLst>
                              <p:cond delay="0"/>
                            </p:stCondLst>
                            <p:childTnLst>
                              <p:par>
                                <p:cTn id="19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2" fill="hold">
                      <p:stCondLst>
                        <p:cond delay="indefinite"/>
                      </p:stCondLst>
                      <p:childTnLst>
                        <p:par>
                          <p:cTn id="193" fill="hold">
                            <p:stCondLst>
                              <p:cond delay="0"/>
                            </p:stCondLst>
                            <p:childTnLst>
                              <p:par>
                                <p:cTn id="194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196" dur="500"/>
                                        <p:tgtEl>
                                          <p:spTgt spid="7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7" fill="hold">
                      <p:stCondLst>
                        <p:cond delay="indefinite"/>
                      </p:stCondLst>
                      <p:childTnLst>
                        <p:par>
                          <p:cTn id="198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Right)" transition="in">
                                      <p:cBhvr additive="repl">
                                        <p:cTn id="201" dur="500"/>
                                        <p:tgtEl>
                                          <p:spTgt spid="7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2" fill="hold">
                      <p:stCondLst>
                        <p:cond delay="indefinite"/>
                      </p:stCondLst>
                      <p:childTnLst>
                        <p:par>
                          <p:cTn id="203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6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7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8" fill="hold">
                      <p:stCondLst>
                        <p:cond delay="indefinite"/>
                      </p:stCondLst>
                      <p:childTnLst>
                        <p:par>
                          <p:cTn id="209" fill="hold">
                            <p:stCondLst>
                              <p:cond delay="0"/>
                            </p:stCondLst>
                            <p:childTnLst>
                              <p:par>
                                <p:cTn id="21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212" dur="500"/>
                                        <p:tgtEl>
                                          <p:spTgt spid="7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2" name=""/>
          <p:cNvSpPr/>
          <p:nvPr/>
        </p:nvSpPr>
        <p:spPr>
          <a:xfrm>
            <a:off x="1523880" y="2514600"/>
            <a:ext cx="6172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43" name=""/>
          <p:cNvGraphicFramePr/>
          <p:nvPr/>
        </p:nvGraphicFramePr>
        <p:xfrm>
          <a:off x="304920" y="2286000"/>
          <a:ext cx="8839080" cy="4154400"/>
        </p:xfrm>
        <a:graphic>
          <a:graphicData uri="http://schemas.openxmlformats.org/drawingml/2006/table">
            <a:tbl>
              <a:tblPr/>
              <a:tblGrid>
                <a:gridCol w="2860560"/>
                <a:gridCol w="2776680"/>
                <a:gridCol w="3201840"/>
              </a:tblGrid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Friend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Disadvantage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191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Human be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55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Animal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45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3600" spc="-1" strike="noStrike">
                          <a:solidFill>
                            <a:srgbClr val="ffffff"/>
                          </a:solidFill>
                          <a:latin typeface="Times New Roman"/>
                        </a:rPr>
                        <a:t>Things</a:t>
                      </a:r>
                      <a:endParaRPr b="0" lang="en-US" sz="36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901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44" name=""/>
          <p:cNvSpPr/>
          <p:nvPr/>
        </p:nvSpPr>
        <p:spPr>
          <a:xfrm>
            <a:off x="-1219320" y="990720"/>
            <a:ext cx="8384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5" name=""/>
          <p:cNvSpPr txBox="1"/>
          <p:nvPr/>
        </p:nvSpPr>
        <p:spPr>
          <a:xfrm>
            <a:off x="457200" y="228600"/>
            <a:ext cx="6705720" cy="1752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Discussion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3" dur="indefinite" restart="never" nodeType="tmRoot">
          <p:childTnLst>
            <p:seq>
              <p:cTn id="214" dur="indefinite" nodeType="mainSeq">
                <p:childTnLst>
                  <p:par>
                    <p:cTn id="215" fill="hold">
                      <p:stCondLst>
                        <p:cond delay="indefinite"/>
                      </p:stCondLst>
                      <p:childTnLst>
                        <p:par>
                          <p:cTn id="216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9" dur="500"/>
                                        <p:tgtEl>
                                          <p:spTgt spid="7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6699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6" name=""/>
          <p:cNvSpPr/>
          <p:nvPr/>
        </p:nvSpPr>
        <p:spPr>
          <a:xfrm>
            <a:off x="457200" y="685800"/>
            <a:ext cx="81532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How do you understand the following sentences in the passage</a:t>
            </a:r>
            <a:r>
              <a:rPr b="0" lang="en-US" sz="3600" spc="-1" strike="noStrike">
                <a:solidFill>
                  <a:srgbClr val="000044"/>
                </a:solidFill>
                <a:latin typeface="Comic Sans MS"/>
              </a:rPr>
              <a:t>?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7" name=""/>
          <p:cNvSpPr/>
          <p:nvPr/>
        </p:nvSpPr>
        <p:spPr>
          <a:xfrm>
            <a:off x="609480" y="2209680"/>
            <a:ext cx="80773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1).Friendship is about feelings and we must give as much as we take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8" name=""/>
          <p:cNvSpPr/>
          <p:nvPr/>
        </p:nvSpPr>
        <p:spPr>
          <a:xfrm>
            <a:off x="609480" y="3733920"/>
            <a:ext cx="746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44"/>
                </a:solidFill>
                <a:latin typeface="Comic Sans MS"/>
              </a:rPr>
              <a:t>2).Friends are teachers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49" name=""/>
          <p:cNvSpPr/>
          <p:nvPr/>
        </p:nvSpPr>
        <p:spPr>
          <a:xfrm>
            <a:off x="990720" y="4724280"/>
            <a:ext cx="70866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cc3300"/>
                </a:solidFill>
                <a:latin typeface="Comic Sans MS"/>
                <a:ea typeface="隶书"/>
              </a:rPr>
              <a:t>A life without a friend is a life without the sun.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0" name="">
            <a:hlinkClick r:id="rId1" action="ppaction://hlinksldjump"/>
          </p:cNvPr>
          <p:cNvSpPr/>
          <p:nvPr/>
        </p:nvSpPr>
        <p:spPr>
          <a:xfrm>
            <a:off x="0" y="6248520"/>
            <a:ext cx="590400" cy="407880"/>
          </a:xfrm>
          <a:custGeom>
            <a:avLst/>
            <a:gdLst>
              <a:gd name="textAreaLeft" fmla="*/ 243360 w 590400"/>
              <a:gd name="textAreaRight" fmla="*/ 347040 w 590400"/>
              <a:gd name="textAreaTop" fmla="*/ 168120 h 407880"/>
              <a:gd name="textAreaBottom" fmla="*/ 239760 h 4078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4840" bIns="2484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fill="hold">
                      <p:stCondLst>
                        <p:cond delay="indefinite"/>
                      </p:stCondLst>
                      <p:childTnLst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226" dur="500"/>
                                        <p:tgtEl>
                                          <p:spTgt spid="7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fill="hold">
                      <p:stCondLst>
                        <p:cond delay="indefinite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31" dur="500"/>
                                        <p:tgtEl>
                                          <p:spTgt spid="7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6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7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1000" fill="hold"/>
                                        <p:tgtEl>
                                          <p:spTgt spid="7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5" name=""/>
          <p:cNvSpPr/>
          <p:nvPr/>
        </p:nvSpPr>
        <p:spPr>
          <a:xfrm flipH="1" flipV="1">
            <a:off x="-900720" y="476280"/>
            <a:ext cx="21564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>
            <a:off x="838080" y="836640"/>
            <a:ext cx="74790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4400" spc="-1" strike="noStrike" u="sng">
                <a:solidFill>
                  <a:srgbClr val="ffff00"/>
                </a:solidFill>
                <a:uFillTx/>
                <a:latin typeface="Comic Sans MS"/>
              </a:rPr>
              <a:t>Outline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1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>
                <a:solidFill>
                  <a:srgbClr val="ffffff"/>
                </a:solidFill>
                <a:latin typeface="Comic Sans MS"/>
                <a:ea typeface="隶书"/>
              </a:rPr>
              <a:t>教材分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2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1" action="ppaction://hlinksldjump"/>
              </a:rPr>
              <a:t>教学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3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2" action="ppaction://hlinksldjump"/>
              </a:rPr>
              <a:t>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4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3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5</a:t>
            </a:r>
            <a:r>
              <a:rPr b="0" lang="zh-CN" sz="4400" spc="-1" strike="noStrike">
                <a:solidFill>
                  <a:srgbClr val="0000ff"/>
                </a:solidFill>
                <a:latin typeface="Comic Sans MS"/>
                <a:ea typeface="隶书"/>
              </a:rPr>
              <a:t>。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omic Sans MS"/>
                <a:ea typeface="隶书"/>
                <a:hlinkClick r:id="rId4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808200" y="5013360"/>
            <a:ext cx="3382920" cy="92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  </a:t>
            </a:r>
            <a:r>
              <a:rPr b="0" lang="zh-CN" sz="48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5" action="ppaction://hlinksldjump"/>
              </a:rPr>
              <a:t>我的思索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6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 by="(-#ppt_w*2)">
                                      <p:cBhvr additive="repl">
                                        <p:cTn id="7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</p:anim>
                                    <p:anim calcmode="lin" valueType="num" by="(#ppt_w*0.50)">
                                      <p:cBhvr additive="repl">
                                        <p:cTn id="8" dur="500" autoRev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anim calcmode="lin" valueType="num" from="(-#ppt_h/2)" to="(#ppt_y)">
                                      <p:cBhvr additive="repl">
                                        <p:cTn id="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  <p:animRot by="21600000">
                                      <p:cBhvr>
                                        <p:cTn id="10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"/>
          <p:cNvSpPr/>
          <p:nvPr/>
        </p:nvSpPr>
        <p:spPr>
          <a:xfrm>
            <a:off x="1311120" y="457200"/>
            <a:ext cx="297828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5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教学评价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2" name=""/>
          <p:cNvSpPr/>
          <p:nvPr/>
        </p:nvSpPr>
        <p:spPr>
          <a:xfrm>
            <a:off x="0" y="1447920"/>
            <a:ext cx="327672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种类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途径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内容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评价形式：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3" name=""/>
          <p:cNvSpPr/>
          <p:nvPr/>
        </p:nvSpPr>
        <p:spPr>
          <a:xfrm>
            <a:off x="2247840" y="1490760"/>
            <a:ext cx="184320" cy="70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4" name=""/>
          <p:cNvSpPr/>
          <p:nvPr/>
        </p:nvSpPr>
        <p:spPr>
          <a:xfrm>
            <a:off x="2463840" y="1523880"/>
            <a:ext cx="5405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过程性评价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终结性评价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5" name=""/>
          <p:cNvSpPr/>
          <p:nvPr/>
        </p:nvSpPr>
        <p:spPr>
          <a:xfrm>
            <a:off x="2268360" y="2590920"/>
            <a:ext cx="6885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学生自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师生互评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生生互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6" name=""/>
          <p:cNvSpPr/>
          <p:nvPr/>
        </p:nvSpPr>
        <p:spPr>
          <a:xfrm>
            <a:off x="1619280" y="3124080"/>
            <a:ext cx="3313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反思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7" name=""/>
          <p:cNvSpPr/>
          <p:nvPr/>
        </p:nvSpPr>
        <p:spPr>
          <a:xfrm>
            <a:off x="5219640" y="3124080"/>
            <a:ext cx="3384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（合作过程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8" name=""/>
          <p:cNvSpPr/>
          <p:nvPr/>
        </p:nvSpPr>
        <p:spPr>
          <a:xfrm>
            <a:off x="2679840" y="3809880"/>
            <a:ext cx="621324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知—知识     技能—能力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情感—态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59" name=""/>
          <p:cNvSpPr/>
          <p:nvPr/>
        </p:nvSpPr>
        <p:spPr>
          <a:xfrm>
            <a:off x="2195640" y="5181480"/>
            <a:ext cx="69483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口头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/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书面（建立个人学习档案）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0" name=""/>
          <p:cNvSpPr/>
          <p:nvPr/>
        </p:nvSpPr>
        <p:spPr>
          <a:xfrm>
            <a:off x="750960" y="5711760"/>
            <a:ext cx="7534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self-assessment      peer- assessment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0" dur="indefinite" restart="never" nodeType="tmRoot">
          <p:childTnLst>
            <p:seq>
              <p:cTn id="241" dur="indefinite" nodeType="mainSeq">
                <p:childTnLst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7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fill="hold">
                      <p:stCondLst>
                        <p:cond delay="indefinite"/>
                      </p:stCondLst>
                      <p:childTnLst>
                        <p:par>
                          <p:cTn id="253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56" dur="500"/>
                                        <p:tgtEl>
                                          <p:spTgt spid="7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7" fill="hold">
                      <p:stCondLst>
                        <p:cond delay="indefinite"/>
                      </p:stCondLst>
                      <p:childTnLst>
                        <p:par>
                          <p:cTn id="258" fill="hold">
                            <p:stCondLst>
                              <p:cond delay="0"/>
                            </p:stCondLst>
                            <p:childTnLst>
                              <p:par>
                                <p:cTn id="25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1" dur="500"/>
                                        <p:tgtEl>
                                          <p:spTgt spid="7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2" fill="hold">
                      <p:stCondLst>
                        <p:cond delay="indefinite"/>
                      </p:stCondLst>
                      <p:childTnLst>
                        <p:par>
                          <p:cTn id="263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66" dur="500"/>
                                        <p:tgtEl>
                                          <p:spTgt spid="7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271" dur="500"/>
                                        <p:tgtEl>
                                          <p:spTgt spid="7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fill="hold">
                      <p:stCondLst>
                        <p:cond delay="indefinite"/>
                      </p:stCondLst>
                      <p:childTnLst>
                        <p:par>
                          <p:cTn id="277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500" fill="hold"/>
                                        <p:tgtEl>
                                          <p:spTgt spid="7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66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761" name=""/>
          <p:cNvGraphicFramePr/>
          <p:nvPr/>
        </p:nvGraphicFramePr>
        <p:xfrm>
          <a:off x="0" y="0"/>
          <a:ext cx="9144000" cy="6997680"/>
        </p:xfrm>
        <a:graphic>
          <a:graphicData uri="http://schemas.openxmlformats.org/drawingml/2006/table">
            <a:tbl>
              <a:tblPr/>
              <a:tblGrid>
                <a:gridCol w="2286000"/>
                <a:gridCol w="2286000"/>
                <a:gridCol w="685800"/>
                <a:gridCol w="1981080"/>
                <a:gridCol w="182520"/>
                <a:gridCol w="1722600"/>
              </a:tblGrid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arner log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Class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cores: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947160">
                <a:tc gridSpan="6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In the unit, you learnt about friends and friendship, how are you getting on with each of the following skills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73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bes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5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 wel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4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need more practice  value 2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=badl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value 1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47160">
                <a:tc gridSpan="2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                 </a:t>
                      </a: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Skills   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evel (using the number of the stars)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3098160"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Listening comprehension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Talk about likes and dislike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Make an apology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se new words &amp;expressions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Understanding of the text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buClr>
                          <a:srgbClr val="ffffff"/>
                        </a:buClr>
                        <a:buSzPct val="85000"/>
                        <a:buFont typeface="Wingdings" charset="2"/>
                        <a:buChar char=""/>
                        <a:tabLst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Write  an e-mail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</a:tbl>
          </a:graphicData>
        </a:graphic>
      </p:graphicFrame>
      <p:sp>
        <p:nvSpPr>
          <p:cNvPr id="762" name=""/>
          <p:cNvSpPr/>
          <p:nvPr/>
        </p:nvSpPr>
        <p:spPr>
          <a:xfrm>
            <a:off x="0" y="1981080"/>
            <a:ext cx="336600" cy="21600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560" bIns="2556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3" name=""/>
          <p:cNvSpPr/>
          <p:nvPr/>
        </p:nvSpPr>
        <p:spPr>
          <a:xfrm>
            <a:off x="304920" y="1905120"/>
            <a:ext cx="31428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4" name=""/>
          <p:cNvSpPr/>
          <p:nvPr/>
        </p:nvSpPr>
        <p:spPr>
          <a:xfrm>
            <a:off x="685800" y="1905120"/>
            <a:ext cx="333360" cy="2347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1680" bIns="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5" name=""/>
          <p:cNvSpPr/>
          <p:nvPr/>
        </p:nvSpPr>
        <p:spPr>
          <a:xfrm>
            <a:off x="2398680" y="1990800"/>
            <a:ext cx="279360" cy="29196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6" name=""/>
          <p:cNvSpPr/>
          <p:nvPr/>
        </p:nvSpPr>
        <p:spPr>
          <a:xfrm>
            <a:off x="2743200" y="1981080"/>
            <a:ext cx="325440" cy="30492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7" name=""/>
          <p:cNvSpPr/>
          <p:nvPr/>
        </p:nvSpPr>
        <p:spPr>
          <a:xfrm>
            <a:off x="4684680" y="1994040"/>
            <a:ext cx="335160" cy="311040"/>
          </a:xfrm>
          <a:prstGeom prst="star5">
            <a:avLst/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68" name=""/>
          <p:cNvSpPr/>
          <p:nvPr/>
        </p:nvSpPr>
        <p:spPr>
          <a:xfrm>
            <a:off x="7618320" y="1963800"/>
            <a:ext cx="216000" cy="272880"/>
          </a:xfrm>
          <a:prstGeom prst="donut">
            <a:avLst>
              <a:gd name="adj" fmla="val 25000"/>
            </a:avLst>
          </a:pr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2" dur="indefinite" restart="never" nodeType="tmRoot">
          <p:childTnLst>
            <p:seq>
              <p:cTn id="283" dur="indefinite" nodeType="mainSeq">
                <p:childTnLst>
                  <p:par>
                    <p:cTn id="284" fill="hold">
                      <p:stCondLst>
                        <p:cond delay="indefinite"/>
                      </p:stCondLst>
                      <p:childTnLst>
                        <p:par>
                          <p:cTn id="285" fill="hold">
                            <p:stCondLst>
                              <p:cond delay="0"/>
                            </p:stCondLst>
                            <p:childTnLst>
                              <p:par>
                                <p:cTn id="28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8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7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fill="hold">
                      <p:stCondLst>
                        <p:cond delay="indefinite"/>
                      </p:stCondLst>
                      <p:childTnLst>
                        <p:par>
                          <p:cTn id="291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4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7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"/>
          <p:cNvSpPr/>
          <p:nvPr/>
        </p:nvSpPr>
        <p:spPr>
          <a:xfrm>
            <a:off x="2286000" y="0"/>
            <a:ext cx="4191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Reflection   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0" name=""/>
          <p:cNvGraphicFramePr/>
          <p:nvPr/>
        </p:nvGraphicFramePr>
        <p:xfrm>
          <a:off x="457200" y="685800"/>
          <a:ext cx="8001000" cy="6095880"/>
        </p:xfrm>
        <a:graphic>
          <a:graphicData uri="http://schemas.openxmlformats.org/drawingml/2006/table">
            <a:tbl>
              <a:tblPr/>
              <a:tblGrid>
                <a:gridCol w="8001000"/>
              </a:tblGrid>
              <a:tr h="1129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1. What have you learn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2. What is the most important thing you learnt ..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0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3. What do you find the most difficul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4. Where do you see the most improvemen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901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5. What do you think you did best in this unit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22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6. Where do you need to work harder?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"/>
          <p:cNvSpPr/>
          <p:nvPr/>
        </p:nvSpPr>
        <p:spPr>
          <a:xfrm>
            <a:off x="1676520" y="22860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Peer Assessment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graphicFrame>
        <p:nvGraphicFramePr>
          <p:cNvPr id="772" name=""/>
          <p:cNvGraphicFramePr/>
          <p:nvPr/>
        </p:nvGraphicFramePr>
        <p:xfrm>
          <a:off x="152280" y="1066680"/>
          <a:ext cx="8991720" cy="5105520"/>
        </p:xfrm>
        <a:graphic>
          <a:graphicData uri="http://schemas.openxmlformats.org/drawingml/2006/table">
            <a:tbl>
              <a:tblPr/>
              <a:tblGrid>
                <a:gridCol w="3276720"/>
                <a:gridCol w="1066680"/>
                <a:gridCol w="1067040"/>
                <a:gridCol w="914400"/>
                <a:gridCol w="914400"/>
                <a:gridCol w="838080"/>
                <a:gridCol w="914400"/>
              </a:tblGrid>
              <a:tr h="730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  <a:ea typeface="隶书"/>
                        </a:rPr>
                        <a:t>  </a:t>
                      </a: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姓       名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小组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全班发言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提出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8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解答问题个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29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查找资料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73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与人合作次数</a:t>
                      </a:r>
                      <a:endParaRPr b="0" lang="en-US" sz="28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"/>
          <p:cNvSpPr/>
          <p:nvPr/>
        </p:nvSpPr>
        <p:spPr>
          <a:xfrm>
            <a:off x="2084040" y="374760"/>
            <a:ext cx="5603040" cy="618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备课后思索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: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1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教师备课的深广度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2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新教材对师生都提出了合作的要求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3.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教师需不断提高自身的知识水平和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     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知识结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4.</a:t>
            </a:r>
            <a:r>
              <a:rPr b="0" lang="zh-CN" sz="4000" spc="-1" strike="noStrike">
                <a:solidFill>
                  <a:srgbClr val="000066"/>
                </a:solidFill>
                <a:latin typeface="Arial"/>
                <a:ea typeface="隶书"/>
              </a:rPr>
              <a:t>对新教材中新教学理念理会的深刻度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6" dur="indefinite" restart="never" nodeType="tmRoot">
          <p:childTnLst>
            <p:seq>
              <p:cTn id="297" dur="indefinite" nodeType="mainSeq">
                <p:childTnLst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02" dur="500"/>
                                        <p:tgtEl>
                                          <p:spTgt spid="7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"/>
          <p:cNvSpPr/>
          <p:nvPr/>
        </p:nvSpPr>
        <p:spPr>
          <a:xfrm>
            <a:off x="593640" y="457200"/>
            <a:ext cx="3692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cc3300"/>
                </a:solidFill>
                <a:latin typeface="Arial"/>
                <a:ea typeface="隶书"/>
              </a:rPr>
              <a:t>上课后的思索</a:t>
            </a:r>
            <a:r>
              <a:rPr b="0" lang="zh-CN" sz="4400" spc="-1" strike="noStrike">
                <a:solidFill>
                  <a:srgbClr val="2c2ca0"/>
                </a:solidFill>
                <a:latin typeface="Arial"/>
                <a:ea typeface="隶书"/>
              </a:rPr>
              <a:t>: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75" name=""/>
          <p:cNvSpPr/>
          <p:nvPr/>
        </p:nvSpPr>
        <p:spPr>
          <a:xfrm>
            <a:off x="441360" y="1447920"/>
            <a:ext cx="7940520" cy="374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buClr>
                <a:srgbClr val="742e78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不断调整自己的思维模式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2. 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灵活整合教学内容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3.</a:t>
            </a:r>
            <a:r>
              <a:rPr b="0" lang="zh-CN" sz="4800" spc="-1" strike="noStrike">
                <a:solidFill>
                  <a:srgbClr val="742e78"/>
                </a:solidFill>
                <a:latin typeface="Arial"/>
                <a:ea typeface="隶书"/>
              </a:rPr>
              <a:t>讲究课堂教学的实效性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309" dur="500"/>
                                        <p:tgtEl>
                                          <p:spTgt spid="7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777" name=""/>
          <p:cNvSpPr/>
          <p:nvPr/>
        </p:nvSpPr>
        <p:spPr>
          <a:xfrm>
            <a:off x="228600" y="2438280"/>
            <a:ext cx="89154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Comic Sans MS"/>
                <a:ea typeface="隶书"/>
              </a:rPr>
              <a:t>Thank you for your attention</a:t>
            </a:r>
            <a:endParaRPr b="0" lang="en-US" sz="4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0000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8" name=""/>
          <p:cNvSpPr/>
          <p:nvPr/>
        </p:nvSpPr>
        <p:spPr>
          <a:xfrm>
            <a:off x="250920" y="1125360"/>
            <a:ext cx="1081080" cy="34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1" action="ppaction://hlinksldjump"/>
              </a:rPr>
              <a:t>1.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Times New Roman"/>
                <a:ea typeface="隶书"/>
              </a:rPr>
              <a:t>析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755640" y="476280"/>
            <a:ext cx="863640" cy="5619600"/>
          </a:xfrm>
          <a:custGeom>
            <a:avLst/>
            <a:gdLst>
              <a:gd name="textAreaLeft" fmla="*/ 551880 w 863640"/>
              <a:gd name="textAreaRight" fmla="*/ 864000 w 863640"/>
              <a:gd name="textAreaTop" fmla="*/ 146520 h 5619600"/>
              <a:gd name="textAreaBottom" fmla="*/ 5473080 h 56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1908000" y="0"/>
            <a:ext cx="37306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背景知识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1835280" y="649440"/>
            <a:ext cx="4098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内容的分析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>
            <a:off x="1835280" y="1411200"/>
            <a:ext cx="31590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教学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>
            <a:off x="1763640" y="2173320"/>
            <a:ext cx="60264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语言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98d43"/>
              </a:buClr>
              <a:buFont typeface="Wingdings" charset="2"/>
              <a:buChar char="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 u="sng">
                <a:solidFill>
                  <a:srgbClr val="f98d43"/>
                </a:solidFill>
                <a:uFillTx/>
                <a:latin typeface="Times New Roman"/>
                <a:ea typeface="隶书"/>
                <a:hlinkClick r:id="rId2" action="ppaction://hlinksldjump"/>
              </a:rPr>
              <a:t>Topic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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Key words &amp;expression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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Writ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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Grammar</a:t>
            </a:r>
            <a:r>
              <a:rPr b="0" lang="zh-CN" sz="4000" spc="-1" strike="noStrike">
                <a:solidFill>
                  <a:srgbClr val="000066"/>
                </a:solidFill>
                <a:latin typeface="Times New Roman"/>
                <a:ea typeface="隶书"/>
              </a:rPr>
              <a:t>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综合知识重难点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德育思想渗透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>
            <a:off x="5940360" y="4572000"/>
            <a:ext cx="503280" cy="1981080"/>
          </a:xfrm>
          <a:custGeom>
            <a:avLst/>
            <a:gdLst>
              <a:gd name="textAreaLeft" fmla="*/ 321480 w 503280"/>
              <a:gd name="textAreaRight" fmla="*/ 503640 w 503280"/>
              <a:gd name="textAreaTop" fmla="*/ 51480 h 1981080"/>
              <a:gd name="textAreaBottom" fmla="*/ 1929600 h 198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5" name=""/>
          <p:cNvSpPr/>
          <p:nvPr/>
        </p:nvSpPr>
        <p:spPr>
          <a:xfrm>
            <a:off x="6372360" y="4221000"/>
            <a:ext cx="2965320" cy="253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朋友的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   </a:t>
            </a: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认识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对生存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ffff"/>
                </a:solidFill>
                <a:latin typeface="Times New Roman"/>
                <a:ea typeface="隶书"/>
              </a:rPr>
              <a:t>意义的理解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7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" dur="500"/>
                                        <p:tgtEl>
                                          <p:spTgt spid="6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6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6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500" fill="hold"/>
                                        <p:tgtEl>
                                          <p:spTgt spid="6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5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cc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6" name=""/>
          <p:cNvSpPr/>
          <p:nvPr/>
        </p:nvSpPr>
        <p:spPr>
          <a:xfrm>
            <a:off x="621360" y="747720"/>
            <a:ext cx="1731960" cy="856080"/>
          </a:xfrm>
          <a:prstGeom prst="rect">
            <a:avLst/>
          </a:prstGeom>
          <a:solidFill>
            <a:srgbClr val="9ce15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Topic</a:t>
            </a:r>
            <a:r>
              <a:rPr b="0" lang="en-US" sz="4400" spc="-1" strike="noStrike" u="sng">
                <a:solidFill>
                  <a:srgbClr val="cc3300"/>
                </a:solidFill>
                <a:uFillTx/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67" name=""/>
          <p:cNvSpPr/>
          <p:nvPr/>
        </p:nvSpPr>
        <p:spPr>
          <a:xfrm>
            <a:off x="250920" y="1752480"/>
            <a:ext cx="9537480" cy="31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How to solve problems occurr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   </a:t>
            </a: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in the friendship.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The attitude towards friend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44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44"/>
                </a:solidFill>
                <a:latin typeface="Century Gothic"/>
                <a:ea typeface="隶书"/>
              </a:rPr>
              <a:t>Learn how to make friend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68" name="" descr=""/>
          <p:cNvPicPr/>
          <p:nvPr/>
        </p:nvPicPr>
        <p:blipFill>
          <a:blip r:embed="rId2"/>
          <a:stretch/>
        </p:blipFill>
        <p:spPr>
          <a:xfrm>
            <a:off x="0" y="4508640"/>
            <a:ext cx="4284720" cy="2349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" dur="indefinite" restart="never" nodeType="tmRoot">
          <p:childTnLst>
            <p:seq>
              <p:cTn id="47" dur="indefinite" nodeType="mainSeq">
                <p:childTnLst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2" dur="500"/>
                                        <p:tgtEl>
                                          <p:spTgt spid="6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f2f46"/>
            </a:gs>
            <a:gs pos="100000">
              <a:srgbClr val="6666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"/>
          <p:cNvSpPr/>
          <p:nvPr/>
        </p:nvSpPr>
        <p:spPr>
          <a:xfrm>
            <a:off x="489600" y="1397160"/>
            <a:ext cx="515880" cy="3537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9999ff"/>
                </a:solidFill>
                <a:uFillTx/>
                <a:latin typeface="Century Gothic"/>
                <a:ea typeface="隶书"/>
                <a:hlinkClick r:id="rId1" action="ppaction://hlinksldjump"/>
              </a:rPr>
              <a:t>2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目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00"/>
                </a:solidFill>
                <a:latin typeface="Century Gothic"/>
                <a:ea typeface="隶书"/>
              </a:rPr>
              <a:t>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0" name=""/>
          <p:cNvSpPr/>
          <p:nvPr/>
        </p:nvSpPr>
        <p:spPr>
          <a:xfrm>
            <a:off x="1116000" y="1052640"/>
            <a:ext cx="647640" cy="4321080"/>
          </a:xfrm>
          <a:custGeom>
            <a:avLst/>
            <a:gdLst>
              <a:gd name="textAreaLeft" fmla="*/ 414000 w 647640"/>
              <a:gd name="textAreaRight" fmla="*/ 648000 w 647640"/>
              <a:gd name="textAreaTop" fmla="*/ 112680 h 4321080"/>
              <a:gd name="textAreaBottom" fmla="*/ 420840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1" name=""/>
          <p:cNvSpPr/>
          <p:nvPr/>
        </p:nvSpPr>
        <p:spPr>
          <a:xfrm>
            <a:off x="2256840" y="576360"/>
            <a:ext cx="851400" cy="545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知识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技能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情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目标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2" name=""/>
          <p:cNvSpPr/>
          <p:nvPr/>
        </p:nvSpPr>
        <p:spPr>
          <a:xfrm>
            <a:off x="3348000" y="260280"/>
            <a:ext cx="57960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词汇的掌握和灵活运用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语法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/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直接和间接引语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3" name=""/>
          <p:cNvSpPr/>
          <p:nvPr/>
        </p:nvSpPr>
        <p:spPr>
          <a:xfrm>
            <a:off x="4140360" y="1557360"/>
            <a:ext cx="374472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习得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认知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交际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调控策略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4" name=""/>
          <p:cNvSpPr/>
          <p:nvPr/>
        </p:nvSpPr>
        <p:spPr>
          <a:xfrm>
            <a:off x="3203640" y="1989000"/>
            <a:ext cx="647640" cy="2019600"/>
          </a:xfrm>
          <a:custGeom>
            <a:avLst/>
            <a:gdLst>
              <a:gd name="textAreaLeft" fmla="*/ 414000 w 647640"/>
              <a:gd name="textAreaRight" fmla="*/ 648000 w 647640"/>
              <a:gd name="textAreaTop" fmla="*/ 52560 h 2019600"/>
              <a:gd name="textAreaBottom" fmla="*/ 1967040 h 20196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5" name=""/>
          <p:cNvSpPr/>
          <p:nvPr/>
        </p:nvSpPr>
        <p:spPr>
          <a:xfrm>
            <a:off x="3708360" y="4292640"/>
            <a:ext cx="3600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端正学习态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培养合作精神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6" name=""/>
          <p:cNvSpPr/>
          <p:nvPr/>
        </p:nvSpPr>
        <p:spPr>
          <a:xfrm>
            <a:off x="3059280" y="4437000"/>
            <a:ext cx="649080" cy="2019240"/>
          </a:xfrm>
          <a:custGeom>
            <a:avLst/>
            <a:gdLst>
              <a:gd name="textAreaLeft" fmla="*/ 414720 w 649080"/>
              <a:gd name="textAreaRight" fmla="*/ 649440 w 649080"/>
              <a:gd name="textAreaTop" fmla="*/ 52560 h 2019240"/>
              <a:gd name="textAreaBottom" fmla="*/ 1966680 h 20192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timing>
    <p:tnLst>
      <p:par>
        <p:cTn id="53" dur="indefinite" restart="never" nodeType="tmRoot">
          <p:childTnLst>
            <p:seq>
              <p:cTn id="54" dur="indefinite" nodeType="mainSeq">
                <p:childTnLst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9" dur="500"/>
                                        <p:tgtEl>
                                          <p:spTgt spid="6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64" dur="2000"/>
                                        <p:tgtEl>
                                          <p:spTgt spid="6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9" dur="500"/>
                                        <p:tgtEl>
                                          <p:spTgt spid="6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4" dur="500"/>
                                        <p:tgtEl>
                                          <p:spTgt spid="6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9" dur="20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"/>
          <p:cNvSpPr/>
          <p:nvPr/>
        </p:nvSpPr>
        <p:spPr>
          <a:xfrm>
            <a:off x="345240" y="1036800"/>
            <a:ext cx="515880" cy="39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3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3" action="ppaction://hlinksldjump"/>
              </a:rPr>
              <a:t>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4" action="ppaction://hlinksldjump"/>
              </a:rPr>
              <a:t>学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5" action="ppaction://hlinksldjump"/>
              </a:rPr>
              <a:t>原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6" action="ppaction://hlinksldjump"/>
              </a:rPr>
              <a:t>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8" name=""/>
          <p:cNvSpPr/>
          <p:nvPr/>
        </p:nvSpPr>
        <p:spPr>
          <a:xfrm>
            <a:off x="1116000" y="1052640"/>
            <a:ext cx="431640" cy="4321080"/>
          </a:xfrm>
          <a:custGeom>
            <a:avLst/>
            <a:gdLst>
              <a:gd name="textAreaLeft" fmla="*/ 275760 w 431640"/>
              <a:gd name="textAreaRight" fmla="*/ 432000 w 431640"/>
              <a:gd name="textAreaTop" fmla="*/ 338040 h 4321080"/>
              <a:gd name="textAreaBottom" fmla="*/ 3983040 h 4321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2700"/>
                  <a:pt x="10800" y="5400"/>
                </a:cubicBezTo>
                <a:lnTo>
                  <a:pt x="10800" y="5400"/>
                </a:lnTo>
                <a:cubicBezTo>
                  <a:pt x="10800" y="8100"/>
                  <a:pt x="5400" y="10800"/>
                  <a:pt x="0" y="10800"/>
                </a:cubicBezTo>
                <a:cubicBezTo>
                  <a:pt x="5400" y="10800"/>
                  <a:pt x="10800" y="13500"/>
                  <a:pt x="10800" y="16200"/>
                </a:cubicBezTo>
                <a:lnTo>
                  <a:pt x="10800" y="16200"/>
                </a:lnTo>
                <a:cubicBezTo>
                  <a:pt x="10800" y="18900"/>
                  <a:pt x="16200" y="21600"/>
                  <a:pt x="21600" y="21600"/>
                </a:cubicBezTo>
              </a:path>
            </a:pathLst>
          </a:custGeom>
          <a:noFill/>
          <a:ln w="3168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79" name=""/>
          <p:cNvSpPr/>
          <p:nvPr/>
        </p:nvSpPr>
        <p:spPr>
          <a:xfrm>
            <a:off x="2527200" y="647640"/>
            <a:ext cx="2527560" cy="47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任务型教学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交际型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以人为本的原则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0" name=""/>
          <p:cNvSpPr/>
          <p:nvPr/>
        </p:nvSpPr>
        <p:spPr>
          <a:xfrm>
            <a:off x="2621520" y="5545080"/>
            <a:ext cx="45392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突出灵活性、流畅性、完整性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1" name=""/>
          <p:cNvSpPr/>
          <p:nvPr/>
        </p:nvSpPr>
        <p:spPr>
          <a:xfrm>
            <a:off x="8450280" y="447840"/>
            <a:ext cx="531720" cy="85680"/>
          </a:xfrm>
          <a:custGeom>
            <a:avLst/>
            <a:gdLst>
              <a:gd name="textAreaLeft" fmla="*/ 218880 w 531720"/>
              <a:gd name="textAreaRight" fmla="*/ 312840 w 531720"/>
              <a:gd name="textAreaTop" fmla="*/ 35280 h 85680"/>
              <a:gd name="textAreaBottom" fmla="*/ 50400 h 856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9ce157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1680" bIns="-3168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"/>
          <p:cNvSpPr/>
          <p:nvPr/>
        </p:nvSpPr>
        <p:spPr>
          <a:xfrm>
            <a:off x="1384200" y="0"/>
            <a:ext cx="3345120" cy="856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1" action="ppaction://hlinksldjump"/>
              </a:rPr>
              <a:t>4 </a:t>
            </a:r>
            <a:r>
              <a:rPr b="0" lang="zh-CN" sz="4400" spc="-1" strike="noStrike" u="sng">
                <a:solidFill>
                  <a:srgbClr val="f98d43"/>
                </a:solidFill>
                <a:uFillTx/>
                <a:latin typeface="Century Gothic"/>
                <a:ea typeface="隶书"/>
                <a:hlinkClick r:id="rId2" action="ppaction://hlinksldjump"/>
              </a:rPr>
              <a:t>教学设计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3" name=""/>
          <p:cNvSpPr/>
          <p:nvPr/>
        </p:nvSpPr>
        <p:spPr>
          <a:xfrm>
            <a:off x="519120" y="1052640"/>
            <a:ext cx="846936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设计的理念： 创设情景  营造气氛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 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面向学生   寓教于乐   创新思维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4" name=""/>
          <p:cNvSpPr/>
          <p:nvPr/>
        </p:nvSpPr>
        <p:spPr>
          <a:xfrm>
            <a:off x="317880" y="3529080"/>
            <a:ext cx="1438920" cy="21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课时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安排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（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6</a:t>
            </a:r>
            <a:r>
              <a:rPr b="0" lang="zh-CN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）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5" name=""/>
          <p:cNvSpPr/>
          <p:nvPr/>
        </p:nvSpPr>
        <p:spPr>
          <a:xfrm>
            <a:off x="1671480" y="2637000"/>
            <a:ext cx="6716880" cy="3323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Ⅰ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Warming-up &amp;listen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Ⅱ 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Speak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Ⅲ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&amp;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Ⅳ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Reading 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Ⅴ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Language study</a:t>
            </a: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 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Century Gothic"/>
                <a:ea typeface="隶书"/>
              </a:rPr>
              <a:t>Ⅵ </a:t>
            </a:r>
            <a:r>
              <a:rPr b="0" lang="en-US" sz="4000" spc="-1" strike="noStrike">
                <a:solidFill>
                  <a:srgbClr val="ffffff"/>
                </a:solidFill>
                <a:latin typeface="Century Gothic"/>
                <a:ea typeface="隶书"/>
              </a:rPr>
              <a:t>Integrating skills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-914400" y="-4649760"/>
            <a:ext cx="76320" cy="12159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" dur="indefinite" restart="never" nodeType="tmRoot">
          <p:childTnLst>
            <p:seq>
              <p:cTn id="81" dur="indefinite" nodeType="mainSeq">
                <p:childTnLst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6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92" dur="2000"/>
                                        <p:tgtEl>
                                          <p:spTgt spid="6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7" dur="500"/>
                                        <p:tgtEl>
                                          <p:spTgt spid="6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02" dur="500"/>
                                        <p:tgtEl>
                                          <p:spTgt spid="6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7" name=""/>
          <p:cNvSpPr/>
          <p:nvPr/>
        </p:nvSpPr>
        <p:spPr>
          <a:xfrm>
            <a:off x="1143000" y="533520"/>
            <a:ext cx="6477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 Black"/>
              </a:rPr>
              <a:t>       </a:t>
            </a:r>
            <a:r>
              <a:rPr b="1" i="1" lang="en-US" sz="4400" spc="-1" strike="noStrike">
                <a:solidFill>
                  <a:srgbClr val="0000ff"/>
                </a:solidFill>
                <a:latin typeface="Century Gothic"/>
              </a:rPr>
              <a:t>The First Period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8" name=""/>
          <p:cNvSpPr/>
          <p:nvPr/>
        </p:nvSpPr>
        <p:spPr>
          <a:xfrm>
            <a:off x="304920" y="2438280"/>
            <a:ext cx="8458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Tahoma"/>
              </a:rPr>
              <a:t>    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任务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目标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语言技能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 活动形式 </a:t>
            </a:r>
            <a:r>
              <a:rPr b="1" lang="zh-CN" sz="4400" spc="-1" strike="noStrike">
                <a:solidFill>
                  <a:srgbClr val="6600cc"/>
                </a:solidFill>
                <a:latin typeface="Symbol"/>
                <a:ea typeface="Symbol"/>
              </a:rPr>
              <a:t></a:t>
            </a:r>
            <a:r>
              <a:rPr b="1" lang="zh-CN" sz="4400" spc="-1" strike="noStrike">
                <a:solidFill>
                  <a:srgbClr val="6600cc"/>
                </a:solidFill>
                <a:latin typeface="Tahoma"/>
                <a:ea typeface="隶书"/>
              </a:rPr>
              <a:t>活动程序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89" name=""/>
          <p:cNvSpPr/>
          <p:nvPr/>
        </p:nvSpPr>
        <p:spPr>
          <a:xfrm>
            <a:off x="609480" y="1523880"/>
            <a:ext cx="75438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       </a:t>
            </a:r>
            <a:r>
              <a:rPr b="1" lang="en-US" sz="4400" spc="-1" strike="noStrike">
                <a:solidFill>
                  <a:srgbClr val="6600cc"/>
                </a:solidFill>
                <a:latin typeface="Century Gothic"/>
              </a:rPr>
              <a:t>Warming up &amp;Listening</a:t>
            </a:r>
            <a:endParaRPr b="0" lang="en-US" sz="4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690" name="" descr=""/>
          <p:cNvPicPr/>
          <p:nvPr/>
        </p:nvPicPr>
        <p:blipFill>
          <a:blip r:embed="rId2"/>
          <a:stretch/>
        </p:blipFill>
        <p:spPr>
          <a:xfrm>
            <a:off x="3657600" y="4227480"/>
            <a:ext cx="4267080" cy="2630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1" name=""/>
          <p:cNvSpPr/>
          <p:nvPr/>
        </p:nvSpPr>
        <p:spPr>
          <a:xfrm>
            <a:off x="1905120" y="2514600"/>
            <a:ext cx="3809880" cy="1828800"/>
          </a:xfrm>
          <a:prstGeom prst="ellipse">
            <a:avLst/>
          </a:prstGeom>
          <a:solidFill>
            <a:srgbClr val="66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2" name=""/>
          <p:cNvSpPr/>
          <p:nvPr/>
        </p:nvSpPr>
        <p:spPr>
          <a:xfrm>
            <a:off x="2438280" y="3048120"/>
            <a:ext cx="4343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742e78"/>
                </a:solidFill>
                <a:latin typeface="Times New Roman"/>
              </a:rPr>
              <a:t>A good friend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3" name=""/>
          <p:cNvSpPr/>
          <p:nvPr/>
        </p:nvSpPr>
        <p:spPr>
          <a:xfrm>
            <a:off x="2057400" y="1981080"/>
            <a:ext cx="609480" cy="83844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4" name=""/>
          <p:cNvSpPr/>
          <p:nvPr/>
        </p:nvSpPr>
        <p:spPr>
          <a:xfrm flipH="1">
            <a:off x="3581280" y="1600200"/>
            <a:ext cx="76320" cy="10666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5" name=""/>
          <p:cNvSpPr/>
          <p:nvPr/>
        </p:nvSpPr>
        <p:spPr>
          <a:xfrm flipH="1">
            <a:off x="4648320" y="1828800"/>
            <a:ext cx="457200" cy="83808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6" name=""/>
          <p:cNvSpPr/>
          <p:nvPr/>
        </p:nvSpPr>
        <p:spPr>
          <a:xfrm flipH="1">
            <a:off x="5409720" y="25146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7" name=""/>
          <p:cNvSpPr/>
          <p:nvPr/>
        </p:nvSpPr>
        <p:spPr>
          <a:xfrm>
            <a:off x="5410080" y="3733920"/>
            <a:ext cx="99072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8" name=""/>
          <p:cNvSpPr/>
          <p:nvPr/>
        </p:nvSpPr>
        <p:spPr>
          <a:xfrm>
            <a:off x="4952880" y="4114800"/>
            <a:ext cx="381240" cy="9144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99" name=""/>
          <p:cNvSpPr/>
          <p:nvPr/>
        </p:nvSpPr>
        <p:spPr>
          <a:xfrm flipH="1">
            <a:off x="3733560" y="4038480"/>
            <a:ext cx="228600" cy="11430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0" name=""/>
          <p:cNvSpPr/>
          <p:nvPr/>
        </p:nvSpPr>
        <p:spPr>
          <a:xfrm flipH="1">
            <a:off x="2361960" y="4114800"/>
            <a:ext cx="685800" cy="76212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1" name=""/>
          <p:cNvSpPr/>
          <p:nvPr/>
        </p:nvSpPr>
        <p:spPr>
          <a:xfrm flipH="1">
            <a:off x="1371600" y="3809880"/>
            <a:ext cx="914400" cy="4572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2" name=""/>
          <p:cNvSpPr/>
          <p:nvPr/>
        </p:nvSpPr>
        <p:spPr>
          <a:xfrm>
            <a:off x="1143000" y="2819520"/>
            <a:ext cx="914400" cy="685800"/>
          </a:xfrm>
          <a:prstGeom prst="line">
            <a:avLst/>
          </a:prstGeom>
          <a:ln w="9360">
            <a:solidFill>
              <a:srgbClr val="000044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3" name=""/>
          <p:cNvSpPr/>
          <p:nvPr/>
        </p:nvSpPr>
        <p:spPr>
          <a:xfrm>
            <a:off x="228600" y="5105520"/>
            <a:ext cx="8915400" cy="147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“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I think a friend should be…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zh-CN" sz="3600" spc="-1" strike="noStrike">
                <a:solidFill>
                  <a:srgbClr val="006699"/>
                </a:solidFill>
                <a:latin typeface="Arial"/>
              </a:rPr>
              <a:t>good friend is someone who…”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04" name=""/>
          <p:cNvSpPr/>
          <p:nvPr/>
        </p:nvSpPr>
        <p:spPr>
          <a:xfrm>
            <a:off x="1219320" y="762120"/>
            <a:ext cx="46479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1" lang="en-US" sz="4000" spc="-1" strike="noStrike">
                <a:solidFill>
                  <a:srgbClr val="006699"/>
                </a:solidFill>
                <a:latin typeface="Lucida Console"/>
              </a:rPr>
              <a:t>Brainstorming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8-30T07:32:08Z</dcterms:created>
  <dc:creator>Urse</dc:creator>
  <dc:description/>
  <dc:language>en-US</dc:language>
  <cp:lastModifiedBy>Administrator</cp:lastModifiedBy>
  <dcterms:modified xsi:type="dcterms:W3CDTF">2004-04-11T02:44:49Z</dcterms:modified>
  <cp:revision>115</cp:revision>
  <dc:subject/>
  <dc:title>PowerPoint 演示文稿</dc:title>
</cp:coreProperties>
</file>