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7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132-D151-4800-823A-8A9E346C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6E8-AE91-482F-85E2-C4BEFEF6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7E51-7ECB-4E31-83AE-09BA475B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ACB-8172-4BD3-8C5E-C70E3B78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9603-DFE6-4418-AE23-599222DA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6821-5C6D-4D76-80A2-06CEF9FE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031B-056B-404A-8055-D9851A61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C429-DDC5-41AB-B403-089001B4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AFDE-558B-4856-9EC6-870B6515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0998-F786-40D8-9B99-2821BD85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C186-5B44-421C-8287-B720E5A5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0CA-72EB-4D9A-ADCE-15A89252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8F37-82AC-4410-A913-F3FC2177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D784-3082-4A36-8351-E40E5B58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7C89-6510-4F70-9450-6426B41E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07AF-B0ED-4AAA-BA00-33825465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68F8-4805-4557-AE60-FDA9B227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E664-9E95-4D4E-AE8A-12D2ED24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E7D-A06F-4324-B398-832B050C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DFB-88C8-4C21-9DBC-0D4A9FFC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2B6-D926-48ED-BCD6-3F8DF170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BAB-0EA7-422F-8978-79722C8F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451-5368-485F-A0B3-3ED3EDE0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00B-2EC5-4FEF-8153-7EA2FB22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BB6C-577E-4D49-91E3-67A7A223F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C3C2-62AD-42CE-BDB3-7296F937F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04920" y="762120"/>
            <a:ext cx="8534160" cy="2669400"/>
            <a:chOff x="304920" y="762120"/>
            <a:chExt cx="8534160" cy="2669400"/>
          </a:xfrm>
        </p:grpSpPr>
        <p:sp>
          <p:nvSpPr>
            <p:cNvPr id="84" name=""/>
            <p:cNvSpPr/>
            <p:nvPr/>
          </p:nvSpPr>
          <p:spPr>
            <a:xfrm>
              <a:off x="304920" y="251460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3399"/>
                  </a:solidFill>
                  <a:latin typeface="Times New Roman"/>
                </a:rPr>
                <a:t>          </a:t>
              </a:r>
              <a:r>
                <a:rPr b="1" i="1" lang="zh-CN" sz="4400" spc="-1" strike="noStrike">
                  <a:solidFill>
                    <a:srgbClr val="ff3399"/>
                  </a:solidFill>
                  <a:latin typeface="Times New Roman"/>
                </a:rPr>
                <a:t>－</a:t>
              </a:r>
              <a:r>
                <a:rPr b="1" i="1" lang="zh-CN" sz="4400" spc="-1" strike="noStrike">
                  <a:solidFill>
                    <a:srgbClr val="ff3399"/>
                  </a:solidFill>
                  <a:latin typeface="Times New Roman"/>
                </a:rPr>
                <a:t>Directed by Qiu Hong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48640" y="762120"/>
              <a:ext cx="6582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3399"/>
                  </a:solidFill>
                  <a:latin typeface="Times New Roman"/>
                </a:rPr>
                <a:t>The Attributive Claus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59320" y="1752480"/>
              <a:ext cx="347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ffff00"/>
                  </a:solidFill>
                  <a:latin typeface="Times New Roman"/>
                </a:rPr>
                <a:t>定语从句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866160"/>
            <a:ext cx="746748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 Black"/>
              </a:rPr>
              <a:t>Which boy do you like better?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9" name="z3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z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320" y="1522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关系代词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33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907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. wh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主语或宾语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676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 I talked with is our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22860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erso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teals things is called a thie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76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. whom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作宾语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作宾语可省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如介词提前则不能省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437364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(whom/who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 nodded to is Mr.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49831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o wh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nodded is Professor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59400" y="16002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838080"/>
            <a:ext cx="214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7680" y="3124080"/>
            <a:ext cx="71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r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is m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3824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is y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00" y="451008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r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is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5195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is b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851000">
            <a:off x="1295280" y="36568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0851000">
            <a:off x="1295280" y="43426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51000">
            <a:off x="1295280" y="50284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0851000">
            <a:off x="1295280" y="57142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938160" cy="10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248520" y="1066680"/>
          <a:ext cx="16207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066680"/>
                    <a:ext cx="1620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320" y="637200"/>
            <a:ext cx="73152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Mrs. Clark is angry with the goat.   </a:t>
            </a: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Times New Roman"/>
              </a:rPr>
              <a:t>The goat is eating her flowers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1736640" y="207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676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. Clark is angry with the goat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eating her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648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04812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?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talked about it last nigh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41148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ed about last 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51055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bout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talked last nigh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1295280"/>
            <a:ext cx="380880" cy="312840"/>
          </a:xfrm>
          <a:custGeom>
            <a:avLst/>
            <a:gdLst>
              <a:gd name="textAreaLeft" fmla="*/ 127080 w 380880"/>
              <a:gd name="textAreaRight" fmla="*/ 299520 w 380880"/>
              <a:gd name="textAreaTop" fmla="*/ 204840 h 312840"/>
              <a:gd name="textAreaBottom" fmla="*/ 2458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8772"/>
                </a:moveTo>
                <a:lnTo>
                  <a:pt x="14143" y="18772"/>
                </a:lnTo>
                <a:lnTo>
                  <a:pt x="14143" y="7200"/>
                </a:lnTo>
                <a:lnTo>
                  <a:pt x="9514" y="7200"/>
                </a:lnTo>
                <a:lnTo>
                  <a:pt x="15557" y="0"/>
                </a:lnTo>
                <a:lnTo>
                  <a:pt x="21600" y="7200"/>
                </a:lnTo>
                <a:lnTo>
                  <a:pt x="16971" y="7200"/>
                </a:lnTo>
                <a:lnTo>
                  <a:pt x="169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657600"/>
            <a:ext cx="381240" cy="312840"/>
          </a:xfrm>
          <a:custGeom>
            <a:avLst/>
            <a:gdLst>
              <a:gd name="textAreaLeft" fmla="*/ 127080 w 381240"/>
              <a:gd name="textAreaRight" fmla="*/ 299520 w 381240"/>
              <a:gd name="textAreaTop" fmla="*/ 204840 h 312840"/>
              <a:gd name="textAreaBottom" fmla="*/ 2458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8772"/>
                </a:moveTo>
                <a:lnTo>
                  <a:pt x="14143" y="18772"/>
                </a:lnTo>
                <a:lnTo>
                  <a:pt x="14143" y="7200"/>
                </a:lnTo>
                <a:lnTo>
                  <a:pt x="9514" y="7200"/>
                </a:lnTo>
                <a:lnTo>
                  <a:pt x="15557" y="0"/>
                </a:lnTo>
                <a:lnTo>
                  <a:pt x="21600" y="7200"/>
                </a:lnTo>
                <a:lnTo>
                  <a:pt x="16971" y="7200"/>
                </a:lnTo>
                <a:lnTo>
                  <a:pt x="169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12952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?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wrote with it just n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1148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ith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wrot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66688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wro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just now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53352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. which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指物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主语或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作宾语可省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如介词提前则不能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6002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are the trees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ere pl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7432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corder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using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de in Jap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886200"/>
            <a:ext cx="743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the librar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borrow books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040" y="5454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4400" y="5105520"/>
            <a:ext cx="736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the librar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rom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b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o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65040" y="291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69640" y="1143000"/>
            <a:ext cx="57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物，作主语或宾语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" y="4821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0574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. It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040" y="268128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1450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. I told you about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9831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old you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2133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old you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429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注意：介词提前时只能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whic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而不能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64960" y="790560"/>
            <a:ext cx="637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物，作主语或宾语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5840" y="144792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30040" y="4191120"/>
            <a:ext cx="7610400" cy="990360"/>
            <a:chOff x="230040" y="4191120"/>
            <a:chExt cx="7610400" cy="990360"/>
          </a:xfrm>
        </p:grpSpPr>
        <p:grpSp>
          <p:nvGrpSpPr>
            <p:cNvPr id="191" name=""/>
            <p:cNvGrpSpPr/>
            <p:nvPr/>
          </p:nvGrpSpPr>
          <p:grpSpPr>
            <a:xfrm>
              <a:off x="3048120" y="4724280"/>
              <a:ext cx="1143000" cy="457200"/>
              <a:chOff x="3048120" y="4724280"/>
              <a:chExt cx="1143000" cy="457200"/>
            </a:xfrm>
          </p:grpSpPr>
          <p:sp>
            <p:nvSpPr>
              <p:cNvPr id="192" name=""/>
              <p:cNvSpPr/>
              <p:nvPr/>
            </p:nvSpPr>
            <p:spPr>
              <a:xfrm>
                <a:off x="3048120" y="4724280"/>
                <a:ext cx="1143000" cy="4572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3048120" y="4724280"/>
                <a:ext cx="1143000" cy="4060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30040" y="4191120"/>
              <a:ext cx="7610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Is this the library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from which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you borrow books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                           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from th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" y="304920"/>
            <a:ext cx="79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指物的情况下一般都可以互换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但在下列情况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般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而不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2240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am sure she ha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ometh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b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7680" y="3657600"/>
            <a:ext cx="74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ve read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book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not mi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815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ook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has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5943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ve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ook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longs to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" y="1371600"/>
            <a:ext cx="70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为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ll, everything, nothing, some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nything, little, muc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等不定代词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2800" y="2819520"/>
            <a:ext cx="742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ll, every, no, some, any, little, much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0840" y="435780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序数词或最高级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73520" y="5486400"/>
            <a:ext cx="72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the only, the very, the same, the last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31480" y="457200"/>
            <a:ext cx="300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nd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ong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ugh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32480" y="10666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9040" y="274320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9200" y="3124080"/>
            <a:ext cx="54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hand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6576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tal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4191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st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is 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47242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cl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is 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52722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naugh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51000">
            <a:off x="1675800" y="3581280"/>
            <a:ext cx="2514600" cy="152640"/>
          </a:xfrm>
          <a:custGeom>
            <a:avLst/>
            <a:gdLst>
              <a:gd name="textAreaLeft" fmla="*/ 507240 w 2514600"/>
              <a:gd name="textAreaRight" fmla="*/ 1755720 w 25146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51000">
            <a:off x="1676520" y="4108320"/>
            <a:ext cx="1828800" cy="15264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51000">
            <a:off x="1676520" y="4641480"/>
            <a:ext cx="1828800" cy="15228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51000">
            <a:off x="1750680" y="5171400"/>
            <a:ext cx="1752480" cy="160200"/>
          </a:xfrm>
          <a:custGeom>
            <a:avLst/>
            <a:gdLst>
              <a:gd name="textAreaLeft" fmla="*/ 353520 w 1752480"/>
              <a:gd name="textAreaRight" fmla="*/ 1223640 w 1752480"/>
              <a:gd name="textAreaTop" fmla="*/ 21240 h 160200"/>
              <a:gd name="textAreaBottom" fmla="*/ 138960 h 16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51000">
            <a:off x="1676520" y="5708520"/>
            <a:ext cx="1828800" cy="15264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653040"/>
            <a:ext cx="8229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(1) The scientist is very famous in the world. 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Times New Roman"/>
              </a:rPr>
              <a:t>We met her yesterday.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70496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cientist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we met yesterday is very famous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o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390060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The dress is new.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e is wear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800600"/>
            <a:ext cx="609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es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he is wearing is n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99072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He is the kind pers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ve ever worked with him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4419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 This is the best film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ve ever seen this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98108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the kind person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 have ever worked wi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wh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49528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the best film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 have ever 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905120" y="5181480"/>
            <a:ext cx="4647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THE END</a:t>
            </a:r>
            <a:endParaRPr b="1" lang="en-US" sz="2400" spc="1" strike="noStrike">
              <a:ln w="9360">
                <a:solidFill>
                  <a:srgbClr val="ff33cc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</p:spTree>
  </p:cSld>
  <p:transition spd="slow">
    <p:dissolve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z2" descr=""/>
          <p:cNvPicPr/>
          <p:nvPr/>
        </p:nvPicPr>
        <p:blipFill>
          <a:blip r:embed="rId1"/>
          <a:stretch/>
        </p:blipFill>
        <p:spPr>
          <a:xfrm>
            <a:off x="0" y="468360"/>
            <a:ext cx="8915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34776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boy is smil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502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boy has a round 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1430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smil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3720" y="3124080"/>
            <a:ext cx="67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has a round 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6483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 sits in front of 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53341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sits in front of 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o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51000">
            <a:off x="990000" y="837720"/>
            <a:ext cx="3476520" cy="30492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4191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114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got the job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woman can speak Russi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00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can speak Russi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t the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29718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will give us a tal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teacher is famo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41148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 famo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s a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4320" y="119160"/>
            <a:ext cx="72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is kind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one likes hi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0666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)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everyone lik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k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096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got the job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 saw her on the stre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2004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e saw on the stre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t the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441972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will give us a talk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 met the teacher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5486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e met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ll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s a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51000">
            <a:off x="789840" y="609120"/>
            <a:ext cx="3476520" cy="30492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6094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boy is in the la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 talk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766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you want to talk 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n the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909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o who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you want  to tal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n the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419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sit behind hi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075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 sit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56847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hind who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 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09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144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is the teacher.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teacher can spea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en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011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teacher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speak  Fren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32767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 came to visit you to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34340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m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it you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0851000">
            <a:off x="2237760" y="1447920"/>
            <a:ext cx="3476520" cy="30456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ady stepped on his foot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e was dancing with the la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9051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ad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om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was dancing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ped on his f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4290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 you know the ma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will visit him toda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495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i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it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11:32:25Z</dcterms:created>
  <dc:creator>余青</dc:creator>
  <dc:description/>
  <dc:language>en-US</dc:language>
  <cp:lastModifiedBy>a</cp:lastModifiedBy>
  <dcterms:modified xsi:type="dcterms:W3CDTF">2001-03-06T02:53:07Z</dcterms:modified>
  <cp:revision>67</cp:revision>
  <dc:subject/>
  <dc:title>定语从句关系代词that which who whom whose 1. That 指人/物， 作主语或宾语    A plane is a machine. It can fly.    He is the man. I told you about him. 2. Which 指人/物， 作主语或宾语    There are the trees. They were planted last year.    This recorder is made in Japan. He is using it. 3. Who指人,作主语; whom指人,作宾语    A person is called a thief. He steals things.    The man is Professor Li. I nodded to him. 4. Whose指人/物， 起物主代词作用    I want the book. It’s cover is blue.    This is the girl. Her pronunciation is the best.</dc:title>
</cp:coreProperties>
</file>