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9.jpeg" ContentType="image/jpeg"/>
  <Override PartName="/ppt/media/image3.wmf" ContentType="image/x-wmf"/>
  <Override PartName="/ppt/media/image20.wmf" ContentType="image/x-wmf"/>
  <Override PartName="/ppt/media/image18.wmf" ContentType="image/x-wmf"/>
  <Override PartName="/ppt/media/image15.gif" ContentType="image/gi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441-3D07-4039-B0C2-B7C7DB3E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992-7FB4-4A24-8D45-D03CF82E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7C7-3593-4973-9C13-9E4071FB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EC3-2897-450E-A1E9-FEDCBB61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B20-70BF-41FB-BEF7-22557CE1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D1F-942D-4CCE-B3CF-95231C47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C12-8E03-4CA0-8F98-F5E1B29D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B98-64A3-4890-BC65-E6135FCD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044-6339-448D-93DF-54F42B7A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4FB-7CBC-439F-B3FB-C60ADD4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5A3-07B4-4A57-BB07-DF773A9D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8CB-7C25-4A5F-97CC-B43A42D1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B94B-D01F-4CC4-9A27-CEB0A9D4DB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Times New Roman"/>
              </a:rPr>
              <a:t>JUNIOR ENGLIS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9000" y="24379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5050"/>
                </a:solidFill>
                <a:latin typeface="Times New Roman"/>
              </a:rPr>
              <a:t>Book   On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5715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烟台十九中学  王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E03254_" descr=""/>
          <p:cNvPicPr/>
          <p:nvPr/>
        </p:nvPicPr>
        <p:blipFill>
          <a:blip r:embed="rId2"/>
          <a:stretch/>
        </p:blipFill>
        <p:spPr>
          <a:xfrm>
            <a:off x="0" y="1371600"/>
            <a:ext cx="3886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380880"/>
            <a:ext cx="800100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w   Lesson : Imperative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tences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962520"/>
            <a:ext cx="5943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谓语动词用原形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表示请求，命令，叮嘱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D07153_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274320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62320" y="2819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祈使句的特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69f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3049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For    Exampl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1_152" descr=""/>
          <p:cNvPicPr/>
          <p:nvPr/>
        </p:nvPicPr>
        <p:blipFill>
          <a:blip r:embed="rId1"/>
          <a:stretch/>
        </p:blipFill>
        <p:spPr>
          <a:xfrm>
            <a:off x="0" y="4205160"/>
            <a:ext cx="4114800" cy="265284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371600" y="1295280"/>
            <a:ext cx="7620120" cy="3751560"/>
            <a:chOff x="1371600" y="1295280"/>
            <a:chExt cx="7620120" cy="3751560"/>
          </a:xfrm>
        </p:grpSpPr>
        <p:sp>
          <p:nvSpPr>
            <p:cNvPr id="74" name=""/>
            <p:cNvSpPr/>
            <p:nvPr/>
          </p:nvSpPr>
          <p:spPr>
            <a:xfrm>
              <a:off x="1371600" y="1295280"/>
              <a:ext cx="762012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1.Come  here,please.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过来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2.Sit down,please.      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坐下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3.please write your name on the blackboard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4343400"/>
              <a:ext cx="731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     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把你的名字写在黑板上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6094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Times New Roman"/>
              </a:rPr>
              <a:t>祈使句变为否定句：在谓语动词前加</a:t>
            </a:r>
            <a:r>
              <a:rPr b="0" lang="zh-CN" sz="4800" spc="-1" strike="noStrike">
                <a:solidFill>
                  <a:srgbClr val="ff5050"/>
                </a:solidFill>
                <a:latin typeface="Times New Roman"/>
              </a:rPr>
              <a:t>don’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362320"/>
            <a:ext cx="73152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For  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1.Don’t come here,pl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2.Don’t sit down,plea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3.Please don’t write your na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on the blackboa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D05219_" descr=""/>
          <p:cNvPicPr/>
          <p:nvPr/>
        </p:nvPicPr>
        <p:blipFill>
          <a:blip r:embed="rId1"/>
          <a:stretch/>
        </p:blipFill>
        <p:spPr>
          <a:xfrm>
            <a:off x="6934320" y="1523880"/>
            <a:ext cx="1676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2590920"/>
            <a:ext cx="80010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Model: open,the door, ( window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: Please open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:Please don’t open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lease open the 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E07677_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2133720" cy="2819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91440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Exercises:Make sentences after the mod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304920"/>
            <a:ext cx="86104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.play basketball, ( football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2.stand,under the tree, ( on the   chair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.sit, on the desk, (on the  floor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E02043_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3733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8077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祈使句的特点：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谓语动词用原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否定时在谓语动词  前加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don’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E01682_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5029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533520"/>
            <a:ext cx="7848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A:Complete th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.______  (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帮助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me to do housework,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Please 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(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擦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___________ (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不要关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B:Put the following into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关上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不要站在桌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课后打篮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L00393_" descr=""/>
          <p:cNvPicPr/>
          <p:nvPr/>
        </p:nvPicPr>
        <p:blipFill>
          <a:blip r:embed="rId2"/>
          <a:stretch/>
        </p:blipFill>
        <p:spPr>
          <a:xfrm>
            <a:off x="6454800" y="1905120"/>
            <a:ext cx="2689200" cy="3414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1752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2362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048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 sh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44197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close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5105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don’t stand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7913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play basketball aft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BD06152_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4953240" cy="5943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19920" y="2971800"/>
            <a:ext cx="259056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cc"/>
                </a:solidFill>
                <a:latin typeface="Times New Roman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cc"/>
                </a:solidFill>
                <a:latin typeface="Times New Roman"/>
              </a:rPr>
              <a:t>By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b020" descr=""/>
          <p:cNvPicPr/>
          <p:nvPr/>
        </p:nvPicPr>
        <p:blipFill>
          <a:blip r:embed="rId4"/>
          <a:srcRect l="4169" t="4723" r="4169" b="43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1371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Lesson  Eleve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73280"/>
            <a:ext cx="7162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Listen   and    S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             </a:t>
            </a:r>
            <a:r>
              <a:rPr b="0" lang="en-US" sz="4800" spc="-1" strike="noStrike">
                <a:solidFill>
                  <a:srgbClr val="ff3300"/>
                </a:solidFill>
                <a:latin typeface="Odessa LET"/>
              </a:rPr>
              <a:t>( I )( II )( III )( IV</a:t>
            </a: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6186600"/>
            <a:ext cx="3733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Made  By  Wang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1600200"/>
            <a:ext cx="838188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1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他在干什么？ 他在擦黑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2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你在干什么？ 我在黑板上写我的名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3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她在干什么？ 她在读今天的报纸</a:t>
            </a:r>
            <a:r>
              <a:rPr b="0" lang="zh-CN" sz="40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57200"/>
            <a:ext cx="556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Times New Roman"/>
              </a:rPr>
              <a:t>Go         over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301" descr=""/>
          <p:cNvPicPr/>
          <p:nvPr/>
        </p:nvPicPr>
        <p:blipFill>
          <a:blip r:embed="rId2"/>
          <a:srcRect l="0" t="0" r="0" b="7100"/>
          <a:stretch/>
        </p:blipFill>
        <p:spPr>
          <a:xfrm>
            <a:off x="1981080" y="4100400"/>
            <a:ext cx="71629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30492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nsw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371600"/>
            <a:ext cx="7848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What is he doing?  He is clea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e blackboa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What are you doing?   I’m 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y name on the blackboard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What is she doing?     She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reading today’s news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N02542_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198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O01862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838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Listen   and   say  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447920"/>
            <a:ext cx="5943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Clean the blackboard,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he do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He is cleaning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Write your name on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she do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She’s writing her name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NA00763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81280" y="228600"/>
            <a:ext cx="5257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Read the news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 do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I’m reading today’s news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Shut the window, pleas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he do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He’s shutting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1280" y="380880"/>
            <a:ext cx="52578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(II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Look at the map, ple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The map of China o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of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Look at the map of Chin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look at the map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D06675_" descr=""/>
          <p:cNvPicPr/>
          <p:nvPr/>
        </p:nvPicPr>
        <p:blipFill>
          <a:blip r:embed="rId2"/>
          <a:stretch/>
        </p:blipFill>
        <p:spPr>
          <a:xfrm>
            <a:off x="0" y="2362320"/>
            <a:ext cx="3635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143000"/>
            <a:ext cx="52578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(I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Shut the window, ple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This one or that on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Shut this window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shut that 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E01460_" descr=""/>
          <p:cNvPicPr/>
          <p:nvPr/>
        </p:nvPicPr>
        <p:blipFill>
          <a:blip r:embed="rId2"/>
          <a:stretch/>
        </p:blipFill>
        <p:spPr>
          <a:xfrm>
            <a:off x="5464080" y="1600200"/>
            <a:ext cx="3679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07:58:42Z</dcterms:created>
  <dc:creator>lyp</dc:creator>
  <dc:description/>
  <dc:language>en-US</dc:language>
  <cp:lastModifiedBy>lyp</cp:lastModifiedBy>
  <dcterms:modified xsi:type="dcterms:W3CDTF">2001-06-01T10:08:08Z</dcterms:modified>
  <cp:revision>53</cp:revision>
  <dc:subject/>
  <dc:title>PowerPoint 演示文稿</dc:title>
</cp:coreProperties>
</file>