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D45-C6EC-4A6E-99C8-3E684E9A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3AA-1373-45D1-A81E-14D00340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2D8-0706-4851-8D94-539379F6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4DB-35EC-46C7-8589-9737E5A4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690-BE01-469D-A976-63D7ECEC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59E-8566-47B8-9C6B-0A9E1C3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BF5-FB42-4902-BFB6-4F29606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A94-33A0-47AA-8D5F-B3E5CD1B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598-A742-4AE5-B3EA-D4720C0E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A7E-E893-42FC-BB08-6791330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51C-9CB9-49CF-9916-33D46A5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B3F-F448-4B79-A9E3-359D250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DA8-3C8D-402D-B75C-B417F0D66B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2:53Z</dcterms:created>
  <dc:creator>USER13</dc:creator>
  <dc:description/>
  <dc:language>en-US</dc:language>
  <cp:lastModifiedBy>USER13</cp:lastModifiedBy>
  <dcterms:modified xsi:type="dcterms:W3CDTF">2002-05-04T03:23:02Z</dcterms:modified>
  <cp:revision>1</cp:revision>
  <dc:subject/>
  <dc:title>PowerPoint 演示文稿</dc:title>
</cp:coreProperties>
</file>