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8F9-0475-43E4-BF69-30EC8B23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2BD-C578-4BD6-B476-D21E35DE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2D4-8991-4150-8D89-2068D59D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E15-2AF2-4A58-AAD0-F80F949B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6377-4082-4419-A69D-415844EF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A490-5EAB-4F23-9CB3-B1599639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056B-24A1-41F2-9E99-423B43A7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7B7D-D1E7-4324-962D-52273722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A3FC-8B49-41A8-A994-D1F5DEA6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E4C9-AD0C-4608-AD2D-3365311B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AAED-B087-4263-B1BD-1F5C74B8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65AD-2899-4E42-AE9E-05E687F6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2B06-158C-466A-B8BC-1B18D014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9657-7676-4E79-8665-7A41AFA3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CEA2-6571-4515-B34D-206EAEAD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40C6-7869-4D9B-ABC5-0123BE50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0ACC-3D22-40E4-A110-D8E5A656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8455-FEE4-4F5E-97D3-A5F8497E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7BC-ED2E-4E2C-A850-AC6112A1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22ED-6091-4061-9AA1-903C542A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E883-06DB-433E-ABA9-9CDA049F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2B3-DD34-4773-9912-4D57D322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884-2B9C-45F5-B7B5-39961A35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7E9-0F7C-444B-919F-091F035B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A345-96A5-47BF-9D0C-0A89E871759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CD1C-6F7D-4BAE-BE60-A051AE7207D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BAN_001biaot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219320" y="2971800"/>
            <a:ext cx="7238880" cy="304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Language points</a:t>
            </a:r>
            <a:endParaRPr b="1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228600"/>
            <a:ext cx="8686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8.Charles Babbage is generally considere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he first compu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invent  B.inventing  C.to have invented  D.having inven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9.Wet umbrellas are not allowe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nto this hotel according to the r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be taken  B.to take  C.taken    D.t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0.The patient was warne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oily food after the op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eat not   B.eating  C.not to eat   D.not e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1.The teacher ordered the classroom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t once and the students began to wo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be cleaned  B. cleaned   C. .to  clean    D.being   clea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1143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6668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3733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5105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64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2.We agreed 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here but so far she hasn’t turned up y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having met    B.meeting     C.to meet   D.to have m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3.---Does  your brother intend to study Germa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-Yes, he intends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\    B.to   C.so    D.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4.—Let me tell you something about the journalis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Don’t you remember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me the story yesterda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ld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B.telling   C.to tell   D.to have t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5.To fetch water before breakfast seemed to me a rule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never break   B.never to be broke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C.never to have broken     D.never to be breaking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6.The teacher asked us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so much noi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don’t make  B.not make  C.not making  D.not to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60948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90512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352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38280" y="4419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66294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5943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85800"/>
            <a:ext cx="86868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e.g. He is working on a report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experi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276720"/>
            <a:ext cx="61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Time went by slow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762360"/>
            <a:ext cx="891540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wenty years went by and her h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was beginning to turn gr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5362560"/>
            <a:ext cx="883908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Tom is/gets engaged to M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om and Mary are/get engag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6600" y="281952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2. go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0280" y="4876920"/>
            <a:ext cx="50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3. be/get engaged to s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5320" y="228600"/>
            <a:ext cx="5557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buClr>
                <a:srgbClr val="ff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work on +n./pron./v.-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1752480"/>
            <a:ext cx="693432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e is working on inventing a new machine for office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3505320"/>
            <a:ext cx="87631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Everything turned out satisfactory.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000" y="838080"/>
            <a:ext cx="83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You may go on with your discus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752480"/>
            <a:ext cx="84582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He dreamed of becoming a pilo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6280" y="182520"/>
            <a:ext cx="36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4. go on with s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160" y="1371600"/>
            <a:ext cx="24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5. dream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71400" y="2362320"/>
            <a:ext cx="7136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en he was in the middle scho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4440" y="2895480"/>
            <a:ext cx="23295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6. turn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4194000"/>
            <a:ext cx="75438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t looked like rain this morning, bu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t has turned out to be a fine 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0880" y="5283360"/>
            <a:ext cx="69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7. There is no point (in) doing s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3800" y="5821200"/>
            <a:ext cx="83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There is no point in arguing fur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9ff"/>
                </a:solidFill>
                <a:latin typeface="Comic Sans MS"/>
              </a:rPr>
              <a:t>Practi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85800"/>
            <a:ext cx="9144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learn about the universe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you need (2)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have a telescop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observe the stars w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It takes time (4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know a m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Please remember (5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bring me a boo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I’ve got a lot of work(6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d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(7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 order to catch the first bus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she got up ear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It is important for us(8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learn English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4100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Comic Sans MS"/>
              </a:rPr>
              <a:t>Subject: (4) (8)         Object; (2) (5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Comic Sans MS"/>
              </a:rPr>
              <a:t>Attribute; (3) (6)       Adverbial; (1) 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30240"/>
            <a:ext cx="86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Comic Sans MS"/>
              </a:rPr>
              <a:t>Fill in the blanks with the right phr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523880"/>
            <a:ext cx="83822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 _________ one day becoming a famous violin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Tom _____________ An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Two weeks slowly _________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His suggestion ___________ to be a good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He ____________ his in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 If we don’t finish painting the room today, we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___________ it tomorr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He ____________ a no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50080" y="1494000"/>
            <a:ext cx="16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dreams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98480" y="213372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is engaged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68320" y="2757600"/>
            <a:ext cx="13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went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63400" y="3443400"/>
            <a:ext cx="17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turned 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93920" y="4038480"/>
            <a:ext cx="22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has  used 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8320" y="534816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go  on 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80880" y="5958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is working 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609480"/>
            <a:ext cx="7162920" cy="83844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53352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ork on,  be engaged to,  turn out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ream of, go by,  use up,  go on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853452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练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. Is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necessary to complete the design  before  National Da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this   B.that   C.it   D.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When and where to build the new factory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y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is not decided   B.are not decid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.has not decided D.have not decid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. To live in hearts we leave behind is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not to die   B.to not die   C.not dying   D.dying 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 She will tell us why she feels so strongly that each of us has a role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in making the earth a better place to l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to have played   B.to play   C.to be played   D.to be pla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1066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20968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886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533412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68440" y="601992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不定式在句中可以做主语、表语、宾语、定语、状语、补足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0"/>
            <a:ext cx="845820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5. When I handed the report to John, he said that George was the person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o send   B.for sending it  C.to send it to  D.for sending it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6.—The light in the office is still 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Oh, I forgot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urning it off   B.turn it off  C.having turned it off  D.to turn it 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7.I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o believe that God could make me enter a univers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reject   B.require  C.insist   D.ref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8.She can’t help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he house  because she’s busy making a cak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clean  B.cleaning  C.cleaned  D.being clea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9.Not everybody has the ability 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n publ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of speak  B.speaking  C.spoken   D.to sp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9144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25146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91120" y="4038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5105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6248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380880"/>
            <a:ext cx="86868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0.Mary is always the first student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o answer the teacher’s questions in cla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rising    B.to rise   C.rose   D.ri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1.—Mum ,why do you always ask me to eat an egg every da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enough protein and nutrition  as you are growing 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Get   B.Getting   C.To get   D.To be get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2.—would you be so kin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us ou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With pleas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helping   B.in helping  C.help  D.as to he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3.The purpose of new technologies is to make life easi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  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t more difficul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not  make  B. not to make  C.not making  D.do not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1371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2971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5720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6172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380880"/>
            <a:ext cx="807732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4.In Australia he made a lot of friends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 very practical knowledge of Engli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get   B.getting   C.to get   D.g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5.European football is played in 80 countries,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t the most popular sports in the wor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making  B.makes  C.made   D.to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6.Yesterday I went to see him,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hat he had gone abroad two days befo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only to learn   B.to learn onl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C.only learned   D.only learning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Paul doesn’t have to be made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He always works ha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learn     B.to learn   C.learned    D.learning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13716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274320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426708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62164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8:39:20Z</dcterms:created>
  <dc:creator>dyzt</dc:creator>
  <dc:description/>
  <dc:language>en-US</dc:language>
  <cp:lastModifiedBy>dyzt</cp:lastModifiedBy>
  <dcterms:modified xsi:type="dcterms:W3CDTF">2004-08-05T09:00:51Z</dcterms:modified>
  <cp:revision>9</cp:revision>
  <dc:subject/>
  <dc:title>PowerPoint 演示文稿</dc:title>
</cp:coreProperties>
</file>