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496F-F7FF-4D0B-94A1-897C7604D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22A7-8B33-403D-B8E6-1FEA02A2B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B7D2-3814-47A4-A585-E9E5D6650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3340-9B1C-40C1-8E83-A72A26025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AE6F8-0D42-4B40-920F-6E9A1B5F4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B0DCF-F6F2-4856-A3FE-CC89B3F37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FBA7C-CF8A-4057-B455-E38B25C72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7D0B1-7B1A-4057-8F8C-C48C75723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678A9-9434-4E7F-B8AF-50DD6D899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97BD8-245F-4D1E-8337-94B5AF855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CFE93-2C8A-43B3-B8D4-6EB9C2A11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52CC-3C19-424C-A2E7-D91BA21E7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67638-4057-45FB-9564-25EEA9A89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3F724-C9EF-44BD-8620-7D99C39EC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391CB-0D90-47A0-9126-1CB150CEA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36356-E890-4E6B-A2EF-D379C0FE0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0F535-82BA-4EA6-B1CB-527A85DFA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8C7D-0C2F-4088-A2E9-8AC20A754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6201-94DE-44C8-AEE7-07E15765E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BEAD-3782-4A21-A890-4A668EE00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F3D9-AD4A-4A28-A4A5-E368B5F21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4E62-83DC-4613-AF10-F2613B0F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384F-81C1-4DFC-823C-B15516867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B571-C6DB-4DA5-8547-2325BDF6F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2904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904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904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904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2904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2904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2904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F9FF2-A752-4DDF-A4C5-A9D81E90CB7B}" type="slidenum">
              <a:rPr b="0" lang="zh-CN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2904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2904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904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2904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2904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2904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904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9134F-A48E-4E13-BD5D-DD7B750710DD}" type="slidenum">
              <a:rPr b="0" lang="zh-CN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" Target="slide5.xml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7816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228600" y="6019920"/>
            <a:ext cx="14479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0066"/>
                </a:solidFill>
                <a:uFillTx/>
                <a:latin typeface="Arial Rounded MT Bold"/>
                <a:hlinkClick r:id="rId2" action="ppaction://hlinksldjump"/>
              </a:rPr>
              <a:t>Pair work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828800" y="4205160"/>
            <a:ext cx="13716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0066"/>
                </a:solidFill>
                <a:uFillTx/>
                <a:latin typeface="Arial Rounded MT Bold"/>
                <a:hlinkClick r:id="rId3" action="ppaction://hlinksldjump"/>
              </a:rPr>
              <a:t>Grammar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867280" y="4114800"/>
            <a:ext cx="1600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0066"/>
                </a:solidFill>
                <a:uFillTx/>
                <a:latin typeface="Arial Rounded MT Bold"/>
                <a:hlinkClick r:id="rId4" action="ppaction://hlinksldjump"/>
              </a:rPr>
              <a:t>Group work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62520" y="2819520"/>
            <a:ext cx="1676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0066"/>
                </a:solidFill>
                <a:uFillTx/>
                <a:latin typeface="Arial Rounded MT Bold"/>
                <a:hlinkClick r:id="rId5" action="ppaction://hlinksldjump"/>
              </a:rPr>
              <a:t>First&amp;Last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00100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 Rounded MT Bold"/>
              </a:rPr>
              <a:t>Words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72" name="" descr="">
            <a:hlinkClick r:id="" action="ppaction://hlinkshowjump?jump=lastslide"/>
          </p:cNvPr>
          <p:cNvPicPr/>
          <p:nvPr/>
        </p:nvPicPr>
        <p:blipFill>
          <a:blip r:embed="rId6"/>
          <a:stretch/>
        </p:blipFill>
        <p:spPr>
          <a:xfrm>
            <a:off x="4343400" y="5638680"/>
            <a:ext cx="83808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6320" y="31240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 Narrow"/>
              </a:rPr>
              <a:t>What’s your name?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358128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 Narrow"/>
              </a:rPr>
              <a:t>Francisco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781680" y="28195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 Narrow"/>
              </a:rPr>
              <a:t>Hi,Mary.I’m Jim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19720" y="28195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 Narrow"/>
              </a:rPr>
              <a:t>Hello.I’m Mary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752480" y="5335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 Narrow"/>
              </a:rPr>
              <a:t>My name’s Jenny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495680" y="4572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 Narrow"/>
              </a:rPr>
              <a:t>I’m Gina.Nice to </a:t>
            </a:r>
            <a:br>
              <a:rPr sz="2400"/>
            </a:br>
            <a:r>
              <a:rPr b="1" lang="en-US" sz="2400" spc="-1" strike="noStrike">
                <a:solidFill>
                  <a:srgbClr val="660066"/>
                </a:solidFill>
                <a:latin typeface="Arial Narrow"/>
              </a:rPr>
              <a:t>　</a:t>
            </a:r>
            <a:r>
              <a:rPr b="1" lang="en-US" sz="2400" spc="-1" strike="noStrike">
                <a:solidFill>
                  <a:srgbClr val="660066"/>
                </a:solidFill>
                <a:latin typeface="Arial Narrow"/>
              </a:rPr>
              <a:t>meet you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80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772400" y="6095880"/>
            <a:ext cx="91440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600200" y="129528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Verdana"/>
              </a:rPr>
              <a:t>What’s your name?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00200" y="1828800"/>
            <a:ext cx="670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Verdana"/>
              </a:rPr>
              <a:t>Francisco.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00200" y="341316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Verdana"/>
              </a:rPr>
              <a:t>Hi,Mary.I’m Jim.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600200" y="280368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Verdana"/>
              </a:rPr>
              <a:t>Hello.I’m Mary.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600200" y="438768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Verdana"/>
              </a:rPr>
              <a:t>My name’s Jenny.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493704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Verdana"/>
              </a:rPr>
              <a:t>I’m Gina.Nice to meet you.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620120" y="6019920"/>
            <a:ext cx="914400" cy="6094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533520" y="33480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Showcard Gothic"/>
              </a:rPr>
              <a:t>Pair work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457200" y="3049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Showcard Gothic"/>
              </a:rPr>
              <a:t>GRAMMAR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14400" y="114300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Berlin Sans FB Demi"/>
              </a:rPr>
              <a:t>Questions &amp; Answers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066680" y="190512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 Black"/>
              </a:rPr>
              <a:t>What’s your name?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066680" y="361152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 Black"/>
              </a:rPr>
              <a:t>What’s his name?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066680" y="411480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 Black"/>
              </a:rPr>
              <a:t>His name’s Tony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066680" y="483084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 Black"/>
              </a:rPr>
              <a:t>What’s her name?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066680" y="533412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 Black"/>
              </a:rPr>
              <a:t>Her name’s Gina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219320" y="2666880"/>
            <a:ext cx="7162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2438280"/>
            <a:ext cx="716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 Black"/>
              </a:rPr>
              <a:t>My name’s Jenny.</a:t>
            </a:r>
            <a:br>
              <a:rPr sz="3200"/>
            </a:br>
            <a:r>
              <a:rPr b="0" lang="en-US" sz="3200" spc="-1" strike="noStrike">
                <a:solidFill>
                  <a:srgbClr val="990000"/>
                </a:solidFill>
                <a:latin typeface="Arial Black"/>
              </a:rPr>
              <a:t>I’m Jenny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715000" y="914400"/>
            <a:ext cx="3048120" cy="4191120"/>
          </a:xfrm>
          <a:prstGeom prst="cloudCallout">
            <a:avLst>
              <a:gd name="adj1" fmla="val -63856"/>
              <a:gd name="adj2" fmla="val 58976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What’s=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What is;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I’m=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I am ;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name’s=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name is;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7620120" y="6019920"/>
            <a:ext cx="9144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75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75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75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3348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Showcard Gothic"/>
              </a:rPr>
              <a:t>First name &amp; last name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13860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 Black"/>
              </a:rPr>
              <a:t>Name = First name + Last name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352680" y="1905120"/>
            <a:ext cx="7162920" cy="901440"/>
            <a:chOff x="3352680" y="1905120"/>
            <a:chExt cx="7162920" cy="901440"/>
          </a:xfrm>
        </p:grpSpPr>
        <p:sp>
          <p:nvSpPr>
            <p:cNvPr id="203" name=""/>
            <p:cNvSpPr/>
            <p:nvPr/>
          </p:nvSpPr>
          <p:spPr>
            <a:xfrm>
              <a:off x="3352680" y="2286000"/>
              <a:ext cx="716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6666"/>
                  </a:solidFill>
                  <a:latin typeface="Arial Black"/>
                </a:rPr>
                <a:t>Given name     Family name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4495680" y="1905120"/>
              <a:ext cx="0" cy="45720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7467480" y="1905120"/>
              <a:ext cx="0" cy="45720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3352680" y="2895480"/>
            <a:ext cx="5486400" cy="35686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2057400" y="5791320"/>
            <a:ext cx="9144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33480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Showcard Gothic"/>
              </a:rPr>
              <a:t>Group work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2716200"/>
            <a:ext cx="9144000" cy="41418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152280" y="39625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Berlin Sans FB Demi"/>
              </a:rPr>
              <a:t>Ton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3526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Berlin Sans FB Demi"/>
              </a:rPr>
              <a:t>Linda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038480" y="33526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Berlin Sans FB Demi"/>
              </a:rPr>
              <a:t>Be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105680" y="5500800"/>
            <a:ext cx="180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Berlin Sans FB Demi"/>
              </a:rPr>
              <a:t>Kat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2300400"/>
            <a:ext cx="63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Britannic Bold"/>
              </a:rPr>
              <a:t>My name’s Tony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187308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Britannic Bold"/>
              </a:rPr>
              <a:t>His name’s Tony.</a:t>
            </a:r>
            <a:br>
              <a:rPr sz="2800"/>
            </a:br>
            <a:r>
              <a:rPr b="0" lang="en-US" sz="2800" spc="-1" strike="noStrike">
                <a:solidFill>
                  <a:srgbClr val="000099"/>
                </a:solidFill>
                <a:latin typeface="Britannic Bold"/>
              </a:rPr>
              <a:t>My name’s Linda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1019160"/>
            <a:ext cx="3581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Britannic Bold"/>
              </a:rPr>
              <a:t>His name’s Tony.</a:t>
            </a:r>
            <a:br>
              <a:rPr sz="2800"/>
            </a:br>
            <a:r>
              <a:rPr b="0" lang="en-US" sz="2800" spc="-1" strike="noStrike">
                <a:solidFill>
                  <a:srgbClr val="000099"/>
                </a:solidFill>
                <a:latin typeface="Britannic Bold"/>
              </a:rPr>
              <a:t>Her name’s Linda.</a:t>
            </a:r>
            <a:br>
              <a:rPr sz="2800"/>
            </a:br>
            <a:r>
              <a:rPr b="0" lang="en-US" sz="2800" spc="-1" strike="noStrike">
                <a:solidFill>
                  <a:srgbClr val="000099"/>
                </a:solidFill>
                <a:latin typeface="Britannic Bold"/>
              </a:rPr>
              <a:t>His name’s Ben.</a:t>
            </a:r>
            <a:br>
              <a:rPr sz="2800"/>
            </a:br>
            <a:r>
              <a:rPr b="0" lang="en-US" sz="2800" spc="-1" strike="noStrike">
                <a:solidFill>
                  <a:srgbClr val="000099"/>
                </a:solidFill>
                <a:latin typeface="Britannic Bold"/>
              </a:rPr>
              <a:t>My name’s Kat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09480" y="1447920"/>
            <a:ext cx="3581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Britannic Bold"/>
              </a:rPr>
              <a:t>His name’s Tony.</a:t>
            </a:r>
            <a:br>
              <a:rPr sz="2800"/>
            </a:br>
            <a:r>
              <a:rPr b="0" lang="en-US" sz="2800" spc="-1" strike="noStrike">
                <a:solidFill>
                  <a:srgbClr val="000099"/>
                </a:solidFill>
                <a:latin typeface="Britannic Bold"/>
              </a:rPr>
              <a:t>Her name’s Linda.</a:t>
            </a:r>
            <a:br>
              <a:rPr sz="2800"/>
            </a:br>
            <a:r>
              <a:rPr b="0" lang="en-US" sz="2800" spc="-1" strike="noStrike">
                <a:solidFill>
                  <a:srgbClr val="000099"/>
                </a:solidFill>
                <a:latin typeface="Britannic Bold"/>
              </a:rPr>
              <a:t>My name’s Ben.</a:t>
            </a:r>
            <a:br>
              <a:rPr sz="2800"/>
            </a:b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8077320" y="1981080"/>
            <a:ext cx="91440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6" dur="1" fill="hold"/>
                                  <p:tgtEl>
                                    <p:spTgt spid="2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57200" y="30492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Showcard Gothic"/>
              </a:rPr>
              <a:t>Words &amp; expressions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1143000"/>
            <a:ext cx="73152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name: </a:t>
            </a:r>
            <a:r>
              <a:rPr b="0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n.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名字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名称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姓名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名誉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　　　  </a:t>
            </a:r>
            <a:r>
              <a:rPr b="0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vt.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命名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提名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叫出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指定</a:t>
            </a:r>
            <a:br>
              <a:rPr sz="2800"/>
            </a:b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　　　  </a:t>
            </a:r>
            <a:r>
              <a:rPr b="0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adj.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姓名的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据以取名的</a:t>
            </a:r>
            <a:r>
              <a:rPr b="0" lang="zh-CN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914400" y="2666880"/>
            <a:ext cx="8229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first :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　</a:t>
            </a:r>
            <a:r>
              <a:rPr b="0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adv.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首先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最初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第一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优先</a:t>
            </a:r>
            <a:br>
              <a:rPr sz="2800"/>
            </a:b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　　　   </a:t>
            </a:r>
            <a:r>
              <a:rPr b="0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adj.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第一的</a:t>
            </a:r>
            <a:br>
              <a:rPr sz="2800"/>
            </a:b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　　　   </a:t>
            </a:r>
            <a:r>
              <a:rPr b="0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num.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第一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个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)</a:t>
            </a:r>
            <a:br>
              <a:rPr sz="2800"/>
            </a:b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　　　   </a:t>
            </a:r>
            <a:r>
              <a:rPr b="0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n.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开始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第一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(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比赛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冠军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14400" y="4524480"/>
            <a:ext cx="77724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last :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　</a:t>
            </a:r>
            <a:r>
              <a:rPr b="0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adj.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最后的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临终的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末尾的</a:t>
            </a:r>
            <a:br>
              <a:rPr sz="2800"/>
            </a:b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　　　   </a:t>
            </a:r>
            <a:r>
              <a:rPr b="0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adv.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最后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后来</a:t>
            </a:r>
            <a:br>
              <a:rPr sz="2800"/>
            </a:b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　　　   </a:t>
            </a:r>
            <a:r>
              <a:rPr b="0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n.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最后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末尾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临终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鞋楦头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553080" y="6095880"/>
            <a:ext cx="914400" cy="6098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7772400" y="6095880"/>
            <a:ext cx="91440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95280" y="175248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her: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　</a:t>
            </a:r>
            <a:r>
              <a:rPr b="0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pron.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她的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她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295280" y="38088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my: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　</a:t>
            </a:r>
            <a:r>
              <a:rPr b="0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pron.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我的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295280" y="103500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your: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　</a:t>
            </a:r>
            <a:r>
              <a:rPr b="0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pron.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你的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你们的</a:t>
            </a:r>
            <a:r>
              <a:rPr b="0" lang="zh-CN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95280" y="243828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his: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　</a:t>
            </a:r>
            <a:r>
              <a:rPr b="0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pron.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他的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6553080" y="6095880"/>
            <a:ext cx="914400" cy="60984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772400" y="6095880"/>
            <a:ext cx="914400" cy="6098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295280" y="4570560"/>
            <a:ext cx="75438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meet: </a:t>
            </a:r>
            <a:r>
              <a:rPr b="0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n.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会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集会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             </a:t>
            </a:r>
            <a:r>
              <a:rPr b="0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adj.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适宜的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合适的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295280" y="3168720"/>
            <a:ext cx="784872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look: </a:t>
            </a:r>
            <a:r>
              <a:rPr b="0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n.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看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注视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脸色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面容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外表</a:t>
            </a:r>
            <a:br>
              <a:rPr sz="2800"/>
            </a:b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         </a:t>
            </a:r>
            <a:r>
              <a:rPr b="0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vi.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看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注意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朝着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好象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显得</a:t>
            </a:r>
            <a:br>
              <a:rPr sz="2800"/>
            </a:b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         </a:t>
            </a:r>
            <a:r>
              <a:rPr b="0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vt.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打量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注视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用眼神表示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期待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"/>
          <p:cNvGrpSpPr/>
          <p:nvPr/>
        </p:nvGrpSpPr>
        <p:grpSpPr>
          <a:xfrm>
            <a:off x="1143000" y="380880"/>
            <a:ext cx="6019920" cy="914400"/>
            <a:chOff x="1143000" y="380880"/>
            <a:chExt cx="6019920" cy="914400"/>
          </a:xfrm>
        </p:grpSpPr>
        <p:sp>
          <p:nvSpPr>
            <p:cNvPr id="234" name=""/>
            <p:cNvSpPr/>
            <p:nvPr/>
          </p:nvSpPr>
          <p:spPr>
            <a:xfrm>
              <a:off x="2057400" y="515880"/>
              <a:ext cx="510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66"/>
                  </a:solidFill>
                  <a:latin typeface="Times New Roman"/>
                </a:rPr>
                <a:t>clock: </a:t>
              </a:r>
              <a:r>
                <a:rPr b="0" lang="en-US" sz="2800" spc="-1" strike="noStrike">
                  <a:solidFill>
                    <a:srgbClr val="000066"/>
                  </a:solidFill>
                  <a:latin typeface="华文新魏"/>
                  <a:ea typeface="华文新魏"/>
                </a:rPr>
                <a:t>n.</a:t>
              </a:r>
              <a:r>
                <a:rPr b="0" lang="zh-CN" sz="2800" spc="-1" strike="noStrike">
                  <a:solidFill>
                    <a:srgbClr val="000066"/>
                  </a:solidFill>
                  <a:latin typeface="华文新魏"/>
                  <a:ea typeface="华文新魏"/>
                </a:rPr>
                <a:t>时钟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pic>
          <p:nvPicPr>
            <p:cNvPr id="235" name="" descr=""/>
            <p:cNvPicPr/>
            <p:nvPr/>
          </p:nvPicPr>
          <p:blipFill>
            <a:blip r:embed="rId1"/>
            <a:stretch/>
          </p:blipFill>
          <p:spPr>
            <a:xfrm>
              <a:off x="1143000" y="380880"/>
              <a:ext cx="884160" cy="914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7924680" y="6019920"/>
            <a:ext cx="914400" cy="609480"/>
          </a:xfrm>
          <a:prstGeom prst="rect">
            <a:avLst/>
          </a:prstGeom>
          <a:ln w="0">
            <a:noFill/>
          </a:ln>
        </p:spPr>
      </p:pic>
      <p:grpSp>
        <p:nvGrpSpPr>
          <p:cNvPr id="237" name=""/>
          <p:cNvGrpSpPr/>
          <p:nvPr/>
        </p:nvGrpSpPr>
        <p:grpSpPr>
          <a:xfrm>
            <a:off x="1143000" y="1779480"/>
            <a:ext cx="8001000" cy="1116720"/>
            <a:chOff x="1143000" y="1779480"/>
            <a:chExt cx="8001000" cy="1116720"/>
          </a:xfrm>
        </p:grpSpPr>
        <p:sp>
          <p:nvSpPr>
            <p:cNvPr id="238" name=""/>
            <p:cNvSpPr/>
            <p:nvPr/>
          </p:nvSpPr>
          <p:spPr>
            <a:xfrm>
              <a:off x="2133720" y="1827000"/>
              <a:ext cx="701028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66"/>
                  </a:solidFill>
                  <a:latin typeface="Times New Roman"/>
                </a:rPr>
                <a:t>question: </a:t>
              </a:r>
              <a:r>
                <a:rPr b="0" lang="en-US" sz="2800" spc="-1" strike="noStrike">
                  <a:solidFill>
                    <a:srgbClr val="000066"/>
                  </a:solidFill>
                  <a:latin typeface="华文新魏"/>
                  <a:ea typeface="华文新魏"/>
                </a:rPr>
                <a:t> n.</a:t>
              </a:r>
              <a:r>
                <a:rPr b="0" lang="zh-CN" sz="2800" spc="-1" strike="noStrike">
                  <a:solidFill>
                    <a:srgbClr val="000066"/>
                  </a:solidFill>
                  <a:latin typeface="华文新魏"/>
                  <a:ea typeface="华文新魏"/>
                </a:rPr>
                <a:t>问题</a:t>
              </a:r>
              <a:r>
                <a:rPr b="0" lang="zh-CN" sz="2800" spc="-1" strike="noStrike">
                  <a:solidFill>
                    <a:srgbClr val="000066"/>
                  </a:solidFill>
                  <a:latin typeface="华文新魏"/>
                  <a:ea typeface="华文新魏"/>
                </a:rPr>
                <a:t>, </a:t>
              </a:r>
              <a:r>
                <a:rPr b="0" lang="zh-CN" sz="2800" spc="-1" strike="noStrike">
                  <a:solidFill>
                    <a:srgbClr val="000066"/>
                  </a:solidFill>
                  <a:latin typeface="华文新魏"/>
                  <a:ea typeface="华文新魏"/>
                </a:rPr>
                <a:t>疑问</a:t>
              </a:r>
              <a:r>
                <a:rPr b="0" lang="zh-CN" sz="2800" spc="-1" strike="noStrike">
                  <a:solidFill>
                    <a:srgbClr val="000066"/>
                  </a:solidFill>
                  <a:latin typeface="华文新魏"/>
                  <a:ea typeface="华文新魏"/>
                </a:rPr>
                <a:t>, </a:t>
              </a:r>
              <a:r>
                <a:rPr b="0" lang="zh-CN" sz="2800" spc="-1" strike="noStrike">
                  <a:solidFill>
                    <a:srgbClr val="000066"/>
                  </a:solidFill>
                  <a:latin typeface="华文新魏"/>
                  <a:ea typeface="华文新魏"/>
                </a:rPr>
                <a:t>询问</a:t>
              </a:r>
              <a:br>
                <a:rPr sz="2800"/>
              </a:br>
              <a:r>
                <a:rPr b="0" lang="zh-CN" sz="2800" spc="-1" strike="noStrike">
                  <a:solidFill>
                    <a:srgbClr val="000066"/>
                  </a:solidFill>
                  <a:latin typeface="华文新魏"/>
                  <a:ea typeface="华文新魏"/>
                </a:rPr>
                <a:t>                     </a:t>
              </a:r>
              <a:r>
                <a:rPr b="0" lang="en-US" sz="2800" spc="-1" strike="noStrike">
                  <a:solidFill>
                    <a:srgbClr val="000066"/>
                  </a:solidFill>
                  <a:latin typeface="华文新魏"/>
                  <a:ea typeface="华文新魏"/>
                </a:rPr>
                <a:t>v.</a:t>
              </a:r>
              <a:r>
                <a:rPr b="0" lang="zh-CN" sz="2800" spc="-1" strike="noStrike">
                  <a:solidFill>
                    <a:srgbClr val="000066"/>
                  </a:solidFill>
                  <a:latin typeface="华文新魏"/>
                  <a:ea typeface="华文新魏"/>
                </a:rPr>
                <a:t>询问</a:t>
              </a:r>
              <a:r>
                <a:rPr b="0" lang="zh-CN" sz="2800" spc="-1" strike="noStrike">
                  <a:solidFill>
                    <a:srgbClr val="000066"/>
                  </a:solidFill>
                  <a:latin typeface="华文新魏"/>
                  <a:ea typeface="华文新魏"/>
                </a:rPr>
                <a:t>, </a:t>
              </a:r>
              <a:r>
                <a:rPr b="0" lang="zh-CN" sz="2800" spc="-1" strike="noStrike">
                  <a:solidFill>
                    <a:srgbClr val="000066"/>
                  </a:solidFill>
                  <a:latin typeface="华文新魏"/>
                  <a:ea typeface="华文新魏"/>
                </a:rPr>
                <a:t>审问</a:t>
              </a:r>
              <a:r>
                <a:rPr b="0" lang="zh-CN" sz="2800" spc="-1" strike="noStrike">
                  <a:solidFill>
                    <a:srgbClr val="000066"/>
                  </a:solidFill>
                  <a:latin typeface="华文新魏"/>
                  <a:ea typeface="华文新魏"/>
                </a:rPr>
                <a:t>, </a:t>
              </a:r>
              <a:r>
                <a:rPr b="0" lang="zh-CN" sz="2800" spc="-1" strike="noStrike">
                  <a:solidFill>
                    <a:srgbClr val="000066"/>
                  </a:solidFill>
                  <a:latin typeface="华文新魏"/>
                  <a:ea typeface="华文新魏"/>
                </a:rPr>
                <a:t>怀疑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pic>
          <p:nvPicPr>
            <p:cNvPr id="239" name="" descr=""/>
            <p:cNvPicPr/>
            <p:nvPr/>
          </p:nvPicPr>
          <p:blipFill>
            <a:blip r:embed="rId3"/>
            <a:stretch/>
          </p:blipFill>
          <p:spPr>
            <a:xfrm>
              <a:off x="1143000" y="1779480"/>
              <a:ext cx="914400" cy="885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0" name=""/>
          <p:cNvGrpSpPr/>
          <p:nvPr/>
        </p:nvGrpSpPr>
        <p:grpSpPr>
          <a:xfrm>
            <a:off x="1143000" y="3200400"/>
            <a:ext cx="8001000" cy="990360"/>
            <a:chOff x="1143000" y="3200400"/>
            <a:chExt cx="8001000" cy="990360"/>
          </a:xfrm>
        </p:grpSpPr>
        <p:sp>
          <p:nvSpPr>
            <p:cNvPr id="241" name=""/>
            <p:cNvSpPr/>
            <p:nvPr/>
          </p:nvSpPr>
          <p:spPr>
            <a:xfrm>
              <a:off x="2133720" y="3352680"/>
              <a:ext cx="7010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66"/>
                  </a:solidFill>
                  <a:latin typeface="Times New Roman"/>
                </a:rPr>
                <a:t>girl:  </a:t>
              </a:r>
              <a:r>
                <a:rPr b="0" lang="en-US" sz="2800" spc="-1" strike="noStrike">
                  <a:solidFill>
                    <a:srgbClr val="000066"/>
                  </a:solidFill>
                  <a:latin typeface="华文新魏"/>
                  <a:ea typeface="华文新魏"/>
                </a:rPr>
                <a:t>n.</a:t>
              </a:r>
              <a:r>
                <a:rPr b="0" lang="zh-CN" sz="2800" spc="-1" strike="noStrike">
                  <a:solidFill>
                    <a:srgbClr val="000066"/>
                  </a:solidFill>
                  <a:latin typeface="华文新魏"/>
                  <a:ea typeface="华文新魏"/>
                </a:rPr>
                <a:t>女孩</a:t>
              </a:r>
              <a:r>
                <a:rPr b="0" lang="zh-CN" sz="2800" spc="-1" strike="noStrike">
                  <a:solidFill>
                    <a:srgbClr val="000066"/>
                  </a:solidFill>
                  <a:latin typeface="华文新魏"/>
                  <a:ea typeface="华文新魏"/>
                </a:rPr>
                <a:t>, </a:t>
              </a:r>
              <a:r>
                <a:rPr b="0" lang="zh-CN" sz="2800" spc="-1" strike="noStrike">
                  <a:solidFill>
                    <a:srgbClr val="000066"/>
                  </a:solidFill>
                  <a:latin typeface="华文新魏"/>
                  <a:ea typeface="华文新魏"/>
                </a:rPr>
                <a:t>少女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pic>
          <p:nvPicPr>
            <p:cNvPr id="242" name="" descr=""/>
            <p:cNvPicPr/>
            <p:nvPr/>
          </p:nvPicPr>
          <p:blipFill>
            <a:blip r:embed="rId4"/>
            <a:stretch/>
          </p:blipFill>
          <p:spPr>
            <a:xfrm>
              <a:off x="1143000" y="3200400"/>
              <a:ext cx="990720" cy="99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3" name=""/>
          <p:cNvGrpSpPr/>
          <p:nvPr/>
        </p:nvGrpSpPr>
        <p:grpSpPr>
          <a:xfrm>
            <a:off x="1143000" y="4648320"/>
            <a:ext cx="8001000" cy="1066680"/>
            <a:chOff x="1143000" y="4648320"/>
            <a:chExt cx="8001000" cy="1066680"/>
          </a:xfrm>
        </p:grpSpPr>
        <p:pic>
          <p:nvPicPr>
            <p:cNvPr id="244" name="" descr=""/>
            <p:cNvPicPr/>
            <p:nvPr/>
          </p:nvPicPr>
          <p:blipFill>
            <a:blip r:embed="rId5"/>
            <a:stretch/>
          </p:blipFill>
          <p:spPr>
            <a:xfrm>
              <a:off x="1143000" y="4648320"/>
              <a:ext cx="94932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2133720" y="4876920"/>
              <a:ext cx="7010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66"/>
                  </a:solidFill>
                  <a:latin typeface="Times New Roman"/>
                </a:rPr>
                <a:t>boy: </a:t>
              </a:r>
              <a:r>
                <a:rPr b="0" lang="en-US" sz="2800" spc="-1" strike="noStrike">
                  <a:solidFill>
                    <a:srgbClr val="000066"/>
                  </a:solidFill>
                  <a:latin typeface="华文新魏"/>
                  <a:ea typeface="华文新魏"/>
                </a:rPr>
                <a:t>n.</a:t>
              </a:r>
              <a:r>
                <a:rPr b="0" lang="zh-CN" sz="2800" spc="-1" strike="noStrike">
                  <a:solidFill>
                    <a:srgbClr val="000066"/>
                  </a:solidFill>
                  <a:latin typeface="华文新魏"/>
                  <a:ea typeface="华文新魏"/>
                </a:rPr>
                <a:t>男孩</a:t>
              </a:r>
              <a:r>
                <a:rPr b="0" lang="zh-CN" sz="2800" spc="-1" strike="noStrike">
                  <a:solidFill>
                    <a:srgbClr val="000066"/>
                  </a:solidFill>
                  <a:latin typeface="华文新魏"/>
                  <a:ea typeface="华文新魏"/>
                </a:rPr>
                <a:t>, </a:t>
              </a:r>
              <a:r>
                <a:rPr b="0" lang="zh-CN" sz="2800" spc="-1" strike="noStrike">
                  <a:solidFill>
                    <a:srgbClr val="000066"/>
                  </a:solidFill>
                  <a:latin typeface="华文新魏"/>
                  <a:ea typeface="华文新魏"/>
                </a:rPr>
                <a:t>儿子</a:t>
              </a:r>
              <a:r>
                <a:rPr b="0" lang="zh-CN" sz="2800" spc="-1" strike="noStrike">
                  <a:solidFill>
                    <a:srgbClr val="000066"/>
                  </a:solidFill>
                  <a:latin typeface="华文新魏"/>
                  <a:ea typeface="华文新魏"/>
                </a:rPr>
                <a:t>, </a:t>
              </a:r>
              <a:r>
                <a:rPr b="0" lang="zh-CN" sz="2800" spc="-1" strike="noStrike">
                  <a:solidFill>
                    <a:srgbClr val="000066"/>
                  </a:solidFill>
                  <a:latin typeface="华文新魏"/>
                  <a:ea typeface="华文新魏"/>
                </a:rPr>
                <a:t>孩子气的人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1T12:13:33Z</dcterms:created>
  <dc:creator>XuYing</dc:creator>
  <dc:description/>
  <dc:language>en-US</dc:language>
  <cp:lastModifiedBy>luomingjiang</cp:lastModifiedBy>
  <dcterms:modified xsi:type="dcterms:W3CDTF">2005-09-17T00:20:49Z</dcterms:modified>
  <cp:revision>3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