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carbrake.wav" ContentType="audio/x-wav"/>
  <Override PartName="/ppt/media/image11.gif" ContentType="image/gif"/>
  <Override PartName="/ppt/media/chimes.wav" ContentType="audio/x-wav"/>
  <Override PartName="/ppt/media/image13.gif" ContentType="image/gif"/>
  <Override PartName="/ppt/media/image7.gif" ContentType="image/gif"/>
  <Override PartName="/ppt/media/image8.gif" ContentType="image/gif"/>
  <Override PartName="/ppt/media/image14.gif" ContentType="image/gif"/>
  <Override PartName="/ppt/media/image9.gif" ContentType="image/gif"/>
  <Override PartName="/ppt/media/image26.gif" ContentType="image/gif"/>
  <Override PartName="/ppt/media/image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1.gif" ContentType="image/gif"/>
  <Override PartName="/ppt/media/image34.gif" ContentType="image/gif"/>
  <Override PartName="/ppt/media/image33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24.gif" ContentType="image/gif"/>
  <Override PartName="/ppt/media/camera.wav" ContentType="audio/x-wav"/>
  <Override PartName="/ppt/media/image17.gif" ContentType="image/gif"/>
  <Override PartName="/ppt/media/image32.gif" ContentType="image/gif"/>
  <Override PartName="/ppt/media/image2.gif" ContentType="image/gif"/>
  <Override PartName="/ppt/media/type.wav" ContentType="audio/x-wav"/>
  <Override PartName="/ppt/media/image6.jpeg" ContentType="image/jpeg"/>
  <Override PartName="/ppt/media/image25.gif" ContentType="image/gif"/>
  <Override PartName="/ppt/media/whoosh.wav" ContentType="audio/x-wav"/>
  <Override PartName="/ppt/media/image27.gif" ContentType="image/gif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3D8-38E7-4EBE-8F6C-F136DCD8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87A-79BD-4122-829E-6EF3B078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A78-B4CF-473C-A9E1-FEB52AF2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558-6DE7-4D04-8136-2F87B6CE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B7A-EF58-45F0-97C1-F5418871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59E-76CD-478D-AF4A-9E622B82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F7C-EE40-4C87-9F09-3A606C53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79C-A361-48C8-A71F-E80698D8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C54-9B2F-44D2-89C1-8004D3C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01D-E41A-4E52-903E-7D890D84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918-9348-466E-8E43-3F38BB7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9D7-6945-44BD-80BB-CDD341C7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4E8-ADFE-40F6-B9D3-1A3FBEE97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95160" y="-81000"/>
            <a:ext cx="10534320" cy="739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76212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600200"/>
            <a:ext cx="51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 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y name’s Gina .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6705720" cy="114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3600" y="2092320"/>
            <a:ext cx="42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（   ）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1. Hello !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2. 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3. Good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4. How are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5. Spell your name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6. What color is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7. What is this in Engl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8. What’s your na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2057400"/>
            <a:ext cx="320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mor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black and whi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J—A—C—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an orang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’m fine, thank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y name is Gin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" y="4986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ask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nd proper responses in Column B for each sentence in Colum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352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612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428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05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44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2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1600200" cy="10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676160" cy="94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5480" y="914400"/>
            <a:ext cx="51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Hello, N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_, Dory.  ___ are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I’m ____, tha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ow are 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fine,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What’s ____  ____ Englis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 a  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____ _____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It is 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11320" y="12859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3840" y="136224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2320" y="17668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4320" y="2200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1360" y="260496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880" y="2581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880" y="3038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440" y="3038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39006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3900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1320" y="43578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1680" y="43578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0" y="47912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320" y="2714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sk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160" y="304920"/>
            <a:ext cx="64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Complete the conversations after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根据示例完成对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85760" y="1285920"/>
            <a:ext cx="53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 :   A: What’s his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His name is 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76160" y="2657520"/>
            <a:ext cx="48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  ____ her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__________ Da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4640" y="25909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4680" y="3114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r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768920"/>
            <a:ext cx="53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  A:  _________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B: __________ Father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6462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5120" y="471492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hi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5172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s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Look at the pictures and fill in the blanks.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图完成对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32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5480" y="3124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9200" y="31082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an M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5360" y="129528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Hi, my name is Li Le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: ___ Han Mei. ___ to mee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Nice to ____ you, Han Mei.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know my father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 : 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___ name ___ Li Mal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520" y="21477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960" y="21477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360" y="25290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988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0520" y="3809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5160" y="38098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219320" cy="109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800" y="4419720"/>
            <a:ext cx="626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Look! ____ is hi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: Sun Wuk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Oh, great. Wukong is his ____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 is his ____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2000" y="4410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1280" y="52484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080" y="56530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080" y="52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3680" y="57056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8320" y="3581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1440" y="3571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765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505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648320" y="4343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3526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2133720" y="3657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70520" y="291456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14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0440" y="1743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70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7440" y="30621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0560" y="4052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800" y="48909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48769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920" y="382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0" y="40194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3809880" y="266688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5160" y="3382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425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120" y="609480"/>
            <a:ext cx="3729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70720" y="106668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you know these numbers?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知道这些号码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2200" y="1967040"/>
            <a:ext cx="61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象查询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话号码查号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警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急救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744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1 one-tw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2480" y="2514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4 one-one-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986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9 one-one-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1840" y="35053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0 one-two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720" y="3952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0 one-one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4320" y="609480"/>
            <a:ext cx="63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et’s read these numbers.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朗读这些数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524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97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000" y="1295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3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3360" y="12952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06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80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60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460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6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946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30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54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64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8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0" y="2452680"/>
            <a:ext cx="556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Can you solve the addition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你会做下列加法题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00" y="3495600"/>
            <a:ext cx="75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xample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:  --What’s six and one? –It’s s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4267080"/>
            <a:ext cx="60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two and thre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zero and nin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four and three? --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one and seven?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05160" y="42577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4800" y="464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4840" y="5500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69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017360" cy="124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90324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05120" y="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bye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5:10:11Z</dcterms:created>
  <dc:creator>hgp</dc:creator>
  <dc:description/>
  <dc:language>en-US</dc:language>
  <cp:lastModifiedBy>luomingjiang</cp:lastModifiedBy>
  <dcterms:modified xsi:type="dcterms:W3CDTF">2005-09-17T00:22:45Z</dcterms:modified>
  <cp:revision>10</cp:revision>
  <dc:subject/>
  <dc:title>PowerPoint 演示文稿</dc:title>
</cp:coreProperties>
</file>