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2CB-9A00-4FDE-A20E-4EC26795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249-D114-450E-8AEC-06D594F4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AD5-AF08-48B7-9A8B-5DD32843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B54-5ED6-4237-83C7-1FF4CDCB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5C9E-2624-4788-BA77-1E815733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02A2-F904-46C1-B7F2-42C3E89A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654F-9A7C-4D93-9CAF-03B8B2A6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B1CD-0337-4794-98D8-6FCC5B58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4474-18D2-4975-9F0D-334E542A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8632-2375-4949-A0D3-6447E86B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577C-88CD-450A-939C-C22EB9A7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6BE-6435-4036-9D34-93C12BE1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032A-BEF1-471D-B6C7-CF62DE01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AE2B-8F11-41EA-8055-AD5D305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FCEF-16EE-4F39-A9ED-ECA64E38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98CA-2CC4-4C5E-A7D8-9B322C7F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7DE6-93A8-416E-BEDA-B17DA9C9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460-DAB1-4E52-A9FC-7093A92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173-770C-4F40-A2A2-3DB9E5C4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4F9-68AC-4060-B28E-843474DB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B0D-0749-4E47-8380-9A739698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C31-DFAF-45C8-96A5-DC74F3A7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3E2-1C3D-490E-8518-52D6855D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ABD-5408-4CAE-B9C6-74A17312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827C-0E2F-40E9-8D24-CD25C502C67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D540-5182-4B0E-A83B-485123A5426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AN_001biaot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219320" y="2971800"/>
            <a:ext cx="7238880" cy="30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anguage points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686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8.Charles Babbage is generally consider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first compu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invent  B.inventing  C.to have invented  D.having inv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9.Wet umbrellas are not allow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to this hotel according to the r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taken  B.to take  C.taken    D.t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0.The patient was warn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oily food after the op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eat not   B.eating  C.not to eat   D.not 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1.The teacher ordered the classroom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t once and the students began to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cleaned  B. cleaned   C. .to  clean    D.being  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1143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666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733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5105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4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2.We agreed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re but so far she hasn’t turned up 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having met    B.meeting     C.to meet   D.to have m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3.---Does  your brother intend to study Germ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-Yes, he int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\    B.to   C.so    D.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4.—Let me tell you something about the journal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Don’t you remember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me the story yester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ld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B.telling   C.to tell   D.to have t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5.To fetch water before breakfast seemed to me a rul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never break   B.never to be broke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never to have broken     D.never to be break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6.The teacher asked u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so much noi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don’t make  B.not make  C.not making  D.not 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6094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051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4419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6629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43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85800"/>
            <a:ext cx="8686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.g. He is working on a report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76720"/>
            <a:ext cx="61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ime went by slow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62360"/>
            <a:ext cx="89154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wenty years went by and he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was beginning to turn gr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362560"/>
            <a:ext cx="883908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om is/gets engaged to M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 and Mary are/get engag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28195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2. go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0280" y="4876920"/>
            <a:ext cx="50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3. be/get engaged to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320" y="228600"/>
            <a:ext cx="5557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work on +n./pron./v.-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752480"/>
            <a:ext cx="69343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 is working on inventing a new machine for offic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3505320"/>
            <a:ext cx="8763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Everything turned out satisfactory.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000" y="838080"/>
            <a:ext cx="83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You may go on with your discu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752480"/>
            <a:ext cx="8458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He dreamed of becoming a pil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280" y="18252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4. go on with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160" y="1371600"/>
            <a:ext cx="24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5. dream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400" y="2362320"/>
            <a:ext cx="7136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en he was in the middle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4440" y="2895480"/>
            <a:ext cx="2329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6. turn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94000"/>
            <a:ext cx="75438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looked like rain this morning, b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has turned out to be a fin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0880" y="528336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7. There is no point (in) doing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3800" y="5821200"/>
            <a:ext cx="83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here is no point in arguing fur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ff"/>
                </a:solidFill>
                <a:latin typeface="Comic Sans MS"/>
              </a:rPr>
              <a:t>Prac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8580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about the universe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you need (2)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ave a telescop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observe the stars 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It takes time (4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know a m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Please remember (5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bring me a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I’ve got a lot of work(6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(7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order to catch the first bu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she got up 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It is important for us(8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English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4100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Subject: (4) (8)         Object; (2) (5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Attribute; (3) (6)       Adverbial; (1) 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024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Fill in the blanks with the right phr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523880"/>
            <a:ext cx="8382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_________ one day becoming a famous violin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Tom _____________ An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Two weeks slowly _________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His suggestion ___________ to be a good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e ____________ his 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If we don’t finish painting the room today, we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___ it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He ____________ a no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0080" y="149400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dream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8480" y="21337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engag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8320" y="275760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went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3400" y="344340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turned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93920" y="403848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has  used 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8320" y="53481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go  on 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0880" y="5958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working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09480"/>
            <a:ext cx="716292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335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 on,  be engaged to,  turn ou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ream of, go by,  use up,  go on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85345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ecessary to complete the design  before  National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his   B.that   C.it   D.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hen and where to build the new factory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is not decided   B.ar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has not decided D.hav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 To live in hearts we leave behind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not to die   B.to not die   C.not dying   D.dying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 She will tell us why she feels so strongly that each of us has a role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making the earth a better place to l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o have played   B.to play   C.to be played   D.to be pla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106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0968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886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53341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68440" y="60199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不定式在句中可以做主语、表语、宾语、定语、状语、补足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0"/>
            <a:ext cx="84582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5. When I handed the report to John, he said that George was the person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send   B.for sending it  C.to send it to  D.for sending i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6.—The light in the office is still 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Oh, I forgo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urning it off   B.turn it off  C.having turned it off  D.to turn it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7.I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believe that God could make me enter a univers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reject   B.require  C.insist   D.ref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8.She can’t help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house  because she’s busy making a ca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clean  B.cleaning  C.cleaned  D.being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9.Not everybody has the ability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 publ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f speak  B.speaking  C.spoken   D.to sp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914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514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105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6248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0.Mary is always the first studen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answer the teacher’s questions in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rising    B.to rise   C.rose   D.ri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1.—Mum ,why do you always ask me to eat an egg every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enough protein and nutrition  as you are growing 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Get   B.Getting   C.To get   D.To be g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2.—would you be so kin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us ou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With pleas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lping   B.in helping  C.help  D.as to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3.The purpose of new technologies is to make life eas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more diffic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not  make  B. not to make  C.not making  D.do not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371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971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6172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3808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4.In Australia he made a lot of fri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 very practical knowledge of Eng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get   B.getting   C.to get   D.g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5.European football is played in 80 countries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the most popular sports in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making  B.makes  C.made   D.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6.Yesterday I went to see him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at he had gone abroad two days bef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nly to learn   B.to learn onl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only learned   D.only learn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Paul doesn’t have to be mad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He always works h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learn     B.to learn   C.learned    D.learnin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13716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743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2670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6216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39:20Z</dcterms:created>
  <dc:creator>dyzt</dc:creator>
  <dc:description/>
  <dc:language>en-US</dc:language>
  <cp:lastModifiedBy>dyzt</cp:lastModifiedBy>
  <dcterms:modified xsi:type="dcterms:W3CDTF">2004-08-05T09:00:51Z</dcterms:modified>
  <cp:revision>9</cp:revision>
  <dc:subject/>
  <dc:title>PowerPoint 演示文稿</dc:title>
</cp:coreProperties>
</file>