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0026-8F31-4D50-A882-D2E8601C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F689-A0CD-494A-8657-842861AB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7012-7371-4873-A801-471C6604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BA45-11E3-4042-9716-EE3D71AF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51DF-BE88-4D31-AC5C-8E0810F0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AF22-B44D-4E7F-BE42-A894C426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FDD8-3AD9-4C76-A943-7CF01E3C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4E3E-FA8C-46A9-8F96-B3FBE2DB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1134-89F6-4F41-B6F6-EBBA7387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278B-CC56-4E23-B3B0-E08B7A46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130F-DE04-4E09-8287-A9A48C9B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180D-863D-4281-8708-0B227934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92A5-B58B-478E-8395-1E12FBBA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158C-E530-46A1-B656-395EBA58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94B2-F591-429D-8700-2D7A5E3C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0906-6D81-4B75-8959-5B14FCC4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F42E-F5C0-4BCD-AF95-01EC95A3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AC80-DBA2-403B-AE54-1ABF7178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9383-8E3A-40D5-BAD0-BDD2B27A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454E-8EFC-49A7-9925-EE2E986E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BA6F-56CF-4A08-BFAC-BABE7F50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40EF-F081-4674-8944-A9374929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435B-02A1-40AF-A1BA-460CEE13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CF35E-6804-44F6-83A8-3BF830F3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89ED-CCB0-4626-88D0-8C4F2628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D245-EE71-45C4-8A36-A7C04FB6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3015-DB89-4D7F-BF1F-BCE1AA42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99D2-D86E-4BF4-87B7-1B060926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BC5B-EE2F-4361-84AD-D66792ED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6BE5-E580-4279-8214-A68F00BB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7FCA5-4BB6-4B32-9998-177141D7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B0C5-02DA-4348-9BC8-C0E45DA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F3D7-5247-4E85-8980-83C302BE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246A-4B6F-46DA-BE7B-E1ABCD7D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9821A-DC6D-4839-BC00-87C3A050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BFDB6-FA40-4F30-A352-752C3CB6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ACD9-A885-483F-A5AF-5EEFF1CB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C581-824B-4826-B0F9-79676854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472F6-0D19-4FE7-8C99-EE63B5B3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6A93-4D75-4AF5-8EEE-47EFC6C6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2663-D8E8-4C71-9C6A-7E3FFBFA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1ECE0-F06C-40B2-BE1B-6CBCCE1F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A1B28-34F8-4510-A389-12F31D50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57D6-1032-48FA-B914-F179430C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776A-53C8-4BF0-BBB1-485A5DA4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AF22-6DDB-4C13-B58E-6D8A92CE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85F6-6C3B-4FDB-9B36-6BCB4DDB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C7A0-D7A8-4D8A-A91E-22CDAF2A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8B11-7963-45A7-A9DA-75E9AA9DCB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DEB5-67A1-4EEE-ABF5-E3486A63F3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514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8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9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C091-1CAC-400F-B662-735BF88E594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583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46E8-E708-4047-ADD8-A39AB39340A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55640" y="907920"/>
            <a:ext cx="72723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Bookman Old Style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Unit 1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Good   friend</a:t>
            </a:r>
            <a:r>
              <a:rPr b="0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838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-listening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124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90720" y="2362320"/>
          <a:ext cx="7391160" cy="2908080"/>
        </p:xfrm>
        <a:graphic>
          <a:graphicData uri="http://schemas.openxmlformats.org/drawingml/2006/table">
            <a:tbl>
              <a:tblPr/>
              <a:tblGrid>
                <a:gridCol w="1218960"/>
                <a:gridCol w="1752840"/>
                <a:gridCol w="1981080"/>
                <a:gridCol w="24382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4300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Arial Black"/>
              </a:rPr>
              <a:t>The Third &amp; Fourth Peri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057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i="1" lang="en-US" sz="4000" spc="-1" strike="noStrike">
                <a:solidFill>
                  <a:srgbClr val="000044"/>
                </a:solidFill>
                <a:latin typeface="Arial Black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1600" y="3352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44"/>
                </a:solidFill>
                <a:latin typeface="隶书"/>
                <a:ea typeface="隶书"/>
              </a:rPr>
              <a:t>任务 →目标 →语言技能 →活动形式→ 阅读教学模式 →教学思路 →教学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                         </a:t>
            </a: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1 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师生互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描写在孤岛上生存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情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2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个人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快读查找每段主题句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细读找出段落大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3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小组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讨论发表自己的意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4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班级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归纳学生意见，从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得出结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>
            <a:off x="2771640" y="0"/>
            <a:ext cx="6019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276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0" y="3243240"/>
            <a:ext cx="3809880" cy="3614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ere is the 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9160" y="166356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at happened to hi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2352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drift=cast aw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44197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as he got a friend on the islan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0160" y="308304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sta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80880" y="838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       feel if you were alone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thout fri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ike the man?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750960"/>
            <a:ext cx="83059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阅读教学模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独立阅读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合作交流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个性构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383076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22096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666880" y="1981080"/>
            <a:ext cx="1143000" cy="60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2743200"/>
            <a:ext cx="114300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1676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A successful business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Has little time for fri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4114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895480" y="4190760"/>
            <a:ext cx="12193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876920"/>
            <a:ext cx="114300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he most difficult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Learn and understand the frien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048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The c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03480" y="32767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2666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What kind of person Chuck 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3880" y="2514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04920" y="2286000"/>
          <a:ext cx="8839080" cy="4154400"/>
        </p:xfrm>
        <a:graphic>
          <a:graphicData uri="http://schemas.openxmlformats.org/drawingml/2006/table">
            <a:tbl>
              <a:tblPr/>
              <a:tblGrid>
                <a:gridCol w="2860560"/>
                <a:gridCol w="2776680"/>
                <a:gridCol w="320184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 be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ima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-1219320" y="990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228600"/>
            <a:ext cx="6705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57200" y="685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How do you understand the following sentences in the passage</a:t>
            </a:r>
            <a:r>
              <a:rPr b="0" lang="en-US" sz="3600" spc="-1" strike="noStrike">
                <a:solidFill>
                  <a:srgbClr val="000044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2209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1).Friendship is about feelings and we must give as much as we tak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733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2).Friends are teac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 life without a friend is a life without the s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0" y="6248520"/>
            <a:ext cx="590400" cy="407880"/>
          </a:xfrm>
          <a:custGeom>
            <a:avLst/>
            <a:gdLst>
              <a:gd name="textAreaLeft" fmla="*/ 243360 w 590400"/>
              <a:gd name="textAreaRight" fmla="*/ 347040 w 590400"/>
              <a:gd name="textAreaTop" fmla="*/ 168120 h 407880"/>
              <a:gd name="textAreaBottom" fmla="*/ 239760 h 40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flipH="1" flipV="1">
            <a:off x="-900720" y="476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836640"/>
            <a:ext cx="747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隶书"/>
              </a:rPr>
              <a:t>教材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1" action="ppaction://hlinksldjump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2" action="ppaction://hlinksldjump"/>
              </a:rPr>
              <a:t>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3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4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8200" y="5013360"/>
            <a:ext cx="3382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我的思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311120" y="457200"/>
            <a:ext cx="2978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5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1447920"/>
            <a:ext cx="327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种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途径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内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形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47840" y="1490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63840" y="152388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过程性评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终结性评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68360" y="2590920"/>
            <a:ext cx="68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学生自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师生互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生互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19280" y="312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反思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19640" y="3124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合作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79840" y="380988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知—知识     技能—能力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情感—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518148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口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书面（建立个人学习档案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960" y="571176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elf-assessment      peer- assess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0" y="0"/>
          <a:ext cx="9144000" cy="6997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685800"/>
                <a:gridCol w="1981080"/>
                <a:gridCol w="182520"/>
                <a:gridCol w="1722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l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unit, you learnt about friends and friendship, how are you getting on with each of the following skill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w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eed more practice  value 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ba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(using the number of the st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 compreh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about likes and dislik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n ap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new words &amp;expre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ing of the tex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 an 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0" y="1981080"/>
            <a:ext cx="336600" cy="21600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905120"/>
            <a:ext cx="31428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05120"/>
            <a:ext cx="333360" cy="2347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8680" y="1990800"/>
            <a:ext cx="27936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1981080"/>
            <a:ext cx="325440" cy="3049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84680" y="1994040"/>
            <a:ext cx="335160" cy="31104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18320" y="1963800"/>
            <a:ext cx="216000" cy="272880"/>
          </a:xfrm>
          <a:prstGeom prst="donut">
            <a:avLst>
              <a:gd name="adj" fmla="val 25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flection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457200" y="685800"/>
          <a:ext cx="8001000" cy="609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What have you learn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What is the most important thing you learnt 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do you find the most difficul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Where do you see the most improvemen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What do you think you did bes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Where do you need to work hard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Peer Assess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2280" y="1066680"/>
          <a:ext cx="8991720" cy="510552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1067040"/>
                <a:gridCol w="914400"/>
                <a:gridCol w="914400"/>
                <a:gridCol w="838080"/>
                <a:gridCol w="9144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姓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组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班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提出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解答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查找资料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人合作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84040" y="374760"/>
            <a:ext cx="5603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备课后思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教师备课的深广度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2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师生都提出了合作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3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教师需不断提高自身的知识水平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知识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对新教材中新教学理念理会的深刻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3640" y="45720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上课后的思索</a:t>
            </a:r>
            <a:r>
              <a:rPr b="0" lang="zh-CN" sz="4400" spc="-1" strike="noStrike">
                <a:solidFill>
                  <a:srgbClr val="2c2ca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360" y="1447920"/>
            <a:ext cx="7940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42e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不断调整自己的思维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2. 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灵活整合教学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讲究课堂教学的实效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8600" y="2438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隶书"/>
              </a:rPr>
              <a:t>Thank you for your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1125360"/>
            <a:ext cx="10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476280"/>
            <a:ext cx="863640" cy="5619600"/>
          </a:xfrm>
          <a:custGeom>
            <a:avLst/>
            <a:gdLst>
              <a:gd name="textAreaLeft" fmla="*/ 551880 w 863640"/>
              <a:gd name="textAreaRight" fmla="*/ 864000 w 863640"/>
              <a:gd name="textAreaTop" fmla="*/ 146520 h 5619600"/>
              <a:gd name="textAreaBottom" fmla="*/ 5473080 h 56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背景知识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5280" y="64944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内容的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5280" y="1411200"/>
            <a:ext cx="31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2173320"/>
            <a:ext cx="602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语言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98d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2" action="ppaction://hlinksldjump"/>
              </a:rPr>
              <a:t>Topic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Key words &amp;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Wri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Grammar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综合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德育思想渗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0360" y="4572000"/>
            <a:ext cx="503280" cy="19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4221000"/>
            <a:ext cx="296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朋友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生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意义的理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21360" y="747720"/>
            <a:ext cx="1731960" cy="85608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Topic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0920" y="1752480"/>
            <a:ext cx="953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How to solve problems occur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in the friendshi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The attitude towards fri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Learn how to make fri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89600" y="1397160"/>
            <a:ext cx="515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99ff"/>
                </a:solidFill>
                <a:uFillTx/>
                <a:latin typeface="Century Gothic"/>
                <a:ea typeface="隶书"/>
                <a:hlinkClick r:id="rId1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1052640"/>
            <a:ext cx="647640" cy="4321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6840" y="576360"/>
            <a:ext cx="851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知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技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情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8000" y="260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词汇的掌握和灵活运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语法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直接和间接引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557360"/>
            <a:ext cx="374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习得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认知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交际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调控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3640" y="1989000"/>
            <a:ext cx="647640" cy="20196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2560 h 2019600"/>
              <a:gd name="textAreaBottom" fmla="*/ 1967040 h 20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8360" y="429264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端正学习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培养合作精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437000"/>
            <a:ext cx="649080" cy="2019240"/>
          </a:xfrm>
          <a:custGeom>
            <a:avLst/>
            <a:gdLst>
              <a:gd name="textAreaLeft" fmla="*/ 414720 w 649080"/>
              <a:gd name="textAreaRight" fmla="*/ 649440 w 64908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5240" y="1036800"/>
            <a:ext cx="515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3" action="ppaction://hlinksldjump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4" action="ppaction://hlinksldjump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5" action="ppaction://hlinksldjump"/>
              </a:rPr>
              <a:t>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6" action="ppaction://hlinksldjump"/>
              </a:rPr>
              <a:t>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16000" y="1052640"/>
            <a:ext cx="431640" cy="43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338040 h 4321080"/>
              <a:gd name="textAreaBottom" fmla="*/ 398304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27200" y="6476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任务型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交际型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以人为本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21520" y="55450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灵活性、流畅性、完整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0280" y="447840"/>
            <a:ext cx="531720" cy="85680"/>
          </a:xfrm>
          <a:custGeom>
            <a:avLst/>
            <a:gdLst>
              <a:gd name="textAreaLeft" fmla="*/ 218880 w 531720"/>
              <a:gd name="textAreaRight" fmla="*/ 312840 w 531720"/>
              <a:gd name="textAreaTop" fmla="*/ 35280 h 85680"/>
              <a:gd name="textAreaBottom" fmla="*/ 50400 h 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84200" y="0"/>
            <a:ext cx="3345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4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9120" y="1052640"/>
            <a:ext cx="84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设计的理念： 创设情景  营造气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面向学生   寓教于乐   创新思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7880" y="3529080"/>
            <a:ext cx="14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课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安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1480" y="2637000"/>
            <a:ext cx="671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Ⅰ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Warming-up &amp;liste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Ⅱ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Spea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Ⅲ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&amp;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Ⅳ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Rea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Ⅴ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Language study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Ⅵ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Integra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914400" y="-46497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Century Gothic"/>
              </a:rPr>
              <a:t>The First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438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任务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目标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语言技能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活动形式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活动程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Warming up &amp;List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3657600" y="422748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5120" y="2514600"/>
            <a:ext cx="3809880" cy="1828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2e78"/>
                </a:solidFill>
                <a:latin typeface="Times New Roman"/>
              </a:rPr>
              <a:t>A good fri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1981080"/>
            <a:ext cx="609480" cy="83844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1280" y="1600200"/>
            <a:ext cx="76320" cy="10666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48320" y="1828800"/>
            <a:ext cx="457200" cy="8380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9720" y="25146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3733920"/>
            <a:ext cx="99072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4114800"/>
            <a:ext cx="381240" cy="9144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33560" y="4038480"/>
            <a:ext cx="228600" cy="11430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61960" y="41148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71600" y="3809880"/>
            <a:ext cx="91440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819520"/>
            <a:ext cx="914400" cy="6858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I think a friend should b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good friend is someone who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7621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Lucida Console"/>
              </a:rPr>
              <a:t>Brainstor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7:32:08Z</dcterms:created>
  <dc:creator>Urse</dc:creator>
  <dc:description/>
  <dc:language>en-US</dc:language>
  <cp:lastModifiedBy>Administrator</cp:lastModifiedBy>
  <dcterms:modified xsi:type="dcterms:W3CDTF">2004-04-11T02:44:49Z</dcterms:modified>
  <cp:revision>115</cp:revision>
  <dc:subject/>
  <dc:title>PowerPoint 演示文稿</dc:title>
</cp:coreProperties>
</file>