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55CE-0623-4975-87A8-73329813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2CBE-6255-4747-BBFB-B75B15F7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0EDE-89D0-4B74-BFF5-7BE6005E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04C3-C0EC-413E-A2C4-B2648C1C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90F5-F35E-484B-A70B-D70833BD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954F-CC77-4D90-9146-11CA224F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35DC-D665-40EE-9139-6A0AF854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B81B-3B21-40FD-B989-34A68F37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125D-FF56-45DC-9A92-1BBCDBEE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B88F-DBEA-40FF-9968-18E3317D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D5C0-BD76-4E6C-BEB2-E2F4A5D0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BCA8-B3CC-43BD-B88A-75313762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7F54-E149-4E62-AB6E-4AC8CEFC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1B66-BC05-415E-A4C6-9B0AA02E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3D50-1B53-4B0A-A7D4-F2040DFE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3D03-942D-4799-9639-3847E3E8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7AB1-F1BD-416E-8AF9-DF33F698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3C8A-3A89-4471-AFBA-F0795E8D5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933B-C2EC-4AE5-9278-22157CE5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CCBF-5D39-4B05-9E8A-1BF82EBC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771C-1F68-4829-96D0-F38FEF2D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0830-5179-4AE7-A43E-FBB516A0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CEFB-8EB0-4B75-868D-35971E50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F0486-FD31-4366-8C56-16B1E90B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064AE-08DE-4289-BFC6-84BD8725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E9D2-2D90-4555-905F-D166A7B8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200BA-226D-4654-8A8D-40072A2E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5D54-E1BF-4C2C-8B56-FEF28997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4457E-DD49-48C8-BA3E-F38D7BF5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6EED-ED22-46DD-AE46-B5689486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E4549-CF6C-47F3-873E-D9959521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2F289-8367-47A0-A362-640B9D2A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5C9B-1A4E-41EF-B800-52BE1DE1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F710-7C21-4635-8C18-93F511C9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7ED6A-43C1-41F9-B761-1C7C727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FBABC-C022-41A3-9D96-767199DA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D5970-9780-4EF5-A5C8-3D38B1DF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A39C9-9833-4414-AAD5-2A65A29E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00DAB-A79E-4352-A625-8C58E76B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F806F-3199-43D7-B3C0-CC5107A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A6E2D-C247-4107-92C3-FC947EB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46B39-86F8-445F-8020-E6C7F1C2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B12B9-3B22-4F43-92F7-FF705107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9046-E5D8-442E-9771-37F590F0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ED87-454C-46E6-9035-92532ADF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89EF-D9BB-46C4-B057-A69EBEA8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718F-6BF3-4F38-8C50-781A203B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0D79-4740-475C-BD13-78D30881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2A01-C88D-4D09-9E2F-7FEEE6841C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2622-2750-4717-97E7-A2DD986CF4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514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8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9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4E80-5716-40D6-BB34-EE751C2D823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583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69C7-9403-4A9C-87A1-6B173B3B223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55640" y="907920"/>
            <a:ext cx="72723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Bookman Old Style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Unit 1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Good   friend</a:t>
            </a:r>
            <a:r>
              <a:rPr b="0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14400" y="838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e-listening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124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90720" y="2362320"/>
          <a:ext cx="7391160" cy="2908080"/>
        </p:xfrm>
        <a:graphic>
          <a:graphicData uri="http://schemas.openxmlformats.org/drawingml/2006/table">
            <a:tbl>
              <a:tblPr/>
              <a:tblGrid>
                <a:gridCol w="1218960"/>
                <a:gridCol w="1752840"/>
                <a:gridCol w="1981080"/>
                <a:gridCol w="24382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4300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44"/>
                </a:solidFill>
                <a:latin typeface="Arial Black"/>
              </a:rPr>
              <a:t>The Third &amp; Fourth Peri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20574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i="1" lang="en-US" sz="4000" spc="-1" strike="noStrike">
                <a:solidFill>
                  <a:srgbClr val="000044"/>
                </a:solidFill>
                <a:latin typeface="Arial Black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1600" y="3352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44"/>
                </a:solidFill>
                <a:latin typeface="隶书"/>
                <a:ea typeface="隶书"/>
              </a:rPr>
              <a:t>任务 →目标 →语言技能 →活动形式→ 阅读教学模式 →教学思路 →教学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                         </a:t>
            </a: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1 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师生互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描写在孤岛上生存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情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2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个人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快读查找每段主题句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细读找出段落大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3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小组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讨论发表自己的意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4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班级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归纳学生意见，从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得出结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 flipH="1">
            <a:off x="2771640" y="0"/>
            <a:ext cx="6019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276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0" y="3243240"/>
            <a:ext cx="3809880" cy="36147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860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ere is the 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9160" y="166356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at happened to hi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2352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drift=cast aw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44197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Has he got a friend on the islan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0160" y="308304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staw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80880" y="838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       feel if you were alone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thout fri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like the man?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750960"/>
            <a:ext cx="83059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阅读教学模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独立阅读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合作交流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个性构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383076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43000" y="22096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666880" y="1981080"/>
            <a:ext cx="1143000" cy="60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2743200"/>
            <a:ext cx="114300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1676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A successful business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Has little time for fri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4114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895480" y="4190760"/>
            <a:ext cx="1219320" cy="533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876920"/>
            <a:ext cx="114300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3392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The most difficult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Learn and understand the frien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048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The c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03480" y="3276720"/>
            <a:ext cx="54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26668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What kind of person Chuck 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523880" y="2514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304920" y="2286000"/>
          <a:ext cx="8839080" cy="4154400"/>
        </p:xfrm>
        <a:graphic>
          <a:graphicData uri="http://schemas.openxmlformats.org/drawingml/2006/table">
            <a:tbl>
              <a:tblPr/>
              <a:tblGrid>
                <a:gridCol w="2860560"/>
                <a:gridCol w="2776680"/>
                <a:gridCol w="320184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 be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ima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-1219320" y="990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228600"/>
            <a:ext cx="6705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57200" y="685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How do you understand the following sentences in the passage</a:t>
            </a:r>
            <a:r>
              <a:rPr b="0" lang="en-US" sz="3600" spc="-1" strike="noStrike">
                <a:solidFill>
                  <a:srgbClr val="000044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2209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1).Friendship is about feelings and we must give as much as we tak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733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2).Friends are teac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A life without a friend is a life without the s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>
            <a:off x="0" y="6248520"/>
            <a:ext cx="590400" cy="407880"/>
          </a:xfrm>
          <a:custGeom>
            <a:avLst/>
            <a:gdLst>
              <a:gd name="textAreaLeft" fmla="*/ 243360 w 590400"/>
              <a:gd name="textAreaRight" fmla="*/ 347040 w 590400"/>
              <a:gd name="textAreaTop" fmla="*/ 168120 h 407880"/>
              <a:gd name="textAreaBottom" fmla="*/ 239760 h 40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 flipH="1" flipV="1">
            <a:off x="-900720" y="47628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836640"/>
            <a:ext cx="747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隶书"/>
              </a:rPr>
              <a:t>教材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1" action="ppaction://hlinksldjump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2" action="ppaction://hlinksldjump"/>
              </a:rPr>
              <a:t>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3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4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8200" y="5013360"/>
            <a:ext cx="3382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5" action="ppaction://hlinksldjump"/>
              </a:rPr>
              <a:t>我的思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311120" y="457200"/>
            <a:ext cx="2978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5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1447920"/>
            <a:ext cx="327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种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途径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内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形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47840" y="1490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63840" y="152388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过程性评价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终结性评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68360" y="2590920"/>
            <a:ext cx="68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学生自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师生互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生生互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19280" y="3124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反思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19640" y="31240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合作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79840" y="380988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知—知识     技能—能力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情感—态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518148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口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书面（建立个人学习档案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960" y="571176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elf-assessment      peer- assess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0" y="0"/>
          <a:ext cx="9144000" cy="6997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685800"/>
                <a:gridCol w="1981080"/>
                <a:gridCol w="182520"/>
                <a:gridCol w="1722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l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unit, you learnt about friends and friendship, how are you getting on with each of the following skill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w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eed more practice  value 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ba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(using the number of the st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 compreh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about likes and dislik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n apolo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new words &amp;expre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ing of the tex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 an e-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0" y="1981080"/>
            <a:ext cx="336600" cy="21600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905120"/>
            <a:ext cx="31428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05120"/>
            <a:ext cx="333360" cy="2347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8680" y="1990800"/>
            <a:ext cx="27936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1981080"/>
            <a:ext cx="325440" cy="3049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84680" y="1994040"/>
            <a:ext cx="335160" cy="31104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18320" y="1963800"/>
            <a:ext cx="216000" cy="272880"/>
          </a:xfrm>
          <a:prstGeom prst="donut">
            <a:avLst>
              <a:gd name="adj" fmla="val 25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0" y="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flection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457200" y="685800"/>
          <a:ext cx="8001000" cy="6095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What have you learn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What is the most important thing you learnt 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do you find the most difficul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Where do you see the most improvemen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What do you think you did bes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Where do you need to work hard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6765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Peer Assess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2280" y="1066680"/>
          <a:ext cx="8991720" cy="510552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  <a:gridCol w="1067040"/>
                <a:gridCol w="914400"/>
                <a:gridCol w="914400"/>
                <a:gridCol w="838080"/>
                <a:gridCol w="91440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姓       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组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班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提出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解答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查找资料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与人合作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84040" y="374760"/>
            <a:ext cx="5603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备课后思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教师备课的深广度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2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师生都提出了合作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3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教师需不断提高自身的知识水平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知识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对新教材中新教学理念理会的深刻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93640" y="457200"/>
            <a:ext cx="36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上课后的思索</a:t>
            </a:r>
            <a:r>
              <a:rPr b="0" lang="zh-CN" sz="4400" spc="-1" strike="noStrike">
                <a:solidFill>
                  <a:srgbClr val="2c2ca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360" y="1447920"/>
            <a:ext cx="7940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42e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不断调整自己的思维模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2. 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灵活整合教学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3.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讲究课堂教学的实效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28600" y="2438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隶书"/>
              </a:rPr>
              <a:t>Thank you for your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50920" y="1125360"/>
            <a:ext cx="10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55640" y="476280"/>
            <a:ext cx="863640" cy="5619600"/>
          </a:xfrm>
          <a:custGeom>
            <a:avLst/>
            <a:gdLst>
              <a:gd name="textAreaLeft" fmla="*/ 551880 w 863640"/>
              <a:gd name="textAreaRight" fmla="*/ 864000 w 863640"/>
              <a:gd name="textAreaTop" fmla="*/ 146520 h 5619600"/>
              <a:gd name="textAreaBottom" fmla="*/ 5473080 h 56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0"/>
            <a:ext cx="37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背景知识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5280" y="64944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内容的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5280" y="1411200"/>
            <a:ext cx="31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2173320"/>
            <a:ext cx="602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语言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98d4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2" action="ppaction://hlinksldjump"/>
              </a:rPr>
              <a:t>Topic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Key words &amp;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Wri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Grammar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综合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德育思想渗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0360" y="4572000"/>
            <a:ext cx="503280" cy="19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4221000"/>
            <a:ext cx="296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朋友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生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意义的理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21360" y="747720"/>
            <a:ext cx="1731960" cy="85608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Topic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0920" y="1752480"/>
            <a:ext cx="953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How to solve problems occur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   </a:t>
            </a: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in the friendshi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The attitude towards frie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Learn how to make fri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89600" y="1397160"/>
            <a:ext cx="515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99ff"/>
                </a:solidFill>
                <a:uFillTx/>
                <a:latin typeface="Century Gothic"/>
                <a:ea typeface="隶书"/>
                <a:hlinkClick r:id="rId1" action="ppaction://hlinksldjump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16000" y="1052640"/>
            <a:ext cx="647640" cy="4321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6840" y="576360"/>
            <a:ext cx="851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知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技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情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48000" y="26028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词汇的掌握和灵活运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语法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直接和间接引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1557360"/>
            <a:ext cx="374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习得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认知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交际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调控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3640" y="1989000"/>
            <a:ext cx="647640" cy="20196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2560 h 2019600"/>
              <a:gd name="textAreaBottom" fmla="*/ 1967040 h 20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08360" y="429264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端正学习态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培养合作精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59280" y="4437000"/>
            <a:ext cx="649080" cy="2019240"/>
          </a:xfrm>
          <a:custGeom>
            <a:avLst/>
            <a:gdLst>
              <a:gd name="textAreaLeft" fmla="*/ 414720 w 649080"/>
              <a:gd name="textAreaRight" fmla="*/ 649440 w 64908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45240" y="1036800"/>
            <a:ext cx="515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3" action="ppaction://hlinksldjump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4" action="ppaction://hlinksldjump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5" action="ppaction://hlinksldjump"/>
              </a:rPr>
              <a:t>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6" action="ppaction://hlinksldjump"/>
              </a:rPr>
              <a:t>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16000" y="1052640"/>
            <a:ext cx="431640" cy="43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338040 h 4321080"/>
              <a:gd name="textAreaBottom" fmla="*/ 398304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27200" y="647640"/>
            <a:ext cx="252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任务型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交际型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以人为本的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21520" y="55450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灵活性、流畅性、完整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0280" y="447840"/>
            <a:ext cx="531720" cy="85680"/>
          </a:xfrm>
          <a:custGeom>
            <a:avLst/>
            <a:gdLst>
              <a:gd name="textAreaLeft" fmla="*/ 218880 w 531720"/>
              <a:gd name="textAreaRight" fmla="*/ 312840 w 531720"/>
              <a:gd name="textAreaTop" fmla="*/ 35280 h 85680"/>
              <a:gd name="textAreaBottom" fmla="*/ 50400 h 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84200" y="0"/>
            <a:ext cx="3345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4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9120" y="1052640"/>
            <a:ext cx="84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设计的理念： 创设情景  营造气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面向学生   寓教于乐   创新思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7880" y="3529080"/>
            <a:ext cx="14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课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安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1480" y="2637000"/>
            <a:ext cx="67168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Ⅰ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Warming-up &amp;liste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Ⅱ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Spea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Ⅲ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&amp;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Ⅳ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Rea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Ⅴ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Language study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Ⅵ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Integra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914400" y="-46497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4300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Century Gothic"/>
              </a:rPr>
              <a:t>The First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2438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任务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目标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语言技能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活动形式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活动程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Warming up &amp;List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3657600" y="422748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5120" y="2514600"/>
            <a:ext cx="3809880" cy="1828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2e78"/>
                </a:solidFill>
                <a:latin typeface="Times New Roman"/>
              </a:rPr>
              <a:t>A good fri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1981080"/>
            <a:ext cx="609480" cy="83844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1280" y="1600200"/>
            <a:ext cx="76320" cy="10666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48320" y="1828800"/>
            <a:ext cx="457200" cy="8380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9720" y="25146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3733920"/>
            <a:ext cx="99072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4114800"/>
            <a:ext cx="381240" cy="9144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33560" y="4038480"/>
            <a:ext cx="228600" cy="11430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361960" y="41148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371600" y="3809880"/>
            <a:ext cx="91440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819520"/>
            <a:ext cx="914400" cy="6858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I think a friend should be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good friend is someone who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7621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Lucida Console"/>
              </a:rPr>
              <a:t>Brainstor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7:32:08Z</dcterms:created>
  <dc:creator>Urse</dc:creator>
  <dc:description/>
  <dc:language>en-US</dc:language>
  <cp:lastModifiedBy>Administrator</cp:lastModifiedBy>
  <dcterms:modified xsi:type="dcterms:W3CDTF">2004-04-11T02:44:49Z</dcterms:modified>
  <cp:revision>115</cp:revision>
  <dc:subject/>
  <dc:title>PowerPoint 演示文稿</dc:title>
</cp:coreProperties>
</file>