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7.gif" ContentType="image/gif"/>
  <Override PartName="/ppt/media/image18.wmf" ContentType="image/x-wmf"/>
  <Override PartName="/ppt/media/image12.jpeg" ContentType="image/jpeg"/>
  <Override PartName="/ppt/media/image10.wmf" ContentType="image/x-wmf"/>
  <Override PartName="/ppt/media/image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14.jpeg" ContentType="image/jpeg"/>
  <Override PartName="/ppt/media/image5.gif" ContentType="image/gif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91B76-7DB4-41B0-B93A-4507AF24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B7436-9A6D-4203-9497-34220B52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91DF1-045E-48D1-8947-F46C498B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102FF-5996-45CA-A14C-B73D16E3B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2CB3-EB25-4D35-A805-D8A53652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4D58-0E04-4803-9353-8BADB1AB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F407-00AC-4520-B402-40F6299B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2447-3B6D-4D39-88B3-3A4F0D01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94C2-DBE8-438C-8C10-209F219D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E281-C70A-4E19-A198-9A66B975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9023-9DE0-411F-8D39-CCF6534F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D9FD3-566B-42CF-BACC-D2904B24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9E19-E250-47DA-990C-D44BA38E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1A82-37CD-4A9F-8AD5-97D238CA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CDAA-082C-465C-82C6-6CC01713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2B86-CAA2-488E-883A-F2090F300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4DD6-1CF1-4004-8B01-F0EAA178B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875E3-9244-4ABC-82CF-A9C119DE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BBD43-22D7-4E07-A18A-D9439A03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390B1-7328-4403-85D9-B39549E6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CA7A9-38F5-4365-8051-3BBAE590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5BCDD-0F37-4A2E-BD3B-3623DBA6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21B50-2796-4A39-A106-9E33A4ED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B496B-61E1-4454-BA84-F7256010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EDBEC-2974-4578-B45E-4F09D077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5DB6D-E899-41B7-8984-C8FEC4BA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72F70-567C-469B-AD3A-3D224EB8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3A9EB-2683-412F-A5CA-A808D82B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3D8DA-944B-441A-A45D-B8D9A990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70EB9-7434-4F64-8A69-E66DC8A4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16FA3-CB9A-4314-831D-29C2AF564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09F45-83C6-4B6B-ABFA-713B76B8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20990-AD68-40A3-8051-FD653642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EAE45-64CE-4986-92D0-B5B1E870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40ED7-9289-4AB9-B1CE-8C0E540D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62845-D747-47ED-B583-C7004BEB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DBF75-3C64-4D94-929E-30F0FC31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97DC2-F361-42DE-B689-89E0CF9A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1ACF2-202A-4FF8-80E5-F780F82A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B2BCF-F68D-4BAC-94FF-1D034BD8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D4A94-0842-491D-8321-ACB896A8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38E84-7B3F-46A8-A48E-7B1FFF55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C83F6-49A7-4F8F-B815-BFFF8BC54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0350C-1828-4747-8CCE-3AD21A2D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943E8-4A41-470E-8224-0CDA9954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515FB-344B-4CEC-8417-0F4BF632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7B613-5AAA-4F21-9138-54396070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F2BC6-1009-4511-B0BB-B2EA778E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6F9C-EF59-4817-9256-66CEEE6D0C2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8884-7B43-452A-B512-2357A93726E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514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7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8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9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B5BF-4D19-48A7-8906-F864B283B65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583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12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7B4F-41F7-4B48-AF60-91D606E9426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20.xml"/><Relationship Id="rId5" Type="http://schemas.openxmlformats.org/officeDocument/2006/relationships/slide" Target="slide24.xml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755640" y="907920"/>
            <a:ext cx="727236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cc"/>
                </a:solidFill>
                <a:latin typeface="Bookman Old Style"/>
                <a:ea typeface="隶书"/>
              </a:rPr>
              <a:t>      </a:t>
            </a:r>
            <a:r>
              <a:rPr b="1" lang="zh-CN" sz="6600" spc="-1" strike="noStrike">
                <a:solidFill>
                  <a:srgbClr val="6600cc"/>
                </a:solidFill>
                <a:latin typeface="Comic Sans MS"/>
                <a:ea typeface="隶书"/>
              </a:rPr>
              <a:t>Unit 1 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Comic Sans MS"/>
                <a:ea typeface="隶书"/>
              </a:rPr>
              <a:t> </a:t>
            </a:r>
            <a:r>
              <a:rPr b="1" lang="zh-CN" sz="6600" spc="-1" strike="noStrike">
                <a:solidFill>
                  <a:srgbClr val="0000ff"/>
                </a:solidFill>
                <a:latin typeface="Comic Sans MS"/>
                <a:ea typeface="隶书"/>
              </a:rPr>
              <a:t>Good   friend</a:t>
            </a:r>
            <a:r>
              <a:rPr b="0" lang="zh-CN" sz="6600" spc="-1" strike="noStrike">
                <a:solidFill>
                  <a:srgbClr val="6600cc"/>
                </a:solidFill>
                <a:latin typeface="Comic Sans MS"/>
                <a:ea typeface="隶书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914400" y="83808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Pre-listening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143000" y="3124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990720" y="2362320"/>
          <a:ext cx="7391160" cy="2908080"/>
        </p:xfrm>
        <a:graphic>
          <a:graphicData uri="http://schemas.openxmlformats.org/drawingml/2006/table">
            <a:tbl>
              <a:tblPr/>
              <a:tblGrid>
                <a:gridCol w="1218960"/>
                <a:gridCol w="1752840"/>
                <a:gridCol w="1981080"/>
                <a:gridCol w="2438280"/>
              </a:tblGrid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l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1143000" y="7621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44"/>
                </a:solidFill>
                <a:latin typeface="Arial Black"/>
              </a:rPr>
              <a:t>The Third &amp; Fourth Perio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447920" y="205740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             </a:t>
            </a:r>
            <a:r>
              <a:rPr b="0" i="1" lang="en-US" sz="4000" spc="-1" strike="noStrike">
                <a:solidFill>
                  <a:srgbClr val="000044"/>
                </a:solidFill>
                <a:latin typeface="Arial Black"/>
              </a:rPr>
              <a:t>Read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371600" y="335268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44"/>
                </a:solidFill>
                <a:latin typeface="隶书"/>
                <a:ea typeface="隶书"/>
              </a:rPr>
              <a:t>任务 →目标 →语言技能 →活动形式→ 阅读教学模式 →教学思路 →教学程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0" y="0"/>
            <a:ext cx="9144000" cy="82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98d43"/>
                </a:solidFill>
                <a:latin typeface="Arial"/>
                <a:ea typeface="隶书"/>
              </a:rPr>
              <a:t>                         </a:t>
            </a:r>
            <a:r>
              <a:rPr b="1" lang="zh-CN" sz="3600" spc="-1" strike="noStrike">
                <a:solidFill>
                  <a:srgbClr val="f98d43"/>
                </a:solidFill>
                <a:latin typeface="Arial"/>
                <a:ea typeface="隶书"/>
              </a:rPr>
              <a:t>Read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Activity 1   </a:t>
            </a: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师生互动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描写在孤岛上生存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                                      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情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Activity 2  </a:t>
            </a: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个人活动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快读查找每段主题句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                                    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细读找出段落大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Activity 3  </a:t>
            </a: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小组活动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 讨论发表自己的意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Activity 4  </a:t>
            </a: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班级活动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归纳学生意见，从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                                       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得出结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 flipH="1">
            <a:off x="2771640" y="0"/>
            <a:ext cx="60199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3886200" y="0"/>
            <a:ext cx="5257800" cy="327672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350532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3"/>
          <a:stretch/>
        </p:blipFill>
        <p:spPr>
          <a:xfrm>
            <a:off x="0" y="3243240"/>
            <a:ext cx="3809880" cy="361476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4"/>
          <a:stretch/>
        </p:blipFill>
        <p:spPr>
          <a:xfrm>
            <a:off x="3809880" y="3276720"/>
            <a:ext cx="5334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228600" y="533520"/>
            <a:ext cx="47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entury Gothic"/>
              </a:rPr>
              <a:t>Where is the ma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89160" y="1663560"/>
            <a:ext cx="62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entury Gothic"/>
              </a:rPr>
              <a:t>What happened to him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733920" y="235260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drift=cast awa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0" y="441972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Has he got a friend on the islan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710160" y="3083040"/>
            <a:ext cx="28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astaw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380880" y="838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would you        feel if you were alone            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thout frien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ust like the man?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457200" y="750960"/>
            <a:ext cx="830592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Arial"/>
                <a:ea typeface="隶书"/>
              </a:rPr>
              <a:t>    </a:t>
            </a:r>
            <a:r>
              <a:rPr b="1" lang="zh-CN" sz="5400" spc="-1" strike="noStrike">
                <a:solidFill>
                  <a:srgbClr val="990000"/>
                </a:solidFill>
                <a:latin typeface="Arial"/>
                <a:ea typeface="隶书"/>
              </a:rPr>
              <a:t>阅读教学模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独立阅读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,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合作交流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,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个性构建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0" y="3830760"/>
            <a:ext cx="44956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1143000" y="220968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Bef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the cra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886200" y="22860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2666880" y="1981080"/>
            <a:ext cx="1143000" cy="6098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590920" y="2743200"/>
            <a:ext cx="1143000" cy="5335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09880" y="16765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A successful businessm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86200" y="29718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Has little time for frie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219320" y="4114800"/>
            <a:ext cx="2438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Af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the cra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895480" y="4190760"/>
            <a:ext cx="1219320" cy="5331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95480" y="4876920"/>
            <a:ext cx="1143000" cy="609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733920" y="38862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The most difficult challen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114800" y="51055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Learn and understand the friendshi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0" y="304812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Times New Roman"/>
              </a:rPr>
              <a:t>The cl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03480" y="3276720"/>
            <a:ext cx="549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066680" y="2666880"/>
            <a:ext cx="304920" cy="1981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3520" y="7621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entury Gothic"/>
              </a:rPr>
              <a:t>What kind of person Chuck i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1523880" y="2514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304920" y="2286000"/>
          <a:ext cx="8839080" cy="4154400"/>
        </p:xfrm>
        <a:graphic>
          <a:graphicData uri="http://schemas.openxmlformats.org/drawingml/2006/table">
            <a:tbl>
              <a:tblPr/>
              <a:tblGrid>
                <a:gridCol w="2860560"/>
                <a:gridCol w="2776680"/>
                <a:gridCol w="3201840"/>
              </a:tblGrid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ien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vantage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sadvantage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uman being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imal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ing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4" name=""/>
          <p:cNvSpPr/>
          <p:nvPr/>
        </p:nvSpPr>
        <p:spPr>
          <a:xfrm>
            <a:off x="-1219320" y="9907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228600"/>
            <a:ext cx="67057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Discus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457200" y="68580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Comic Sans MS"/>
              </a:rPr>
              <a:t>How do you understand the following sentences in the passage</a:t>
            </a:r>
            <a:r>
              <a:rPr b="0" lang="en-US" sz="3600" spc="-1" strike="noStrike">
                <a:solidFill>
                  <a:srgbClr val="000044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9480" y="22096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Comic Sans MS"/>
              </a:rPr>
              <a:t>1).Friendship is about feelings and we must give as much as we tak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09480" y="373392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Comic Sans MS"/>
              </a:rPr>
              <a:t>2).Friends are teach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990720" y="47242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  <a:ea typeface="隶书"/>
              </a:rPr>
              <a:t>A life without a friend is a life without the su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>
            <a:hlinkClick r:id="rId1" action="ppaction://hlinksldjump"/>
          </p:cNvPr>
          <p:cNvSpPr/>
          <p:nvPr/>
        </p:nvSpPr>
        <p:spPr>
          <a:xfrm>
            <a:off x="0" y="6248520"/>
            <a:ext cx="590400" cy="407880"/>
          </a:xfrm>
          <a:custGeom>
            <a:avLst/>
            <a:gdLst>
              <a:gd name="textAreaLeft" fmla="*/ 243360 w 590400"/>
              <a:gd name="textAreaRight" fmla="*/ 347040 w 590400"/>
              <a:gd name="textAreaTop" fmla="*/ 168120 h 407880"/>
              <a:gd name="textAreaBottom" fmla="*/ 239760 h 407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6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 flipH="1" flipV="1">
            <a:off x="-900720" y="476280"/>
            <a:ext cx="21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38080" y="836640"/>
            <a:ext cx="7479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ff00"/>
                </a:solidFill>
                <a:uFillTx/>
                <a:latin typeface="Comic Sans MS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1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</a:t>
            </a:r>
            <a:r>
              <a:rPr b="0" lang="zh-CN" sz="4400" spc="-1" strike="noStrike">
                <a:solidFill>
                  <a:srgbClr val="ffffff"/>
                </a:solidFill>
                <a:latin typeface="Comic Sans MS"/>
                <a:ea typeface="隶书"/>
              </a:rPr>
              <a:t>教材分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2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omic Sans MS"/>
                <a:ea typeface="隶书"/>
                <a:hlinkClick r:id="rId1" action="ppaction://hlinksldjump"/>
              </a:rPr>
              <a:t>教学目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3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omic Sans MS"/>
                <a:ea typeface="隶书"/>
                <a:hlinkClick r:id="rId2" action="ppaction://hlinksldjump"/>
              </a:rPr>
              <a:t>教学原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4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omic Sans MS"/>
                <a:ea typeface="隶书"/>
                <a:hlinkClick r:id="rId3" action="ppaction://hlinksldjump"/>
              </a:rPr>
              <a:t>教学设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5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 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omic Sans MS"/>
                <a:ea typeface="隶书"/>
                <a:hlinkClick r:id="rId4" action="ppaction://hlinksldjump"/>
              </a:rPr>
              <a:t>教学评价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08200" y="5013360"/>
            <a:ext cx="33829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</a:t>
            </a:r>
            <a:r>
              <a:rPr b="0" lang="zh-CN" sz="48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5" action="ppaction://hlinksldjump"/>
              </a:rPr>
              <a:t>我的思索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1311120" y="457200"/>
            <a:ext cx="297828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5  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1" action="ppaction://hlinksldjump"/>
              </a:rPr>
              <a:t>教学评价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0" y="1447920"/>
            <a:ext cx="3276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评价种类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评价途径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评价内容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评价形式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247840" y="1490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463840" y="1523880"/>
            <a:ext cx="540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过程性评价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终结性评价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268360" y="2590920"/>
            <a:ext cx="688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学生自评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/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师生互评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生生互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619280" y="312408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（反思过程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219640" y="312408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（合作过程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679840" y="3809880"/>
            <a:ext cx="621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认知—知识     技能—能力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情感—态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195640" y="5181480"/>
            <a:ext cx="69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口头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书面（建立个人学习档案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50960" y="5711760"/>
            <a:ext cx="753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elf-assessment      peer- assess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1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1" name=""/>
          <p:cNvGraphicFramePr/>
          <p:nvPr/>
        </p:nvGraphicFramePr>
        <p:xfrm>
          <a:off x="0" y="0"/>
          <a:ext cx="9144000" cy="69976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685800"/>
                <a:gridCol w="1981080"/>
                <a:gridCol w="182520"/>
                <a:gridCol w="172260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rner l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ore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the unit, you learnt about friends and friendship, how are you getting on with each of the following skills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b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 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we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need more practice  value 2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bad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kills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(using the number of the star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8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ening comprehens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k about likes and dislik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ke an apolog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new words &amp;express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standing of the tex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 an e-ma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2" name=""/>
          <p:cNvSpPr/>
          <p:nvPr/>
        </p:nvSpPr>
        <p:spPr>
          <a:xfrm>
            <a:off x="0" y="1981080"/>
            <a:ext cx="336600" cy="21600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04920" y="1905120"/>
            <a:ext cx="314280" cy="29196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1905120"/>
            <a:ext cx="333360" cy="23472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398680" y="1990800"/>
            <a:ext cx="279360" cy="29196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743200" y="1981080"/>
            <a:ext cx="325440" cy="30492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684680" y="1994040"/>
            <a:ext cx="335160" cy="31104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618320" y="1963800"/>
            <a:ext cx="216000" cy="272880"/>
          </a:xfrm>
          <a:prstGeom prst="donut">
            <a:avLst>
              <a:gd name="adj" fmla="val 25000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2286000" y="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Reflection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457200" y="685800"/>
          <a:ext cx="8001000" cy="609588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112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What have you learnt in this un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What is the most important thing you learnt ..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What do you find the most difficult in this un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Where do you see the most improvemen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What do you think you did best in this un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Where do you need to work harder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1676520" y="22860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1" action="ppaction://hlinksldjump"/>
              </a:rPr>
              <a:t>Peer Assessm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152280" y="1066680"/>
          <a:ext cx="8991720" cy="5105520"/>
        </p:xfrm>
        <a:graphic>
          <a:graphicData uri="http://schemas.openxmlformats.org/drawingml/2006/table">
            <a:tbl>
              <a:tblPr/>
              <a:tblGrid>
                <a:gridCol w="3276720"/>
                <a:gridCol w="1066680"/>
                <a:gridCol w="1067040"/>
                <a:gridCol w="914400"/>
                <a:gridCol w="914400"/>
                <a:gridCol w="838080"/>
                <a:gridCol w="91440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隶书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姓       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小组发言次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全班发言次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提出问题个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解答问题个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查找资料次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与人合作次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2084040" y="374760"/>
            <a:ext cx="56030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备课后思索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1.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新教材对教师备课的深广度的要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2. 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新教材对师生都提出了合作的要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3. 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教师需不断提高自身的知识水平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     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知识结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4.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对新教材中新教学理念理会的深刻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593640" y="457200"/>
            <a:ext cx="369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Arial"/>
                <a:ea typeface="隶书"/>
              </a:rPr>
              <a:t>上课后的思索</a:t>
            </a:r>
            <a:r>
              <a:rPr b="0" lang="zh-CN" sz="4400" spc="-1" strike="noStrike">
                <a:solidFill>
                  <a:srgbClr val="2c2ca0"/>
                </a:solidFill>
                <a:latin typeface="Arial"/>
                <a:ea typeface="隶书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41360" y="1447920"/>
            <a:ext cx="7940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742e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不断调整自己的思维模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2. </a:t>
            </a: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灵活整合教学内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3.</a:t>
            </a: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讲究课堂教学的实效性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7" name=""/>
          <p:cNvSpPr/>
          <p:nvPr/>
        </p:nvSpPr>
        <p:spPr>
          <a:xfrm>
            <a:off x="228600" y="243828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  <a:ea typeface="隶书"/>
              </a:rPr>
              <a:t>Thank you for your atten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250920" y="1125360"/>
            <a:ext cx="1081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1" action="ppaction://hlinksldjump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55640" y="476280"/>
            <a:ext cx="863640" cy="5619600"/>
          </a:xfrm>
          <a:custGeom>
            <a:avLst/>
            <a:gdLst>
              <a:gd name="textAreaLeft" fmla="*/ 551880 w 863640"/>
              <a:gd name="textAreaRight" fmla="*/ 864000 w 863640"/>
              <a:gd name="textAreaTop" fmla="*/ 146520 h 5619600"/>
              <a:gd name="textAreaBottom" fmla="*/ 5473080 h 561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908000" y="0"/>
            <a:ext cx="373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背景知识分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835280" y="649440"/>
            <a:ext cx="409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教学内容的分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835280" y="1411200"/>
            <a:ext cx="315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教学重难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763640" y="2173320"/>
            <a:ext cx="6026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语言知识重难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98d43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2" action="ppaction://hlinksldjump"/>
              </a:rPr>
              <a:t>Topic</a:t>
            </a: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Key words &amp;express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Writing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Grammar</a:t>
            </a: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综合知识重难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德育思想渗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940360" y="4572000"/>
            <a:ext cx="503280" cy="1981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372360" y="4221000"/>
            <a:ext cx="2965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对朋友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认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对生存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意义的理解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621360" y="747720"/>
            <a:ext cx="1731960" cy="856080"/>
          </a:xfrm>
          <a:prstGeom prst="rect">
            <a:avLst/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1" action="ppaction://hlinksldjump"/>
              </a:rPr>
              <a:t>Topic</a:t>
            </a:r>
            <a:r>
              <a:rPr b="0" lang="en-US" sz="4400" spc="-1" strike="noStrike" u="sng">
                <a:solidFill>
                  <a:srgbClr val="cc3300"/>
                </a:solidFill>
                <a:uFillTx/>
                <a:latin typeface="Century Gothic"/>
                <a:ea typeface="隶书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0920" y="1752480"/>
            <a:ext cx="9537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4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How to solve problems occurr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   </a:t>
            </a: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in the friendship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4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The attitude towards friend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4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Learn how to make frie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2"/>
          <a:stretch/>
        </p:blipFill>
        <p:spPr>
          <a:xfrm>
            <a:off x="0" y="4508640"/>
            <a:ext cx="42847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489600" y="1397160"/>
            <a:ext cx="51588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9999ff"/>
                </a:solidFill>
                <a:uFillTx/>
                <a:latin typeface="Century Gothic"/>
                <a:ea typeface="隶书"/>
                <a:hlinkClick r:id="rId1" action="ppaction://hlinksldjump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Century Gothic"/>
                <a:ea typeface="隶书"/>
              </a:rPr>
              <a:t>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Century Gothic"/>
                <a:ea typeface="隶书"/>
              </a:rPr>
              <a:t>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Century Gothic"/>
                <a:ea typeface="隶书"/>
              </a:rPr>
              <a:t>目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Century Gothic"/>
                <a:ea typeface="隶书"/>
              </a:rPr>
              <a:t>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116000" y="1052640"/>
            <a:ext cx="647640" cy="4321080"/>
          </a:xfrm>
          <a:custGeom>
            <a:avLst/>
            <a:gdLst>
              <a:gd name="textAreaLeft" fmla="*/ 414000 w 647640"/>
              <a:gd name="textAreaRight" fmla="*/ 648000 w 64764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56840" y="576360"/>
            <a:ext cx="851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知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目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技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目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情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目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348000" y="260280"/>
            <a:ext cx="57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词汇的掌握和灵活运用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语法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/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直接和间接引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1557360"/>
            <a:ext cx="374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习得策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认知策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交际策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调控策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203640" y="1989000"/>
            <a:ext cx="647640" cy="2019600"/>
          </a:xfrm>
          <a:custGeom>
            <a:avLst/>
            <a:gdLst>
              <a:gd name="textAreaLeft" fmla="*/ 414000 w 647640"/>
              <a:gd name="textAreaRight" fmla="*/ 648000 w 647640"/>
              <a:gd name="textAreaTop" fmla="*/ 52560 h 2019600"/>
              <a:gd name="textAreaBottom" fmla="*/ 1967040 h 201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708360" y="4292640"/>
            <a:ext cx="36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端正学习态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培养合作精神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059280" y="4437000"/>
            <a:ext cx="649080" cy="2019240"/>
          </a:xfrm>
          <a:custGeom>
            <a:avLst/>
            <a:gdLst>
              <a:gd name="textAreaLeft" fmla="*/ 414720 w 649080"/>
              <a:gd name="textAreaRight" fmla="*/ 649440 w 649080"/>
              <a:gd name="textAreaTop" fmla="*/ 52560 h 2019240"/>
              <a:gd name="textAreaBottom" fmla="*/ 1966680 h 201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345240" y="1036800"/>
            <a:ext cx="515880" cy="39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2" action="ppaction://hlinksldjump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3" action="ppaction://hlinksldjump"/>
              </a:rPr>
              <a:t>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4" action="ppaction://hlinksldjump"/>
              </a:rPr>
              <a:t>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5" action="ppaction://hlinksldjump"/>
              </a:rPr>
              <a:t>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6" action="ppaction://hlinksldjump"/>
              </a:rPr>
              <a:t>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16000" y="1052640"/>
            <a:ext cx="431640" cy="43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338040 h 4321080"/>
              <a:gd name="textAreaBottom" fmla="*/ 398304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27200" y="647640"/>
            <a:ext cx="25275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任务型教学原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突出交际型原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以人为本的原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21520" y="5545080"/>
            <a:ext cx="45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突出灵活性、流畅性、完整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450280" y="447840"/>
            <a:ext cx="531720" cy="85680"/>
          </a:xfrm>
          <a:custGeom>
            <a:avLst/>
            <a:gdLst>
              <a:gd name="textAreaLeft" fmla="*/ 218880 w 531720"/>
              <a:gd name="textAreaRight" fmla="*/ 312840 w 531720"/>
              <a:gd name="textAreaTop" fmla="*/ 35280 h 85680"/>
              <a:gd name="textAreaBottom" fmla="*/ 50400 h 85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1384200" y="0"/>
            <a:ext cx="33451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   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1" action="ppaction://hlinksldjump"/>
              </a:rPr>
              <a:t>4 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2" action="ppaction://hlinksldjump"/>
              </a:rPr>
              <a:t>教学设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19120" y="1052640"/>
            <a:ext cx="8469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设计的理念： 创设情景  营造气氛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面向学生   寓教于乐   创新思维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17880" y="3529080"/>
            <a:ext cx="1438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课时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安排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（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6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671480" y="2637000"/>
            <a:ext cx="671688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Ⅰ 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Warming-up &amp;liste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Ⅱ 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Speak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Ⅲ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&amp;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Ⅳ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Reading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Ⅴ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Language study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Ⅵ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Integrating ski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-914400" y="-464976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143000" y="53352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     </a:t>
            </a:r>
            <a:r>
              <a:rPr b="1" i="1" lang="en-US" sz="4400" spc="-1" strike="noStrike">
                <a:solidFill>
                  <a:srgbClr val="0000ff"/>
                </a:solidFill>
                <a:latin typeface="Century Gothic"/>
              </a:rPr>
              <a:t>The First Perio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04920" y="243828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任务 </a:t>
            </a:r>
            <a:r>
              <a:rPr b="1" lang="zh-CN" sz="44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目标</a:t>
            </a:r>
            <a:r>
              <a:rPr b="1" lang="zh-CN" sz="44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 语言技能</a:t>
            </a:r>
            <a:r>
              <a:rPr b="1" lang="zh-CN" sz="44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 活动形式 </a:t>
            </a:r>
            <a:r>
              <a:rPr b="1" lang="zh-CN" sz="44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活动程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15238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6600cc"/>
                </a:solidFill>
                <a:latin typeface="Century Gothic"/>
              </a:rPr>
              <a:t>Warming up &amp;Listen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3657600" y="4227480"/>
            <a:ext cx="42670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905120" y="2514600"/>
            <a:ext cx="3809880" cy="18288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438280" y="30481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42e78"/>
                </a:solidFill>
                <a:latin typeface="Times New Roman"/>
              </a:rPr>
              <a:t>A good frie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057400" y="1981080"/>
            <a:ext cx="609480" cy="83844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3581280" y="1600200"/>
            <a:ext cx="76320" cy="106668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4648320" y="1828800"/>
            <a:ext cx="457200" cy="83808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5409720" y="2514600"/>
            <a:ext cx="685800" cy="76212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410080" y="3733920"/>
            <a:ext cx="990720" cy="4572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952880" y="4114800"/>
            <a:ext cx="381240" cy="9144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3733560" y="4038480"/>
            <a:ext cx="228600" cy="11430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2361960" y="4114800"/>
            <a:ext cx="685800" cy="76212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1371600" y="3809880"/>
            <a:ext cx="914400" cy="4572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143000" y="2819520"/>
            <a:ext cx="914400" cy="6858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8600" y="510552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I think a friend should be…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good friend is someone who…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19320" y="76212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6699"/>
                </a:solidFill>
                <a:latin typeface="Lucida Console"/>
              </a:rPr>
              <a:t>Brainstorm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0T07:32:08Z</dcterms:created>
  <dc:creator>Urse</dc:creator>
  <dc:description/>
  <dc:language>en-US</dc:language>
  <cp:lastModifiedBy>Administrator</cp:lastModifiedBy>
  <dcterms:modified xsi:type="dcterms:W3CDTF">2004-04-11T02:44:49Z</dcterms:modified>
  <cp:revision>115</cp:revision>
  <dc:subject/>
  <dc:title>PowerPoint 演示文稿</dc:title>
</cp:coreProperties>
</file>