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15B-5D0F-4390-9B93-950942B2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73F-2DDA-4A4B-89DA-4D1E3E4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85E-2F6A-463E-B070-CA47859C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1F6-51F3-493B-8972-BBAD86F8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81D1-4268-4C69-8186-22BD7307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ED0F-9882-4838-8966-080798F5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D681-587B-4882-AA40-ADBD495E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64C7-98DD-4938-ABA2-CEF8A076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3277-D01A-4963-85B2-D40B1856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6CB3-22D8-4733-84CA-798ACE59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E26E-1DBB-49EC-9CD6-F0D0770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9EC-D5ED-4419-8C6D-2D802F42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558B-B7B3-4831-AEFC-0355D28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FC9C-DA78-4CA2-B06D-31815670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2C4D-EA53-477A-BC06-6060410F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D5A4-98BB-400B-B370-9FB62397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BC90-A38B-4C79-9024-4D998DC6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2F4-0ADD-45AC-B1E5-F05A0B1C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B96-B7CD-45DC-90F8-E89CEDB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D05-9B4B-4DAB-8C71-DE12E4DC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6E6-494F-4181-BE1E-661023BB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A5F-41B9-46AC-A010-D93AD28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865-E003-4E46-8710-81E5927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322-ED48-4234-9225-A1A4EB76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1C3A-57D0-4EDA-9DA7-2759A8866F1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8D28-EA32-4D50-8569-6622DBACB2B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AN_001biaot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219320" y="2971800"/>
            <a:ext cx="7238880" cy="30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anguage points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686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8.Charles Babbage is generally consider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first compu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invent  B.inventing  C.to have invented  D.having inven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9.Wet umbrellas are not allow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to this hotel according to the r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taken  B.to take  C.taken    D.tak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0.The patient was warne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oily food after the op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eat not   B.eating  C.not to eat   D.not 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1.The teacher ordered the classroom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t once and the students began to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be cleaned  B. cleaned   C. .to  clean    D.being  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1143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6668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3733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5105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64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2.We agreed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re but so far she hasn’t turned up 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having met    B.meeting     C.to meet   D.to have m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3.---Does  your brother intend to study Germa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-Yes, he int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\    B.to   C.so    D.th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4.—Let me tell you something about the journalis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Don’t you remember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me the story yester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ld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B.telling   C.to tell   D.to have t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5.To fetch water before breakfast seemed to me a rul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never break   B.never to be broke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never to have broken     D.never to be break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26.The teacher asked u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so much noi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don’t make  B.not make  C.not making  D.not 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6094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0512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352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8280" y="4419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6629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9436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85800"/>
            <a:ext cx="8686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.g. He is working on a report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276720"/>
            <a:ext cx="61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ime went by slow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62360"/>
            <a:ext cx="89154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Twenty years went by and her 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was beginning to turn gr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362560"/>
            <a:ext cx="883908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om is/gets engaged to M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 and Mary are/get engag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600" y="28195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2. go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0280" y="4876920"/>
            <a:ext cx="50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3. be/get engaged to s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5320" y="228600"/>
            <a:ext cx="5557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work on +n./pron./v.-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752480"/>
            <a:ext cx="69343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e is working on inventing a new machine for office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3505320"/>
            <a:ext cx="87631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Everything turned out satisfactory.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000" y="838080"/>
            <a:ext cx="83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You may go on with your discu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752480"/>
            <a:ext cx="8458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He dreamed of becoming a pilo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280" y="18252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4. go on with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160" y="1371600"/>
            <a:ext cx="24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5. dream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400" y="2362320"/>
            <a:ext cx="7136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en he was in the middle schoo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4440" y="2895480"/>
            <a:ext cx="23295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Comic Sans MS"/>
              </a:rPr>
              <a:t>6. turn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94000"/>
            <a:ext cx="75438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looked like rain this morning, b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 has turned out to be a fine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0880" y="5283360"/>
            <a:ext cx="69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Comic Sans MS"/>
              </a:rPr>
              <a:t>7. There is no point (in) doing s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3800" y="5821200"/>
            <a:ext cx="83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.g. There is no point in arguing fur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ff"/>
                </a:solidFill>
                <a:latin typeface="Comic Sans MS"/>
              </a:rPr>
              <a:t>Practi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85800"/>
            <a:ext cx="9144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about the universe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you need (2)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have a telescop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observe the stars w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It takes time (4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know a m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Please remember (5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bring me a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I’ve got a lot of work(6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d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(7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 order to catch the first bu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she got up 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It is important for us(8)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to learn English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4100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Subject: (4) (8)         Object; (2) (5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Comic Sans MS"/>
              </a:rPr>
              <a:t>Attribute; (3) (6)       Adverbial; (1) (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30240"/>
            <a:ext cx="86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omic Sans MS"/>
              </a:rPr>
              <a:t>Fill in the blanks with the right phra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523880"/>
            <a:ext cx="8382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 _________ one day becoming a famous violini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Tom _____________ An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Two weeks slowly _________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His suggestion ___________ to be a good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e ____________ his in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If we don’t finish painting the room today, we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___ it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He ____________ a no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0080" y="149400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dreams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98480" y="213372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engaged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8320" y="275760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went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63400" y="344340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turned 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93920" y="403848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has  used 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8320" y="53481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go  on 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0880" y="595800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is working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609480"/>
            <a:ext cx="716292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335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 on,  be engaged to,  turn ou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ream of, go by,  use up,  go on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85345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练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necessary to complete the design  before  National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his   B.that   C.it   D.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hen and where to build the new factory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is not decided   B.ar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has not decided D.have not deci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 To live in hearts we leave behind is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not to die   B.to not die   C.not dying   D.dying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 She will tell us why she feels so strongly that each of us has a role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making the earth a better place to l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.to have played   B.to play   C.to be played   D.to be pla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1066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20968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886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533412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ff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68440" y="601992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不定式在句中可以做主语、表语、宾语、定语、状语、补足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0"/>
            <a:ext cx="845820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5. When I handed the report to John, he said that George was the person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send   B.for sending it  C.to send it to  D.for sending it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6.—The light in the office is still 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Oh, I forgo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urning it off   B.turn it off  C.having turned it off  D.to turn it o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7.I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believe that God could make me enter a univers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reject   B.require  C.insist   D.ref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8.She can’t help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e house  because she’s busy making a cak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to clean  B.cleaning  C.cleaned  D.being clea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9.Not everybody has the ability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n publ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f speak  B.speaking  C.spoken   D.to sp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9144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514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5105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6248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380880"/>
            <a:ext cx="86868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0.Mary is always the first student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o answer the teacher’s questions in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rising    B.to rise   C.rose   D.ri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1.—Mum ,why do you always ask me to eat an egg every da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enough protein and nutrition  as you are growing 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Get   B.Getting   C.To get   D.To be g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2.—would you be so kind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us ou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---With pleas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helping   B.in helping  C.help  D.as to he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3.The purpose of new technologies is to make life eas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more diffic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not  make  B. not to make  C.not making  D.do not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1371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971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5720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6172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3808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4.In Australia he made a lot of friends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 very practical knowledge of Eng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get   B.getting   C.to get   D.g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5.European football is played in 80 countries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it the most popular sports in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making  B.makes  C.made   D.to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6.Yesterday I went to see him,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that he had gone abroad two days bef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only to learn   B.to learn onl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C.only learned   D.only learnin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Paul doesn’t have to be made</a:t>
            </a:r>
            <a:r>
              <a:rPr b="1" lang="zh-CN" sz="24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.He always works ha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A.learn     B.to learn   C.learned    D.learning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13716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743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26708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6216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39:20Z</dcterms:created>
  <dc:creator>dyzt</dc:creator>
  <dc:description/>
  <dc:language>en-US</dc:language>
  <cp:lastModifiedBy>dyzt</cp:lastModifiedBy>
  <dcterms:modified xsi:type="dcterms:W3CDTF">2004-08-05T09:00:51Z</dcterms:modified>
  <cp:revision>9</cp:revision>
  <dc:subject/>
  <dc:title>PowerPoint 演示文稿</dc:title>
</cp:coreProperties>
</file>