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31.wmf" ContentType="image/x-wmf"/>
  <Override PartName="/ppt/media/image1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071-404F-4962-B514-037EF7BD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3FA-1549-48B9-A1C2-9EEB2C2E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BEE-07A7-4CCD-AA9F-65BA5924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763-7F0C-4529-AAC0-F7E502E7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455-55F4-4A8E-BF9C-144DA01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D65-1743-44EA-8DED-3DBBBFE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443-EE39-43AA-AB61-1384DA3F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CB0-39F8-4FE1-A851-BF9187A2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E95-7995-47F7-919B-69513037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FB2-BBF1-482D-B96F-2C8C27B5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EC0-8BC8-42E2-8BEB-4F99A30D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E5D-31CD-47C6-87A3-219B74DA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369-BA45-4D39-B2E8-EA1D5AB2E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-304920"/>
            <a:ext cx="70102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Escape From the Zo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6324480" cy="261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43720" y="472428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浙江省宁波鄞江中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629400" y="5105520"/>
            <a:ext cx="198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唐亚芬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陈亚红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未标题-1" descr=""/>
          <p:cNvPicPr/>
          <p:nvPr/>
        </p:nvPicPr>
        <p:blipFill>
          <a:blip r:embed="rId1"/>
          <a:stretch/>
        </p:blipFill>
        <p:spPr>
          <a:xfrm>
            <a:off x="0" y="228600"/>
            <a:ext cx="4724280" cy="3535200"/>
          </a:xfrm>
          <a:prstGeom prst="rect">
            <a:avLst/>
          </a:prstGeom>
          <a:ln w="0">
            <a:noFill/>
          </a:ln>
        </p:spPr>
      </p:pic>
      <p:pic>
        <p:nvPicPr>
          <p:cNvPr id="85" name="未标题-2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4317840"/>
          </a:xfrm>
          <a:prstGeom prst="rect">
            <a:avLst/>
          </a:prstGeom>
          <a:ln w="0">
            <a:noFill/>
          </a:ln>
        </p:spPr>
      </p:pic>
      <p:pic>
        <p:nvPicPr>
          <p:cNvPr id="86" name="未标题-3" descr=""/>
          <p:cNvPicPr/>
          <p:nvPr/>
        </p:nvPicPr>
        <p:blipFill>
          <a:blip r:embed="rId3"/>
          <a:stretch/>
        </p:blipFill>
        <p:spPr>
          <a:xfrm>
            <a:off x="2514600" y="343368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9000" y="4114800"/>
            <a:ext cx="205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ee,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9400" y="196920"/>
            <a:ext cx="184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 off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5440" y="4164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2440" y="4168800"/>
            <a:ext cx="233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124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1143000"/>
            <a:ext cx="519120" cy="409680"/>
          </a:xfrm>
          <a:prstGeom prst="leftArrow">
            <a:avLst>
              <a:gd name="adj1" fmla="val 50000"/>
              <a:gd name="adj2" fmla="val 3167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809880"/>
            <a:ext cx="838080" cy="333360"/>
          </a:xfrm>
          <a:prstGeom prst="leftArrow">
            <a:avLst>
              <a:gd name="adj1" fmla="val 50000"/>
              <a:gd name="adj2" fmla="val 628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未标题-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32240" cy="3243240"/>
          </a:xfrm>
          <a:prstGeom prst="rect">
            <a:avLst/>
          </a:prstGeom>
          <a:ln w="0">
            <a:noFill/>
          </a:ln>
        </p:spPr>
      </p:pic>
      <p:pic>
        <p:nvPicPr>
          <p:cNvPr id="95" name="未标题-5" descr=""/>
          <p:cNvPicPr/>
          <p:nvPr/>
        </p:nvPicPr>
        <p:blipFill>
          <a:blip r:embed="rId2"/>
          <a:stretch/>
        </p:blipFill>
        <p:spPr>
          <a:xfrm>
            <a:off x="3733920" y="0"/>
            <a:ext cx="441936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未标题-6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3962160" cy="29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5640" y="3657600"/>
            <a:ext cx="258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ing,th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sh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920" y="2209680"/>
            <a:ext cx="22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ighb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753080"/>
            <a:ext cx="20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,f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int,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ca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25780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209680"/>
            <a:ext cx="976320" cy="257400"/>
          </a:xfrm>
          <a:prstGeom prst="leftArrow">
            <a:avLst>
              <a:gd name="adj1" fmla="val 50000"/>
              <a:gd name="adj2" fmla="val 9482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2667240" cy="223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57880" cy="5106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52880" y="4419720"/>
            <a:ext cx="2667240" cy="196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S20006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4809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252360"/>
            <a:ext cx="7137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.What do you think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Mrs Cousins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Do you have any other w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3480" y="3429000"/>
            <a:ext cx="647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.Can we shoot the lion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8915400" cy="3178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3809880" cy="199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7400" y="2514600"/>
            <a:ext cx="6781680" cy="2133720"/>
          </a:xfrm>
          <a:prstGeom prst="rect">
            <a:avLst/>
          </a:prstGeom>
          <a:solidFill>
            <a:srgbClr val="66ff33">
              <a:alpha val="50000"/>
            </a:srgbClr>
          </a:solidFill>
          <a:ln w="936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33520"/>
            <a:ext cx="33526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Good-bye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05740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8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4756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3124440" cy="203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3526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15685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28800" y="2057400"/>
            <a:ext cx="304812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160020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39200" y="1143000"/>
            <a:ext cx="15048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228600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400800" y="3505320"/>
            <a:ext cx="24670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276720" y="44956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80880" y="5559480"/>
            <a:ext cx="2438640" cy="1298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5410080" cy="283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914400"/>
            <a:ext cx="655308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hat happened in the tex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04920"/>
            <a:ext cx="72720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8195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Lion esca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839880" cy="83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93720" y="552600"/>
            <a:ext cx="17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cap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86480" y="0"/>
            <a:ext cx="3557520" cy="510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504960" cy="294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2666880" cy="19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27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3400" y="441360"/>
            <a:ext cx="5360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x month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75 centime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ree fe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angero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al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f a different shap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447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99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2495520" cy="3811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1640" y="301680"/>
            <a:ext cx="301680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rn off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and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ng,at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un and sh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 rot="10800000"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685800"/>
            <a:ext cx="9228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Mrs Cousins only telephoned the polic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he got inside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When the police arrived ten minutes la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lion could be seen in the bushes eating the m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When the two keepers came they took a lo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lastic pipe and fitted something into one 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ointed at the lion and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The lion made a sudden angry nois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struggled to its feet, it 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They put the lion in a strong cage and car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t to   the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.The keeper played a joke on Mrs  Cous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96080" y="1752480"/>
            <a:ext cx="76068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952880" y="1371600"/>
            <a:ext cx="7621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4800600"/>
            <a:ext cx="7617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573876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657600" y="5257800"/>
            <a:ext cx="760320" cy="1119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560" y="2057400"/>
            <a:ext cx="62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L----C----B----F----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J----I----D----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K----E----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480" y="533520"/>
            <a:ext cx="34290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Key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1:01:32Z</dcterms:created>
  <dc:creator>鄞江中学</dc:creator>
  <dc:description/>
  <dc:language>en-US</dc:language>
  <cp:lastModifiedBy>鄞江中学</cp:lastModifiedBy>
  <dcterms:modified xsi:type="dcterms:W3CDTF">2002-04-22T23:05:46Z</dcterms:modified>
  <cp:revision>38</cp:revision>
  <dc:subject/>
  <dc:title>没有幻灯片标题</dc:title>
</cp:coreProperties>
</file>