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084-FF2D-4BA3-9EAC-7D72F17D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EC7-45BA-427F-B8B4-0556464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C42-DB38-483E-9F87-FB54849C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412-56A9-4A55-A0D8-820301FA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756-3C92-48D4-BAF0-25A5727C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4D6-7BBB-4809-87B4-18F880B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697-1CB4-4D08-AF3A-8F26BA3A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27F-C7AD-47A3-B20F-F5CF231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D18-1879-4C66-8BAF-040DC7B6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1FC-5927-4D8C-A69E-B3FA5AA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9A4-98D3-4EB6-B8AC-590159E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460-1988-4279-A45E-D520400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8EC-C7D2-41A0-81DE-C5E14D204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6:15Z</dcterms:created>
  <dc:creator>USER13</dc:creator>
  <dc:description/>
  <dc:language>en-US</dc:language>
  <cp:lastModifiedBy>USER13</cp:lastModifiedBy>
  <dcterms:modified xsi:type="dcterms:W3CDTF">2002-05-04T03:26:20Z</dcterms:modified>
  <cp:revision>1</cp:revision>
  <dc:subject/>
  <dc:title>PowerPoint 演示文稿</dc:title>
</cp:coreProperties>
</file>