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49D-9BB9-48FA-99E0-2A84BB6A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009-3F0E-4160-B147-9CDC6CFA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150-728B-4A26-9ABF-F3DEB4C6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303-A59F-4408-A7AF-ABE1F0BD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7F708-4029-49EC-BC4D-CF4F7432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A0869-4C62-4A7B-BD4F-2DA3FC7D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33CF9-69FE-44F3-B54B-29BED0F5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CFF91-5EE0-4DEE-A87F-F31B7A60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EEC20-665E-4B50-B5FF-581FD51D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8A031-D574-4BBD-BB91-E45719AA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BD0D3-1F73-4FB4-973D-CB8D59A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4E7-08B7-4ABF-9E1C-DD6AD891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905B-089C-4434-BD37-C0492535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BB462-52E1-4A14-BD36-81D35615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6950B-61B6-4A49-BA9F-7B608972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22E88-397A-4C9D-A96C-4C69D133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782C7-9310-4792-BEE6-15C22F2F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73D2-D06F-4187-8EF7-C06E2535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73DB-0572-4494-8445-5B3F3E09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F3AF-C497-443D-962F-2453E04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862A-75F8-449C-BF65-FA653A2E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0D55-0C14-43CF-9AB7-33320C5A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A83-F000-432C-8358-6CDEE4B9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F03B-A7C1-4CB7-967C-EA5D97B1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666A-54DF-4CAE-9BFC-AAC114E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1AF0-C782-4A5C-B542-890D5326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653C-23EA-48AC-B587-85A2513B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A524-B042-43F3-AC73-E55D0464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6FF1-2273-433A-BAF6-190F7421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367C-2402-4192-84E1-40A9ADF0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D18E5-63EF-45AB-BEF6-1D11B290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25F5-E2EA-4389-8C50-2E4173E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9ADD0-FA01-4CF5-8225-6AB41902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CE2-0C44-4A02-B96E-3528BAE4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35E1-6D76-49FE-941A-E45C0F33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AE722-A61A-4704-96EE-3B62FB12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3273A-00C4-4EC6-A071-A2D8D2B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DA83E-114D-48D4-8804-6D149FDE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71A4-1FFE-4926-8814-29298C39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CBE25-66CD-4A68-A408-117B426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78E2-3ACA-4DF3-AC73-5AFA0D28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FB964-5566-4D05-84F8-E62E4A74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2592-63A5-4D5D-8C4A-9904BE1E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4FD-8E6C-458D-BC8B-A7CAAA4A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3A9-82A9-4D14-AB81-575035FD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063-F6E7-4094-91D6-3C31CE71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DBC-327A-4461-A00E-6C0D0EB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9BB-82B2-4579-B3B8-2E70137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CCD2-5772-46B8-B464-4D551B4E2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B522-71CB-40ED-AC44-EE12549DF5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2174-0EFD-4F68-BD9A-BFE69BE8ABD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E15F-DCE3-4278-83C4-147692C4445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11280" y="119700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your friends to eat mor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5640" y="3933720"/>
            <a:ext cx="7920000" cy="1556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Would  you  like  another (some)…… 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5640" y="907920"/>
            <a:ext cx="671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your friends to eat other thing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18800" y="4292640"/>
            <a:ext cx="409140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How about…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11280" y="1197000"/>
            <a:ext cx="75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to offer some foo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93720" y="4076640"/>
            <a:ext cx="519912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Let me give you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4360" y="1989000"/>
            <a:ext cx="79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f    you  are   guest, what  would  you  say?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89080" y="22334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want  to eat 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say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916360" y="285264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yes, please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816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2349360"/>
            <a:ext cx="83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just want to taste, you say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___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42800" y="3716280"/>
            <a:ext cx="62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Just a little, please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24000" y="105264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don’t  want  to  eat anything, you say (1)______________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(2)___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321300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No , thanks .I’ve had  enough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01000" y="4653000"/>
            <a:ext cx="607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I’ m  full, thank  you</a:t>
            </a: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195640" y="2133720"/>
            <a:ext cx="4248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Thanks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8:30Z</dcterms:created>
  <dc:creator>Legend User</dc:creator>
  <dc:description/>
  <dc:language>en-US</dc:language>
  <cp:lastModifiedBy>Legend User</cp:lastModifiedBy>
  <dcterms:modified xsi:type="dcterms:W3CDTF">2002-12-01T06:37:35Z</dcterms:modified>
  <cp:revision>4</cp:revision>
  <dc:subject/>
  <dc:title>幻灯片 1</dc:title>
</cp:coreProperties>
</file>