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5C2-97FB-4A36-9359-0BE5AB09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B7C-55E4-4D9C-A3AF-3F89FD7B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59E-26E4-4E29-B49B-D5B0DAB1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683-CF9A-45AD-A06F-3F657ED0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0AAF6-320F-400A-B27A-AC674159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A1835-AC2B-4786-A94A-8BC478F5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FAF64-157B-4F8B-88FC-C0BDBC3C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274E5-6109-434E-AA07-A84F36B8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8E6B0-5031-4F7B-A2CE-73F85151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CF041-7532-4823-81B7-69E85DEC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2DD30-76A6-4621-9FB7-B88C69F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2F7-7ABD-44FA-B017-F772F300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1E497-323C-42E6-91DF-D0D5F612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90986-F110-4C45-BBED-CBE57F13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E9B45-DADA-465A-9066-1CCBA934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DF44F-E3EC-474C-A6F6-C3505F8B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AA24F-55FA-4696-9837-8DE34168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897-9443-41E4-960C-FB72E14F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E14-B2DD-4452-8391-C2D50550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C04-1315-4B19-A1F1-91A5EBC1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719-B3BE-4E60-83E3-3E647A27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939-0936-445E-889F-2019D928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D9F-7421-458A-B090-F0579B03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2D4-42E5-4560-867C-0BB012F3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8B22-2084-48A4-9A1F-66D33E42018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B90C-EE41-43D4-8C9E-64453FD636B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endshow"/>
          </p:cNvPr>
          <p:cNvSpPr/>
          <p:nvPr/>
        </p:nvSpPr>
        <p:spPr>
          <a:xfrm>
            <a:off x="7667640" y="5877000"/>
            <a:ext cx="1042920" cy="393480"/>
          </a:xfrm>
          <a:custGeom>
            <a:avLst/>
            <a:gdLst>
              <a:gd name="textAreaLeft" fmla="*/ 25200 w 1042920"/>
              <a:gd name="textAreaRight" fmla="*/ 1017720 w 104292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57218" h="21600">
                <a:moveTo>
                  <a:pt x="0" y="0"/>
                </a:moveTo>
                <a:lnTo>
                  <a:pt x="57218" y="0"/>
                </a:lnTo>
                <a:lnTo>
                  <a:pt x="57218" y="21600"/>
                </a:lnTo>
                <a:lnTo>
                  <a:pt x="0" y="21600"/>
                </a:lnTo>
                <a:close/>
              </a:path>
              <a:path fill="lightenLess" w="57218" h="21600">
                <a:moveTo>
                  <a:pt x="0" y="0"/>
                </a:moveTo>
                <a:lnTo>
                  <a:pt x="57218" y="0"/>
                </a:lnTo>
                <a:lnTo>
                  <a:pt x="55818" y="1400"/>
                </a:lnTo>
                <a:lnTo>
                  <a:pt x="1400" y="1400"/>
                </a:lnTo>
                <a:close/>
              </a:path>
              <a:path fill="darken" w="57218" h="21600">
                <a:moveTo>
                  <a:pt x="57218" y="0"/>
                </a:moveTo>
                <a:lnTo>
                  <a:pt x="57218" y="21600"/>
                </a:lnTo>
                <a:lnTo>
                  <a:pt x="55818" y="20200"/>
                </a:lnTo>
                <a:lnTo>
                  <a:pt x="55818" y="1400"/>
                </a:lnTo>
                <a:close/>
              </a:path>
              <a:path fill="darkenLess" w="57218" h="21600">
                <a:moveTo>
                  <a:pt x="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818" y="20200"/>
                </a:lnTo>
                <a:close/>
              </a:path>
              <a:path fill="lighten" w="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218" h="21600">
                <a:moveTo>
                  <a:pt x="21603" y="7493"/>
                </a:moveTo>
                <a:lnTo>
                  <a:pt x="25110" y="7493"/>
                </a:lnTo>
                <a:lnTo>
                  <a:pt x="25110" y="12828"/>
                </a:lnTo>
                <a:cubicBezTo>
                  <a:pt x="25110" y="13751"/>
                  <a:pt x="25911" y="14482"/>
                  <a:pt x="26947" y="14482"/>
                </a:cubicBezTo>
                <a:lnTo>
                  <a:pt x="28609" y="14482"/>
                </a:lnTo>
                <a:cubicBezTo>
                  <a:pt x="29645" y="14482"/>
                  <a:pt x="30446" y="13751"/>
                  <a:pt x="30446" y="12828"/>
                </a:cubicBezTo>
                <a:lnTo>
                  <a:pt x="30446" y="7493"/>
                </a:lnTo>
                <a:lnTo>
                  <a:pt x="28609" y="7493"/>
                </a:lnTo>
                <a:lnTo>
                  <a:pt x="32117" y="3985"/>
                </a:lnTo>
                <a:lnTo>
                  <a:pt x="35790" y="7493"/>
                </a:lnTo>
                <a:lnTo>
                  <a:pt x="33953" y="7493"/>
                </a:lnTo>
                <a:lnTo>
                  <a:pt x="33953" y="12828"/>
                </a:lnTo>
                <a:cubicBezTo>
                  <a:pt x="33953" y="15596"/>
                  <a:pt x="31377" y="18155"/>
                  <a:pt x="28609" y="18155"/>
                </a:cubicBezTo>
                <a:lnTo>
                  <a:pt x="26947" y="18155"/>
                </a:lnTo>
                <a:cubicBezTo>
                  <a:pt x="24179" y="18155"/>
                  <a:pt x="21603" y="15596"/>
                  <a:pt x="21603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2:51Z</dcterms:created>
  <dc:creator>Legend User</dc:creator>
  <dc:description/>
  <dc:language>en-US</dc:language>
  <cp:lastModifiedBy>Legend User</cp:lastModifiedBy>
  <dcterms:modified xsi:type="dcterms:W3CDTF">2002-12-03T13:01:07Z</dcterms:modified>
  <cp:revision>2</cp:revision>
  <dc:subject/>
  <dc:title>幻灯片 1</dc:title>
</cp:coreProperties>
</file>