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774-2809-40C0-8166-E8D46348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EEA-1804-4DF4-95A4-5FE14563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DB0-9687-47C7-8792-3B5B966F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E5D-D66B-45D6-BADE-5229656F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220D-884E-422F-81AB-7951137B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0738-2177-440C-ACE0-33DCE8E9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7323-F2ED-40BD-A522-FC08B337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506C-98D8-4958-8D95-F53A641D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68ED-C23D-406A-B27B-0EBC0087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5CEE-34F0-40D1-831B-FE193F31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861C-BDD1-4082-8653-1F6E78D9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FED-E876-4FCC-9060-85B1CE00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7782-3449-4150-A3FD-0BE050C3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3FD3-4C8D-42B1-89F4-44155380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9772-57AC-492D-8C87-59016326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6E0E-47DF-4073-BE15-E3522296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5110-BAFE-4727-ADFA-F596B8DA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C47D8-304D-4DA9-BE53-94F53C5A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D93DD-51B0-451D-A23C-B632D0B5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4865-052E-4E5D-9165-3928BA87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A255-0329-400F-A0AB-22A77994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DE3BE-E80A-4E39-9BAB-9C36C30A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6AA-F12A-4B04-8BB2-A987A56E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6C66-B646-4E0C-BED9-FC83E054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7991-97DA-42DD-89BF-629017EB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DB87E-DCB1-4E24-95D3-7C7922BA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E79A-8AE2-4521-8E23-0B1C32FF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950B-D322-417A-A6E6-45301035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9CB0-FED5-4BA7-A071-7A6B3448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0C5C-284B-4141-91D1-561FECBF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D735F-C1E4-46DB-83FC-B0A4B8D9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0C80C-2A3D-48E8-A56E-1FA260F1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9510C-96DD-41BB-80CA-CE866F25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4B2-CBB8-4AB7-BDB0-E0DB743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CC44-9C50-4FAF-8467-1BB4ADF9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56F15-B077-4C7E-BD56-874AA7CD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BF76D-E3B5-47C5-80C4-4ECCC807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1259F-EF97-4C75-BBC8-A2B1DE6C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334A5-3496-438A-8D35-2EECE32A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1D58-26C1-4107-AFFB-FC271C08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17375-9A6C-4B12-9341-F0F78A7A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6D4D-46A6-455E-9F5C-84D06543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DAFB7-33F4-486A-9366-C34AFF60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395-51A4-453D-A3B6-6E9A9C7C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3EE-6B2D-4E9A-A430-EB45D4BC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2E4-39A4-4133-8EAF-9F5C53D8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ECC-8C58-4663-8DC6-16F119DB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8EB-7F65-4C1D-9059-7C97D00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4F5C-F84B-4EC5-AB6D-C25C43773AB1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8972-6F78-4F56-AF07-B0C4E29CCD3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01BC-E197-42A4-9F33-0BC1B00DD8D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51BF-7795-492B-B5A8-148085BD66B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2060640"/>
            <a:ext cx="657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like to ea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7080" y="40053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想吃点什么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9480" y="2090880"/>
            <a:ext cx="67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dishes would you lik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66680" y="3933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要什么菜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66760" y="2019240"/>
            <a:ext cx="571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o you want any sou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30480" y="3860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要汤吗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5280" y="1844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kind do fish do you pre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7080" y="40053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想要哪种鱼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00000" y="2060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Do you want it now or after supp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95520" y="407664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现在要还是饭后要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2736720" cy="2090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492360" y="836640"/>
            <a:ext cx="27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4360" y="3141720"/>
            <a:ext cx="2663640" cy="2241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419640" y="3068640"/>
            <a:ext cx="2736720" cy="2303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300720" y="1727280"/>
            <a:ext cx="2340000" cy="27813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endshow"/>
          </p:cNvPr>
          <p:cNvSpPr/>
          <p:nvPr/>
        </p:nvSpPr>
        <p:spPr>
          <a:xfrm>
            <a:off x="7667640" y="5877000"/>
            <a:ext cx="1042920" cy="393480"/>
          </a:xfrm>
          <a:custGeom>
            <a:avLst/>
            <a:gdLst>
              <a:gd name="textAreaLeft" fmla="*/ 25200 w 1042920"/>
              <a:gd name="textAreaRight" fmla="*/ 1017720 w 104292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57218" h="21600">
                <a:moveTo>
                  <a:pt x="0" y="0"/>
                </a:moveTo>
                <a:lnTo>
                  <a:pt x="57218" y="0"/>
                </a:lnTo>
                <a:lnTo>
                  <a:pt x="57218" y="21600"/>
                </a:lnTo>
                <a:lnTo>
                  <a:pt x="0" y="21600"/>
                </a:lnTo>
                <a:close/>
              </a:path>
              <a:path fill="lightenLess" w="57218" h="21600">
                <a:moveTo>
                  <a:pt x="0" y="0"/>
                </a:moveTo>
                <a:lnTo>
                  <a:pt x="57218" y="0"/>
                </a:lnTo>
                <a:lnTo>
                  <a:pt x="55818" y="1400"/>
                </a:lnTo>
                <a:lnTo>
                  <a:pt x="1400" y="1400"/>
                </a:lnTo>
                <a:close/>
              </a:path>
              <a:path fill="darken" w="57218" h="21600">
                <a:moveTo>
                  <a:pt x="57218" y="0"/>
                </a:moveTo>
                <a:lnTo>
                  <a:pt x="57218" y="21600"/>
                </a:lnTo>
                <a:lnTo>
                  <a:pt x="55818" y="20200"/>
                </a:lnTo>
                <a:lnTo>
                  <a:pt x="55818" y="1400"/>
                </a:lnTo>
                <a:close/>
              </a:path>
              <a:path fill="darkenLess" w="57218" h="21600">
                <a:moveTo>
                  <a:pt x="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818" y="20200"/>
                </a:lnTo>
                <a:close/>
              </a:path>
              <a:path fill="lighten" w="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218" h="21600">
                <a:moveTo>
                  <a:pt x="21603" y="7493"/>
                </a:moveTo>
                <a:lnTo>
                  <a:pt x="25110" y="7493"/>
                </a:lnTo>
                <a:lnTo>
                  <a:pt x="25110" y="12828"/>
                </a:lnTo>
                <a:cubicBezTo>
                  <a:pt x="25110" y="13751"/>
                  <a:pt x="25911" y="14482"/>
                  <a:pt x="26947" y="14482"/>
                </a:cubicBezTo>
                <a:lnTo>
                  <a:pt x="28609" y="14482"/>
                </a:lnTo>
                <a:cubicBezTo>
                  <a:pt x="29645" y="14482"/>
                  <a:pt x="30446" y="13751"/>
                  <a:pt x="30446" y="12828"/>
                </a:cubicBezTo>
                <a:lnTo>
                  <a:pt x="30446" y="7493"/>
                </a:lnTo>
                <a:lnTo>
                  <a:pt x="28609" y="7493"/>
                </a:lnTo>
                <a:lnTo>
                  <a:pt x="32117" y="3985"/>
                </a:lnTo>
                <a:lnTo>
                  <a:pt x="35790" y="7493"/>
                </a:lnTo>
                <a:lnTo>
                  <a:pt x="33953" y="7493"/>
                </a:lnTo>
                <a:lnTo>
                  <a:pt x="33953" y="12828"/>
                </a:lnTo>
                <a:cubicBezTo>
                  <a:pt x="33953" y="15596"/>
                  <a:pt x="31377" y="18155"/>
                  <a:pt x="28609" y="18155"/>
                </a:cubicBezTo>
                <a:lnTo>
                  <a:pt x="26947" y="18155"/>
                </a:lnTo>
                <a:cubicBezTo>
                  <a:pt x="24179" y="18155"/>
                  <a:pt x="21603" y="15596"/>
                  <a:pt x="21603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6:30Z</dcterms:created>
  <dc:creator>Legend User</dc:creator>
  <dc:description/>
  <dc:language>en-US</dc:language>
  <cp:lastModifiedBy>Legend User</cp:lastModifiedBy>
  <dcterms:modified xsi:type="dcterms:W3CDTF">2002-12-03T13:05:41Z</dcterms:modified>
  <cp:revision>10</cp:revision>
  <dc:subject/>
  <dc:title>幻灯片 1</dc:title>
</cp:coreProperties>
</file>