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742-0CDD-4A51-AE56-93F712D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642-7C79-4FB8-BB67-60306C33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772-38DE-4D6D-8ECA-E52BB527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EC6-38FD-4B03-A61A-51BA0674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B01B-EDE3-4F46-8619-A16DE1D9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564-784A-441A-87A1-7BC211A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A05E-F35F-401A-A919-65319F2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8E0D-5563-43B4-BEE8-AB47910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D086-04DF-4275-A5F3-35E870F8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17A-3216-44DC-ABE3-6F65F53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820-FF04-4C24-9D09-D25C476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49A-73A9-4E38-BED3-71E6D5B0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B39-8BE3-483A-946D-3EA4EAF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599-CA82-446C-9337-634B01A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984C-1AF2-4D16-AA20-30D1A9C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EF1-2F86-409B-B2A0-AA033796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DFFF-163C-427B-8534-134EBCFD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47A1-5324-4068-B12E-C04A704B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6A81-9AEA-4714-8F0B-726C7F30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E009-36C8-41C1-B02E-5CE6D631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85AA-6992-4AB0-88A2-B3055F4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B48E-A0CB-4F0C-BABB-CC0BB0C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F4F-AC16-4931-A8E1-7116741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60D6-A220-41A1-9C61-F22835F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63A0-29D2-4E5B-A8E5-81093B6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481F-BBFE-4D7A-9A8E-DAEE6B03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EF85-5BCA-43A9-833A-9AC2874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BCC1-2E3D-4E7D-B74F-4C7172B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2D7F-2F99-496C-9BC8-915CBAD3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FEAD4-F1F3-4243-9A7D-63C0CCCB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91520-A140-4645-BB16-06559284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28AF6-9892-4182-95D6-16A76FD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E29D1-B15A-4198-A9BF-F44FB42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332-BA87-431F-BC4C-16F8B3B3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F2ED4-2ED2-4D38-A79A-B5A00A4A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426E8-A5BF-4497-9BCF-24299918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67389-118F-4074-9674-36C6D99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3900A-BDE2-42C3-80B9-DC1392C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F61B9-0A90-4192-91F9-6C98881B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BD88D-89F9-4F01-BB72-6A7702B4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76C97-9DF4-4D68-A2BE-7603E7A7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0890A-C470-4196-8643-408F4E17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0B79E-CCCC-406A-BC4B-50633A3F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15B-CC48-4031-B5FC-AF3BCFC0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6FC-7D22-4A1B-A238-6D94EC74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D87-CF32-41DC-AE20-039EFCC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E63-2063-4B2A-8C6F-35876A6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F89-35AA-4E86-B1FB-DCA20758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7450-16BD-4DC5-A940-A1D2E164832A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E56E-5E8F-456D-8D2C-31762312CE98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23A2-E11F-45BC-A340-EB0FAC4F96F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A67-BD2F-47E4-9D29-7EF4F456FE9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istening.ppt" TargetMode="External"/><Relationship Id="rId3" Type="http://schemas.openxmlformats.org/officeDocument/2006/relationships/hyperlink" Target="file:///listening.ppt" TargetMode="External"/><Relationship Id="rId4" Type="http://schemas.openxmlformats.org/officeDocument/2006/relationships/hyperlink" Target="file:///drills.ppt" TargetMode="External"/><Relationship Id="rId5" Type="http://schemas.openxmlformats.org/officeDocument/2006/relationships/hyperlink" Target="file:///practice.ppt" TargetMode="External"/><Relationship Id="rId6" Type="http://schemas.openxmlformats.org/officeDocument/2006/relationships/hyperlink" Target="file:///revision.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688000" cy="334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803600" y="4869000"/>
            <a:ext cx="510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</a:rPr>
              <a:t>Taking        Meal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7392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/>
          </p:cNvPr>
          <p:cNvSpPr/>
          <p:nvPr/>
        </p:nvSpPr>
        <p:spPr>
          <a:xfrm>
            <a:off x="5419800" y="569880"/>
            <a:ext cx="2552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1.Listen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>
            <a:hlinkClick r:id="rId3"/>
          </p:cNvPr>
          <p:cNvSpPr/>
          <p:nvPr/>
        </p:nvSpPr>
        <p:spPr>
          <a:xfrm>
            <a:off x="876600" y="2298600"/>
            <a:ext cx="244080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3.Reading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>
            <a:hlinkClick r:id="rId4"/>
          </p:cNvPr>
          <p:cNvSpPr/>
          <p:nvPr/>
        </p:nvSpPr>
        <p:spPr>
          <a:xfrm>
            <a:off x="3688200" y="1555920"/>
            <a:ext cx="1688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2.Drill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>
            <a:hlinkClick r:id="rId5"/>
          </p:cNvPr>
          <p:cNvSpPr/>
          <p:nvPr/>
        </p:nvSpPr>
        <p:spPr>
          <a:xfrm>
            <a:off x="968040" y="5084640"/>
            <a:ext cx="232488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4.Practic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>
            <a:hlinkClick r:id="rId6"/>
          </p:cNvPr>
          <p:cNvSpPr/>
          <p:nvPr/>
        </p:nvSpPr>
        <p:spPr>
          <a:xfrm>
            <a:off x="5354280" y="5587920"/>
            <a:ext cx="2363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5.Revis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5:50:04Z</dcterms:created>
  <dc:creator>Legend User</dc:creator>
  <dc:description/>
  <dc:language>en-US</dc:language>
  <cp:lastModifiedBy>Legend User</cp:lastModifiedBy>
  <dcterms:modified xsi:type="dcterms:W3CDTF">2002-12-03T13:07:24Z</dcterms:modified>
  <cp:revision>8</cp:revision>
  <dc:subject/>
  <dc:title>幻灯片 1</dc:title>
</cp:coreProperties>
</file>