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54A-0AA5-4961-B168-98521874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20B0-00FC-4A14-BCA0-43FEF73A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FBF-33FB-4E1E-8046-16BF5EE7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2C3-F60A-46AA-BFDC-36C42C6C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4236-161D-4275-87C2-2BB48DDF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44E7-A26D-4BDC-8300-40F9ED49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74C8-885D-42D3-A673-54037F4F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E1C9-7EA6-4698-8E83-1494B92E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0989-3B1B-4EEB-9B47-4F5C9D10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9A02-B083-44F0-BB03-9DFF7DE6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4847-D4B2-41E0-BC33-C7B981A4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78A0-5618-4057-ACDF-8D505A21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E8E3-03C0-4BB3-A487-B2A84C81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D147-E6F0-4202-A977-1B57554C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7055-5ECB-470A-B0C9-89F323AE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F323-E25B-4A63-9BDF-8158894A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9FEF-9FFE-4520-8948-2B66796B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BD6-9196-4263-A5D5-A32D8EC8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AE0-9FF5-4018-AF36-27219F6D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02F-B874-4C66-BF37-96092DC9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814-6550-4023-AB2E-C01755B6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F52-873F-4EED-A395-EF106332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536-3BE8-42E1-B41F-BA0BFB8C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3F0-FDA2-41D3-BC05-7807DF76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3538-7BAE-47AC-8514-3FA04B4AA286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894B-51A4-463F-8B24-75BF5D3C5D28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39640" y="476280"/>
            <a:ext cx="8064360" cy="6119280"/>
            <a:chOff x="539640" y="476280"/>
            <a:chExt cx="8064360" cy="61192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579640" y="2419200"/>
              <a:ext cx="3024360" cy="41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539640" y="3858840"/>
              <a:ext cx="2592360" cy="27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132000" y="476280"/>
              <a:ext cx="251928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3132000" y="2491920"/>
              <a:ext cx="24476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5"/>
            <a:stretch/>
          </p:blipFill>
          <p:spPr>
            <a:xfrm>
              <a:off x="3132000" y="3931920"/>
              <a:ext cx="244764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6"/>
            <a:stretch/>
          </p:blipFill>
          <p:spPr>
            <a:xfrm>
              <a:off x="5579640" y="476280"/>
              <a:ext cx="3022920" cy="19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7"/>
            <a:stretch/>
          </p:blipFill>
          <p:spPr>
            <a:xfrm>
              <a:off x="539640" y="476280"/>
              <a:ext cx="2592360" cy="33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>
            <a:hlinkClick r:id="" action="ppaction://hlinkshowjump?jump=endshow"/>
          </p:cNvPr>
          <p:cNvSpPr/>
          <p:nvPr/>
        </p:nvSpPr>
        <p:spPr>
          <a:xfrm>
            <a:off x="7667640" y="6093000"/>
            <a:ext cx="1042920" cy="35856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2785" h="21600">
                <a:moveTo>
                  <a:pt x="0" y="0"/>
                </a:moveTo>
                <a:lnTo>
                  <a:pt x="62785" y="0"/>
                </a:lnTo>
                <a:lnTo>
                  <a:pt x="62785" y="21600"/>
                </a:lnTo>
                <a:lnTo>
                  <a:pt x="0" y="21600"/>
                </a:lnTo>
                <a:close/>
              </a:path>
              <a:path fill="lightenLess" w="62785" h="21600">
                <a:moveTo>
                  <a:pt x="0" y="0"/>
                </a:moveTo>
                <a:lnTo>
                  <a:pt x="62785" y="0"/>
                </a:lnTo>
                <a:lnTo>
                  <a:pt x="61385" y="1400"/>
                </a:lnTo>
                <a:lnTo>
                  <a:pt x="1400" y="1400"/>
                </a:lnTo>
                <a:close/>
              </a:path>
              <a:path fill="darken" w="62785" h="21600">
                <a:moveTo>
                  <a:pt x="62785" y="0"/>
                </a:moveTo>
                <a:lnTo>
                  <a:pt x="62785" y="21600"/>
                </a:lnTo>
                <a:lnTo>
                  <a:pt x="61385" y="20200"/>
                </a:lnTo>
                <a:lnTo>
                  <a:pt x="61385" y="1400"/>
                </a:lnTo>
                <a:close/>
              </a:path>
              <a:path fill="darkenLess" w="62785" h="21600">
                <a:moveTo>
                  <a:pt x="62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385" y="20200"/>
                </a:lnTo>
                <a:close/>
              </a:path>
              <a:path fill="lighten" w="62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785" h="21600">
                <a:moveTo>
                  <a:pt x="24386" y="7493"/>
                </a:moveTo>
                <a:lnTo>
                  <a:pt x="27894" y="7493"/>
                </a:lnTo>
                <a:lnTo>
                  <a:pt x="27894" y="12828"/>
                </a:lnTo>
                <a:cubicBezTo>
                  <a:pt x="27894" y="13751"/>
                  <a:pt x="28694" y="14482"/>
                  <a:pt x="29730" y="14482"/>
                </a:cubicBezTo>
                <a:lnTo>
                  <a:pt x="31393" y="14482"/>
                </a:lnTo>
                <a:cubicBezTo>
                  <a:pt x="32428" y="14482"/>
                  <a:pt x="33229" y="13751"/>
                  <a:pt x="33229" y="12828"/>
                </a:cubicBezTo>
                <a:lnTo>
                  <a:pt x="33229" y="7493"/>
                </a:lnTo>
                <a:lnTo>
                  <a:pt x="31393" y="7493"/>
                </a:lnTo>
                <a:lnTo>
                  <a:pt x="34900" y="3985"/>
                </a:lnTo>
                <a:lnTo>
                  <a:pt x="38573" y="7493"/>
                </a:lnTo>
                <a:lnTo>
                  <a:pt x="36737" y="7493"/>
                </a:lnTo>
                <a:lnTo>
                  <a:pt x="36737" y="12828"/>
                </a:lnTo>
                <a:cubicBezTo>
                  <a:pt x="36737" y="15596"/>
                  <a:pt x="34160" y="18155"/>
                  <a:pt x="31393" y="18155"/>
                </a:cubicBezTo>
                <a:lnTo>
                  <a:pt x="29730" y="18155"/>
                </a:lnTo>
                <a:cubicBezTo>
                  <a:pt x="26962" y="18155"/>
                  <a:pt x="24386" y="15596"/>
                  <a:pt x="243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4:29Z</dcterms:created>
  <dc:creator>Legend User</dc:creator>
  <dc:description/>
  <dc:language>en-US</dc:language>
  <cp:lastModifiedBy>Legend User</cp:lastModifiedBy>
  <dcterms:modified xsi:type="dcterms:W3CDTF">2002-12-01T06:36:23Z</dcterms:modified>
  <cp:revision>2</cp:revision>
  <dc:subject/>
  <dc:title>幻灯片 1</dc:title>
</cp:coreProperties>
</file>