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445C-6BE1-43CF-B1F2-328EF6178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FE60-10F5-4933-9A2D-649624D87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A62D-B834-4ADC-A48D-67C870371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6735-8652-43FF-8131-0474FBD20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F7CD-42DB-4597-9252-2FA0EEAC6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A0AF-08EE-475F-90D1-3BA2218EC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A005-BD4A-4C8B-8783-35BCE79E5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4353-AA91-4990-B3D6-378735B0C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3FE8-3033-4552-838C-BC073623F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24B4-600C-4E52-9F8A-38A28D188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7321-EB21-4EFB-85E6-EFC8C430F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73EE-DD51-4FC9-8B64-7614EF77C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A0A92-6CCD-4388-9988-0F298734D31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5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5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6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5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5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5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5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5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5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5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5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4T03:09:18Z</dcterms:created>
  <dc:creator>USER13</dc:creator>
  <dc:description/>
  <dc:language>en-US</dc:language>
  <cp:lastModifiedBy>USER13</cp:lastModifiedBy>
  <dcterms:modified xsi:type="dcterms:W3CDTF">2002-05-04T03:09:31Z</dcterms:modified>
  <cp:revision>1</cp:revision>
  <dc:subject/>
  <dc:title>PowerPoint 演示文稿</dc:title>
</cp:coreProperties>
</file>