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7B6-A1BB-48E2-A13A-CB0EE76A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D95-9926-4D03-A07C-8F9C76D9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D88-26F6-4289-BCD2-1869F903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ED0-D843-47DB-851C-92D0B13F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14E4-4D55-401D-B921-BA83A01F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447B-533E-45B5-9140-B768D126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5374-F95D-4783-A561-AABAF63D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A87-C6CD-45DC-803E-D8A06377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E426-6202-46DD-A99C-B7A6FE2B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3AEE-4E14-45C0-A13B-20FD03A9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06D6-F8D6-4F31-9ABD-721ED05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250-D517-4FBC-A124-44566F68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C180-3E84-4324-8FCC-920EB413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D5E0-1197-4A48-B27F-D36A12CE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2D79-CCD7-4E34-BDA3-2D4AD867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B0F3-33FB-4EEB-8416-F0F60A4F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5709-B9E8-4AAA-A3D0-68AB2B26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7916-044E-4787-9259-71368C83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B9C25-D5C5-4B00-8A75-16971E60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E135-3560-44B7-862B-9AF1D852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A6FB-B632-4530-A74A-6C5D2D99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D74D-B428-4B02-BF49-CADA7ADE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313-05D0-478F-9FDD-674EC585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18E3-B7C0-476E-B701-ADA2B3C9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66F7-F8DC-4E34-AE80-A02928C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F5EEF-D6F3-47F4-8A8F-C5E8D7C2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FE03-B6EF-466D-91FF-5D067C2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B1CD-04F0-4D19-924F-D78CF63A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7596-C439-43A0-B285-351F2A25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1D52-36EB-4BA3-8276-93EA4BD2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4FC1F-A1B6-44F4-831C-DA90EB7A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ABB2E-EDCD-4853-A6B3-6A5ADDDC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0073B-7049-4676-ADFF-C9D99EC0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681-B519-4DF1-A48A-397DC2C1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BE14B-AD8A-4013-85A3-6B7BA060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6C05C-FBA3-4BC5-8FAC-BD926A2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25A98-FFEC-4087-AD29-C4FD60F9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6400B-FD80-4AC8-A449-BEA62906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E9737-E0EE-413F-A803-826FA2A6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5A86BB-8875-456B-A27C-A3ACBC82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69CB05-F0CC-4046-BD26-073CAE25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9B585-F074-4823-B247-1BACDEF7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1C5D1-EA3A-45C8-AF09-97651C72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DB8-F6FB-4BF6-B249-4735C26F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CD1-9251-49FC-95F3-3B77C532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A3C-3428-4725-8934-BE70B94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BA9-D124-48E7-B8C3-6F6AD18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FA1-322E-4485-9B6B-3FA78F3B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A861-96DB-411B-B5B7-7534C9193633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A27E-C9FD-441A-B2D5-1F38215F7C3D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03FF-E4F8-4324-9598-A96F16133EB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CC87-D0F9-48CF-AEDE-BDD5D06EE90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listening.ppt" TargetMode="External"/><Relationship Id="rId3" Type="http://schemas.openxmlformats.org/officeDocument/2006/relationships/hyperlink" Target="file:///listening.ppt" TargetMode="External"/><Relationship Id="rId4" Type="http://schemas.openxmlformats.org/officeDocument/2006/relationships/hyperlink" Target="file:///drills.ppt" TargetMode="External"/><Relationship Id="rId5" Type="http://schemas.openxmlformats.org/officeDocument/2006/relationships/hyperlink" Target="file:///practice.ppt" TargetMode="External"/><Relationship Id="rId6" Type="http://schemas.openxmlformats.org/officeDocument/2006/relationships/hyperlink" Target="file:///revision.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5688000" cy="33465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803600" y="4869000"/>
            <a:ext cx="510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</a:rPr>
              <a:t>Taking        Meals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973920"/>
          </a:xfrm>
          <a:prstGeom prst="rect">
            <a:avLst/>
          </a:prstGeom>
          <a:ln w="0">
            <a:noFill/>
          </a:ln>
        </p:spPr>
      </p:pic>
      <p:sp>
        <p:nvSpPr>
          <p:cNvPr id="436" name="">
            <a:hlinkClick r:id="rId2"/>
          </p:cNvPr>
          <p:cNvSpPr/>
          <p:nvPr/>
        </p:nvSpPr>
        <p:spPr>
          <a:xfrm>
            <a:off x="5419800" y="569880"/>
            <a:ext cx="2552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1.Listening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>
            <a:hlinkClick r:id="rId3"/>
          </p:cNvPr>
          <p:cNvSpPr/>
          <p:nvPr/>
        </p:nvSpPr>
        <p:spPr>
          <a:xfrm>
            <a:off x="876600" y="2298600"/>
            <a:ext cx="244080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3.Reading</a:t>
            </a:r>
            <a:r>
              <a:rPr b="1" i="1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>
            <a:hlinkClick r:id="rId4"/>
          </p:cNvPr>
          <p:cNvSpPr/>
          <p:nvPr/>
        </p:nvSpPr>
        <p:spPr>
          <a:xfrm>
            <a:off x="3688200" y="1555920"/>
            <a:ext cx="1688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2.Drill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>
            <a:hlinkClick r:id="rId5"/>
          </p:cNvPr>
          <p:cNvSpPr/>
          <p:nvPr/>
        </p:nvSpPr>
        <p:spPr>
          <a:xfrm>
            <a:off x="968040" y="5084640"/>
            <a:ext cx="232488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4.Practic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0" name="">
            <a:hlinkClick r:id="rId6"/>
          </p:cNvPr>
          <p:cNvSpPr/>
          <p:nvPr/>
        </p:nvSpPr>
        <p:spPr>
          <a:xfrm>
            <a:off x="5354280" y="5587920"/>
            <a:ext cx="2363040" cy="6426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 Black"/>
              </a:rPr>
              <a:t>5.Revisio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5:50:04Z</dcterms:created>
  <dc:creator>Legend User</dc:creator>
  <dc:description/>
  <dc:language>en-US</dc:language>
  <cp:lastModifiedBy>Legend User</cp:lastModifiedBy>
  <dcterms:modified xsi:type="dcterms:W3CDTF">2002-12-03T13:07:24Z</dcterms:modified>
  <cp:revision>8</cp:revision>
  <dc:subject/>
  <dc:title>幻灯片 1</dc:title>
</cp:coreProperties>
</file>