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421-7B0F-4B62-9379-3B118344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533-E216-48CB-8366-2C37BC08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A19-2759-4A31-B197-313F5E76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CE3-55CE-4795-9E9C-6D6A51D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0A203-3236-4AE1-86B5-2F9036D6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0A1C3-21DC-4DEC-A1DC-3BDA64B8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C8846-39A1-434C-8185-7C267161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A199C-CE63-4E11-8685-F4E3BD36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3ACAC-C334-4024-9BF3-7A34509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437C4-077B-4C6D-B726-CAD9789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378DA-A483-4209-B963-8033424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C10-B7CB-4016-9F2E-08B03DDD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6655C-D093-41D4-8059-06235E13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9BC49-6E75-48E4-A696-0C15043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8C6A8-1039-4175-8C65-57E2DED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44D18-071A-46B6-8470-13BD6288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331F1-0D1B-4723-9CAA-BB3F9796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5D40-2BAE-44F0-8D75-CE7916C4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DF0C-629F-4526-8548-20FBF26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80C1-3992-4A55-B560-14BFFFA7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F84B-B5C9-469D-A81F-32B20934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1D11-5C78-4061-B615-1CF03465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75F-C7ED-4190-A58F-63A339C3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CD23-182B-4C9E-8F45-33AB294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1A54-90F8-4B3B-976B-4A80C11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FC24A-E72C-4592-B604-CC5A9FB6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E250-7CE3-451D-9D11-53C05CE8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12E5-C34E-44F0-917A-51E0DA44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4DD0-1866-4B63-94B2-E99EE7E0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F99DF-B735-4FC6-8396-3FC1A5C5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C3A3-ED8F-4F4C-82B4-D08EA7B0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D950-B410-41A7-A892-0952961A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2B05-095A-4CF4-B723-FCEC440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E3F-CF41-4DBC-991E-1AE74033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0CE0-B488-45D3-90D2-09CF185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5E63-9F2A-48FC-BA7C-CC4171A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DC76-2B01-45A0-918F-9EDFB9B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348DC-251C-4C4B-9B39-987EAB5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9F6F-1B89-49B0-93EC-136C9351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505F-6923-4B21-9630-A37A7AB0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D77CD-19B4-4D4F-B961-E0FBDB2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6CDD-78E5-41A6-AFDB-0E856877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9219D-123C-4895-860F-13F9C39B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D52-59E6-45B6-82A5-8F455FBD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088-2CD0-451D-A8FE-8D82A3C4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A18-A4BE-441B-BE7A-375B246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E52-FE53-42FB-94BE-B1F99B5A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DE9-5876-4A21-B6C3-63696E4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5F98-0CD1-4E80-80E1-07C63C4E30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B63A-2F80-4C7C-9088-BCDAC28E64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630B-E5E0-4A95-BCF9-0E48EEFAEC0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814E-68DF-44B0-9EC2-BCD5C8538BD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11280" y="119700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mor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55640" y="3933720"/>
            <a:ext cx="7920000" cy="1556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Would  you  like  another (some)……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5640" y="907920"/>
            <a:ext cx="671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your friends to eat other thing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18800" y="4292640"/>
            <a:ext cx="409140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How about…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11280" y="1197000"/>
            <a:ext cx="75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say when you want to offer some foo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593720" y="4076640"/>
            <a:ext cx="519912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Let me give you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4360" y="1989000"/>
            <a:ext cx="79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f    you  are   guest, what  would  you  say?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289080" y="22334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want  to eat 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say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16360" y="2852640"/>
            <a:ext cx="527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yes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81620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2349360"/>
            <a:ext cx="838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just want to taste, you say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42800" y="3716280"/>
            <a:ext cx="625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“</a:t>
            </a: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Just a little, please.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24000" y="105264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 you  don’t  want  to  eat anything, you say (1)_______________________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(2)_______________________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3213000"/>
            <a:ext cx="78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No , thanks .I’ve had  enoug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01000" y="4653000"/>
            <a:ext cx="607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 Black"/>
              </a:rPr>
              <a:t>I’ m  full, thank  you</a:t>
            </a:r>
            <a:r>
              <a:rPr b="1" lang="en-US" sz="4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195640" y="2133720"/>
            <a:ext cx="4248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Thanks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8:30Z</dcterms:created>
  <dc:creator>Legend User</dc:creator>
  <dc:description/>
  <dc:language>en-US</dc:language>
  <cp:lastModifiedBy>Legend User</cp:lastModifiedBy>
  <dcterms:modified xsi:type="dcterms:W3CDTF">2002-12-01T06:37:35Z</dcterms:modified>
  <cp:revision>4</cp:revision>
  <dc:subject/>
  <dc:title>幻灯片 1</dc:title>
</cp:coreProperties>
</file>