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9DE-4F61-4590-95DE-D10FEE7E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E1D-04D3-4349-9C7D-E3F6D5D8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9AE-DD29-41DF-9D33-475CB453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DBC-C479-4FBD-B6C3-95CF0C5F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4930-2F43-4FAB-95DA-E5119D15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3957-0494-48EA-A8E6-FBEFC875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3852-780E-4F3C-A564-2D79AC71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DE73-8963-4094-B7FB-BC73AA1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51AF-3DD1-44DE-9AC1-19A46063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C077-6564-46B6-926B-BAF6DDD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2860-53E9-4581-87BD-D1F5BE8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9B7-38B0-4C33-B9AA-78B2B97A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4BAB-C86B-4A78-99EC-70CA2CC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754E-E754-4C2E-BD32-F5891D13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2C43-C71B-45E5-8921-C4A3C183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5986-C1D9-4E69-9377-D15E2651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196C-F407-49AB-A44D-0073E886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A609E-D57C-48F2-8183-78E1A79A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00E8-7736-41AE-8BD0-B78F5F9A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D9B15-7D20-4FCA-A17B-4761A9FC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9DFE-314D-416B-ADAD-F8240AB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F5CF-DC1D-4CD1-9B36-95FA0E2E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255-F8B0-41CC-AC6B-9203255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6E40-D9E0-4B12-8E8D-BF49BF2C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5AF53-3257-40C6-9AF9-993A989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D949-0C94-4AB3-94B2-15F47A8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5459-501E-4C48-8B93-239482C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1A45-A432-4751-B298-B416865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DEB5-2D73-44B3-950B-01243CFD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E62D-67B1-4946-B256-E6A2C9B9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5B19-6F44-4E73-A52C-EBEB7157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66C6-9ED4-409B-8592-F73AC0FD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FB8DE-9DCA-458C-A2C0-B84FEED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5BB-30FA-47F2-B2B9-7E269F4F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8992-8F72-48E8-AB97-87C092DB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2DF8-59A0-4726-BE40-D604E833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7A854-D08E-4A48-851C-EFACF2DC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4B3DB-B6A3-498F-A3F6-A18CAD7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C48F4-BEA2-4EF2-B057-1B0D733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55910-C4C8-4C32-8E12-1CA2146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F565-AD2C-45BD-921E-9B5B6E2E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4E24-45F4-4759-A9FA-5B2B594B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AA5F-6D18-40EE-AB4F-327815F4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D68-0FF3-4DB5-A06C-46D9586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932-D407-4142-B7B1-D2235199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B4F-69C4-4338-AFEF-618B937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20F-8976-443D-BB82-B93BA2E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8B5-59EF-4B0B-A99D-BF30589D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CD7A-8E35-4CC5-B172-E3369945FB15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B119-150A-44D0-89F5-E7422CE0F9AC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6424-CB5B-4C74-845C-9E68BF2B5B2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3DA-D48A-4AF2-B8F2-4084D10257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2060640"/>
            <a:ext cx="657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would you like to ea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吃点什么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480" y="2090880"/>
            <a:ext cx="67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dishes would you lik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66680" y="393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什么菜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66760" y="2019240"/>
            <a:ext cx="57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o you want any soup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30480" y="3860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要汤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1844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at kind do fish do you pref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7080" y="40053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想要哪种鱼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00000" y="2060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Do you want it now or after supp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95520" y="40766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你现在要还是饭后要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736720" cy="2090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492360" y="836640"/>
            <a:ext cx="2737080" cy="2087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2663640" cy="2241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419640" y="3068640"/>
            <a:ext cx="2736720" cy="2303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6300720" y="1727280"/>
            <a:ext cx="2340000" cy="278136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6:30Z</dcterms:created>
  <dc:creator>Legend User</dc:creator>
  <dc:description/>
  <dc:language>en-US</dc:language>
  <cp:lastModifiedBy>Legend User</cp:lastModifiedBy>
  <dcterms:modified xsi:type="dcterms:W3CDTF">2002-12-03T13:05:41Z</dcterms:modified>
  <cp:revision>10</cp:revision>
  <dc:subject/>
  <dc:title>幻灯片 1</dc:title>
</cp:coreProperties>
</file>