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DB0-C9B0-4031-8DE0-7E56F291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BE7-C77F-44A2-B884-EBC11B33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FFE-0E0C-4309-85D9-362AC5D3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E7D-75EB-4C12-A9DC-5E0D3B67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0A3E-A88B-4629-AA6F-77F4F326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BD70-7891-4EBD-B76D-011818F0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697C-A715-4556-BCAA-B42790A6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9EF8-82C0-46CD-999C-85DF4B51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3F4C-9C36-4D52-9503-0986669E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24D5-5C76-49A0-BF56-5AEF9913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72C7-E8E7-4678-9574-23C79B42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14C-3762-46DA-9839-49D43103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4716-6F5E-48D2-B1A9-23A098F6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81B1-D707-4E17-BD77-2BEB8125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08F3-0500-44F7-B72A-1984D3DD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382F-D46A-40A8-942E-D42867DA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95AD-CB63-4768-B5E3-386DC98E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33C-5061-4533-99F9-7D110EB1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72F-F67D-4492-87A0-D552A95C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9A2-F860-4664-B110-2E0027BC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72C-10B4-4DB7-A916-61BC1249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941-0F38-4770-BAD0-5755C2BD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201-8E0E-4087-AA49-E40E5FD5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D81-5542-4796-AD64-5FA59A93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AB1B-A8DE-4491-BC11-BE65900850C2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A243-D13E-4923-AC41-0C963ED47BFE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39640" y="476280"/>
            <a:ext cx="8064360" cy="6119280"/>
            <a:chOff x="539640" y="476280"/>
            <a:chExt cx="8064360" cy="61192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579640" y="2419200"/>
              <a:ext cx="3024360" cy="41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539640" y="3858840"/>
              <a:ext cx="2592360" cy="27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3132000" y="476280"/>
              <a:ext cx="251928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3132000" y="2491920"/>
              <a:ext cx="2447640" cy="14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5"/>
            <a:stretch/>
          </p:blipFill>
          <p:spPr>
            <a:xfrm>
              <a:off x="3132000" y="3931920"/>
              <a:ext cx="244764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6"/>
            <a:stretch/>
          </p:blipFill>
          <p:spPr>
            <a:xfrm>
              <a:off x="5579640" y="476280"/>
              <a:ext cx="3022920" cy="19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7"/>
            <a:stretch/>
          </p:blipFill>
          <p:spPr>
            <a:xfrm>
              <a:off x="539640" y="476280"/>
              <a:ext cx="2592360" cy="338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>
            <a:hlinkClick r:id="" action="ppaction://hlinkshowjump?jump=endshow"/>
          </p:cNvPr>
          <p:cNvSpPr/>
          <p:nvPr/>
        </p:nvSpPr>
        <p:spPr>
          <a:xfrm>
            <a:off x="7667640" y="6093000"/>
            <a:ext cx="1042920" cy="35856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2785" h="21600">
                <a:moveTo>
                  <a:pt x="0" y="0"/>
                </a:moveTo>
                <a:lnTo>
                  <a:pt x="62785" y="0"/>
                </a:lnTo>
                <a:lnTo>
                  <a:pt x="62785" y="21600"/>
                </a:lnTo>
                <a:lnTo>
                  <a:pt x="0" y="21600"/>
                </a:lnTo>
                <a:close/>
              </a:path>
              <a:path fill="lightenLess" w="62785" h="21600">
                <a:moveTo>
                  <a:pt x="0" y="0"/>
                </a:moveTo>
                <a:lnTo>
                  <a:pt x="62785" y="0"/>
                </a:lnTo>
                <a:lnTo>
                  <a:pt x="61385" y="1400"/>
                </a:lnTo>
                <a:lnTo>
                  <a:pt x="1400" y="1400"/>
                </a:lnTo>
                <a:close/>
              </a:path>
              <a:path fill="darken" w="62785" h="21600">
                <a:moveTo>
                  <a:pt x="62785" y="0"/>
                </a:moveTo>
                <a:lnTo>
                  <a:pt x="62785" y="21600"/>
                </a:lnTo>
                <a:lnTo>
                  <a:pt x="61385" y="20200"/>
                </a:lnTo>
                <a:lnTo>
                  <a:pt x="61385" y="1400"/>
                </a:lnTo>
                <a:close/>
              </a:path>
              <a:path fill="darkenLess" w="62785" h="21600">
                <a:moveTo>
                  <a:pt x="62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385" y="20200"/>
                </a:lnTo>
                <a:close/>
              </a:path>
              <a:path fill="lighten" w="62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785" h="21600">
                <a:moveTo>
                  <a:pt x="24386" y="7493"/>
                </a:moveTo>
                <a:lnTo>
                  <a:pt x="27894" y="7493"/>
                </a:lnTo>
                <a:lnTo>
                  <a:pt x="27894" y="12828"/>
                </a:lnTo>
                <a:cubicBezTo>
                  <a:pt x="27894" y="13751"/>
                  <a:pt x="28694" y="14482"/>
                  <a:pt x="29730" y="14482"/>
                </a:cubicBezTo>
                <a:lnTo>
                  <a:pt x="31393" y="14482"/>
                </a:lnTo>
                <a:cubicBezTo>
                  <a:pt x="32428" y="14482"/>
                  <a:pt x="33229" y="13751"/>
                  <a:pt x="33229" y="12828"/>
                </a:cubicBezTo>
                <a:lnTo>
                  <a:pt x="33229" y="7493"/>
                </a:lnTo>
                <a:lnTo>
                  <a:pt x="31393" y="7493"/>
                </a:lnTo>
                <a:lnTo>
                  <a:pt x="34900" y="3985"/>
                </a:lnTo>
                <a:lnTo>
                  <a:pt x="38573" y="7493"/>
                </a:lnTo>
                <a:lnTo>
                  <a:pt x="36737" y="7493"/>
                </a:lnTo>
                <a:lnTo>
                  <a:pt x="36737" y="12828"/>
                </a:lnTo>
                <a:cubicBezTo>
                  <a:pt x="36737" y="15596"/>
                  <a:pt x="34160" y="18155"/>
                  <a:pt x="31393" y="18155"/>
                </a:cubicBezTo>
                <a:lnTo>
                  <a:pt x="29730" y="18155"/>
                </a:lnTo>
                <a:cubicBezTo>
                  <a:pt x="26962" y="18155"/>
                  <a:pt x="24386" y="15596"/>
                  <a:pt x="243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6:14:29Z</dcterms:created>
  <dc:creator>Legend User</dc:creator>
  <dc:description/>
  <dc:language>en-US</dc:language>
  <cp:lastModifiedBy>Legend User</cp:lastModifiedBy>
  <dcterms:modified xsi:type="dcterms:W3CDTF">2002-12-01T06:36:23Z</dcterms:modified>
  <cp:revision>2</cp:revision>
  <dc:subject/>
  <dc:title>幻灯片 1</dc:title>
</cp:coreProperties>
</file>