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7D2-6273-425E-B49B-E0F1E1A2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A88-432F-43B5-8780-8F394F6B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582-37B6-4EC9-8BDB-34001BD9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BFF-B8DE-4D1C-B0D9-268AC3E3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0F1-149C-4F2D-9D52-6F79739D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E9F-8A77-4784-B8A6-78367BB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EC5-C0A2-427C-ACBD-8384D338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489-7C39-41A0-BFE5-108584DB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91F-D0F8-404C-BD01-E6DA2B39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818-0FC3-4402-8F0B-AD9AFC6B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D86-7EAF-4135-B560-3EB74A4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47E-6F95-4B20-A5BB-5975AAA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D6CE-D0E2-4475-A7AC-3F7E165981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8:00Z</dcterms:created>
  <dc:creator>USER13</dc:creator>
  <dc:description/>
  <dc:language>en-US</dc:language>
  <cp:lastModifiedBy>USER13</cp:lastModifiedBy>
  <dcterms:modified xsi:type="dcterms:W3CDTF">2002-05-04T03:28:08Z</dcterms:modified>
  <cp:revision>1</cp:revision>
  <dc:subject/>
  <dc:title>PowerPoint 演示文稿</dc:title>
</cp:coreProperties>
</file>