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054-017E-4D43-BF92-844C6D93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074-8A5C-472A-98AB-1C77C128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67E-0D68-4D80-A9F6-EBCD96D9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7C2-88D6-4A11-BBCC-86591264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5EE-7CF3-4F56-B611-7E170B8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A72-314E-4F27-8F4A-7FF5327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F04-3A63-4CB3-82CE-9236BF5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993-1CFF-429A-9997-45F423C6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347-1905-47CA-A597-764775F1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A5E-26A8-43F9-8D46-F0424DB2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815-49A7-42BD-80AA-1301B33B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6EF-659E-4176-9DB9-1AF155A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6BF1-B62D-4E00-9316-CBE5650C6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22:53Z</dcterms:created>
  <dc:creator>USER13</dc:creator>
  <dc:description/>
  <dc:language>en-US</dc:language>
  <cp:lastModifiedBy>USER13</cp:lastModifiedBy>
  <dcterms:modified xsi:type="dcterms:W3CDTF">2002-05-04T03:23:02Z</dcterms:modified>
  <cp:revision>1</cp:revision>
  <dc:subject/>
  <dc:title>PowerPoint 演示文稿</dc:title>
</cp:coreProperties>
</file>