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11.jpeg" ContentType="image/jpeg"/>
  <Override PartName="/ppt/media/image8.png" ContentType="image/png"/>
  <Override PartName="/ppt/media/image28.gif" ContentType="image/gif"/>
  <Override PartName="/ppt/media/image27.png" ContentType="image/png"/>
  <Override PartName="/ppt/media/image24.gif" ContentType="image/gif"/>
  <Override PartName="/ppt/media/image16.jpeg" ContentType="image/jpeg"/>
  <Override PartName="/ppt/media/image17.gif" ContentType="image/gif"/>
  <Override PartName="/ppt/media/image15.gif" ContentType="image/gif"/>
  <Override PartName="/ppt/media/image14.png" ContentType="image/png"/>
  <Override PartName="/ppt/media/image23.gif" ContentType="image/gif"/>
  <Override PartName="/ppt/media/image3.png" ContentType="image/png"/>
  <Override PartName="/ppt/media/image26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259-4999-444D-AD1B-6831832D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E2E-5B69-4DCF-92EB-0585C2EB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4DF-4D61-425B-8FE5-DB5ED22F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701-9DE2-4C8B-9526-781F0F78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7181-FC3C-4664-88B0-6F69DB9B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0B5B-A164-4455-94AD-394F4E6C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AB6B-DD1C-4DFA-94BE-D2635138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D767-4994-428D-8514-B2E8E96C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42F3-602B-43CE-99DD-EC81FC40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F67A-5CB0-4EBA-ABC8-7C335980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6B30-0DD3-4931-BCA1-7B081428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F51-0918-4BBC-AF2D-1AA33237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DF67-2051-4196-9301-D379ED37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5A11-B709-4195-A8E2-DDF5992B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C951-FF29-4D1E-9EA7-ACC4298D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9F32-668C-466F-A01A-0D01FAD5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5CD1-6259-4FD4-AFBC-49BFF882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FF20-D5F6-4FB7-B49C-05E591A7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6889-D4FF-42D3-A87E-6F5AC4B1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D38D-1329-4311-85BC-946930AB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F13E-5963-4AF2-9DD7-3E616376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0C0A-3FC0-456A-8163-23E24252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980-DC45-4FCD-9A42-14DCE9AB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1468-C583-4AFB-AC7D-DB2D9B68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3C85-002E-4370-8D17-F43B10D3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12E7-E1A3-46E6-BF69-A69A4F17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57D3F-E0DD-4F17-9C79-547CCA2E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A942-18D9-4D36-924B-57A67FAD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DBD8-C3A6-4AA3-88A6-E189677D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7861-3F74-4924-B8AD-B4A4359A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B3A-7EFD-4258-BB15-BAD683E4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4FE-B036-401D-8DDE-6A27DCBB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81F-3761-45CD-B277-BF9371ED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44A-E6C1-4BF8-90AA-F4C3179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0B2-4DA9-460A-B12C-AD035A1B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BA5-CAA7-497C-841B-3C2EA9E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5D89-00B2-4385-B99C-DB1E6903F1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A319-CB2A-4599-99E5-DAC30005A4E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BA06-71FE-4F1E-9AAD-0DA5541C205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19.gi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" Target="slide5.xml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000160" y="5572080"/>
            <a:ext cx="7143840" cy="128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97360" cy="1285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792000" y="2979720"/>
            <a:ext cx="4295880" cy="152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dvertis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141640" y="3564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294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11280" y="18900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Homework: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1700280"/>
            <a:ext cx="62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anslate the following phrases and sentences into Engl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手拉着手进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控告他用假广告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班由张老师负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上张贴的广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留心隐藏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gif0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gif011.gif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120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35280" y="1844640"/>
            <a:ext cx="7078680" cy="1123920"/>
          </a:xfrm>
          <a:prstGeom prst="cloudCallout">
            <a:avLst>
              <a:gd name="adj1" fmla="val -87541"/>
              <a:gd name="adj2" fmla="val 168643"/>
            </a:avLst>
          </a:prstGeom>
          <a:noFill/>
          <a:ln w="349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Thank you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Goodbye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gif008.gif"/>
          <p:cNvPicPr/>
          <p:nvPr/>
        </p:nvPicPr>
        <p:blipFill>
          <a:blip r:embed="rId4"/>
          <a:stretch/>
        </p:blipFill>
        <p:spPr>
          <a:xfrm>
            <a:off x="7093080" y="4221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gif003.gif"/>
          <p:cNvPicPr/>
          <p:nvPr/>
        </p:nvPicPr>
        <p:blipFill>
          <a:blip r:embed="rId5"/>
          <a:stretch/>
        </p:blipFill>
        <p:spPr>
          <a:xfrm>
            <a:off x="684360" y="692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gif008.gif"/>
          <p:cNvPicPr/>
          <p:nvPr/>
        </p:nvPicPr>
        <p:blipFill>
          <a:blip r:embed="rId6"/>
          <a:stretch/>
        </p:blipFill>
        <p:spPr>
          <a:xfrm>
            <a:off x="5219640" y="50846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2340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223806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2340000" y="5013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9640" y="1700280"/>
            <a:ext cx="7991640" cy="3529080"/>
          </a:xfrm>
          <a:custGeom>
            <a:avLst/>
            <a:gdLst>
              <a:gd name="textAreaLeft" fmla="*/ 0 w 7991640"/>
              <a:gd name="textAreaRight" fmla="*/ 7991640 w 7991640"/>
              <a:gd name="textAreaTop" fmla="*/ 457200 h 3529080"/>
              <a:gd name="textAreaBottom" fmla="*/ 30718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1.Where can ads be found?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2.How do people react to a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33336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Questi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5661000"/>
            <a:ext cx="1295640" cy="679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211640" y="5734080"/>
            <a:ext cx="1295280" cy="6793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6588000" y="5661000"/>
            <a:ext cx="1295640" cy="67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-541440" y="-963720"/>
            <a:ext cx="10009440" cy="8398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68360" y="126828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What is the basic principle of adverti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How do companies get their message acros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.How do you make a good a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3960" y="47628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Answer the following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732720" y="3789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195640" y="537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132000" y="566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1476360" y="422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050920" y="4149720"/>
            <a:ext cx="952560" cy="619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8"/>
          <a:stretch/>
        </p:blipFill>
        <p:spPr>
          <a:xfrm>
            <a:off x="3851280" y="5805360"/>
            <a:ext cx="952560" cy="61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95280" y="6922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.How important are ads in today’s society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.How do ads help companies and customer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8.What are good ads? What are bad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.Why should we keep an eye out for “hidden information” in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.What are “bait-and –switch”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780000" y="6021360"/>
            <a:ext cx="3809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63640" y="2565360"/>
            <a:ext cx="69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1.How can we develop a critical attitude towards 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gif046.gif"/>
          <p:cNvPicPr/>
          <p:nvPr/>
        </p:nvPicPr>
        <p:blipFill>
          <a:blip r:embed="rId2"/>
          <a:stretch/>
        </p:blipFill>
        <p:spPr>
          <a:xfrm>
            <a:off x="3348000" y="90792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260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77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girls left the classroom hand in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imilar phrases: face to face/shoulder by shou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780000" y="6165720"/>
            <a:ext cx="3809880" cy="381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95280" y="3213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accuse…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2560" y="134136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37893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neighbours may accuse you of playing your radio too lou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479736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get…a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5300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is is the message that we want to get across to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476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5480" y="17002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appe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2492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How did the course appeal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1840" y="3429000"/>
            <a:ext cx="56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keep an eye out for sb/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414972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Will you keep an eye out  for my suitcase while I go to get the t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539640" y="476280"/>
          <a:ext cx="8353440" cy="5495760"/>
        </p:xfrm>
        <a:graphic>
          <a:graphicData uri="http://schemas.openxmlformats.org/drawingml/2006/table">
            <a:tbl>
              <a:tblPr/>
              <a:tblGrid>
                <a:gridCol w="4202280"/>
                <a:gridCol w="415116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11280" y="1268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Provide information about  latest products./Help customers find good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126828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Lead people to buy the wrong products./Cheat customers of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421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Increase sales by repeated advertising./Help companies make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357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Cut costs of newspapers and make them che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1120" y="6818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9280" y="2421000"/>
            <a:ext cx="37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.Give false or incorre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2360" y="3357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Take too much time or space on TV or newspap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4292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Make the public aware of social problems./Inform people about important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60360" y="436572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Raise the price of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611280" y="549360"/>
          <a:ext cx="8010000" cy="5590800"/>
        </p:xfrm>
        <a:graphic>
          <a:graphicData uri="http://schemas.openxmlformats.org/drawingml/2006/table">
            <a:tbl>
              <a:tblPr/>
              <a:tblGrid>
                <a:gridCol w="2670120"/>
                <a:gridCol w="2669760"/>
                <a:gridCol w="267012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1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velopment of advertising &amp; peoples' attitu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w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asic principle of adverti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h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4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dvantages &amp;disadvantages of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F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a critical attitude towards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468360" y="620640"/>
          <a:ext cx="8343720" cy="5396040"/>
        </p:xfrm>
        <a:graphic>
          <a:graphicData uri="http://schemas.openxmlformats.org/drawingml/2006/table">
            <a:tbl>
              <a:tblPr/>
              <a:tblGrid>
                <a:gridCol w="1227240"/>
                <a:gridCol w="3044520"/>
                <a:gridCol w="40719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   ide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860720" y="292428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ritics,accuse,......mis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1557360"/>
            <a:ext cx="40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hand in hand with the development of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349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defenders,useful, make informed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51577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2.choose among the availabl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595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ds can be found almost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76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ople react to advertisements in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90520" y="46530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frequent ads increase s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educe the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3640" y="4653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ds help companies and customers in a variety of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9080" y="422100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appeal to customers' e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7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introduce brand,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products with ou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88720" y="112536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TV,radio,Internet,news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328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he basic principle of advertisements is to influence customers'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645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62880" y="393372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2.get message a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60000" y="57340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deal with,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5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340000" y="5013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97000" y="401760"/>
            <a:ext cx="864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vertising is a highly developed industry. It has gone _____________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with radio, television and other me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However, people react to ads in different ways. ____________think ads are useful and helpful and help customers make ______________. But critics _________ companies ______ using ads to _______us. Advertising influences customers’ choices by introducing _____________ and associating products with __________needs. There are so many ads for customers, so advertisers try to_______ their message ________by _____________their emo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s help companies and customers in a variety of ways. They can help companies________ sales and _________the prices. Meanwhile, they help customers choose among all the_________ products. In fact, ___________ provide good information, and help customers compare features, functions and costs. Some governments name their spokesman or spokeswoman to make people ___________their Social  problems and polic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ustomers should protect themselves by _______________________bad ads,____________ between fiction and facts and making good cho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8484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46640" y="135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7080" y="333360"/>
            <a:ext cx="162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hand in h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58080" y="86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026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81960" y="114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33080" y="954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ef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40200" y="13590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formed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95560" y="1693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6280" y="169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20560" y="1719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is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27360" y="1989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 bran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94720" y="23036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ustom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3080" y="2664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98440" y="26193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0200" y="29797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ppeal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1280" y="3699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97720" y="3699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95920" y="40147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27000" y="40147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ruthful 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07360" y="50036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wa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62200" y="53737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eeping an  eye ou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5200" y="56786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istingu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13:17:38Z</dcterms:created>
  <dc:creator>Jerry</dc:creator>
  <dc:description/>
  <dc:language>en-US</dc:language>
  <cp:lastModifiedBy>Jerry</cp:lastModifiedBy>
  <dcterms:modified xsi:type="dcterms:W3CDTF">2005-09-26T09:36:15Z</dcterms:modified>
  <cp:revision>44</cp:revision>
  <dc:subject/>
  <dc:title>幻灯片 1</dc:title>
</cp:coreProperties>
</file>