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CC3-8194-4B46-B475-4AE9C454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2E0-674C-4D64-B45C-4033BB22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6D4-B983-4EF2-85E5-20C83183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97A-22F2-4DCB-8429-519DB935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84F-E497-4177-A4AF-6786F318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1F8-F4B2-4A6D-B8F2-259110A8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69A-481C-48BA-9FA5-CC802A84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032-BB50-4D02-9209-4B75B577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156-14F5-4866-BC8C-5FA66223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A1C-6366-42B3-83B4-0B97B42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68B-7277-4A9C-8C9D-A428711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E87-5044-4562-BA44-63FB654A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F763-C76F-4103-8844-5B62DC78B0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6:15Z</dcterms:created>
  <dc:creator>USER13</dc:creator>
  <dc:description/>
  <dc:language>en-US</dc:language>
  <cp:lastModifiedBy>USER13</cp:lastModifiedBy>
  <dcterms:modified xsi:type="dcterms:W3CDTF">2002-05-04T03:26:20Z</dcterms:modified>
  <cp:revision>1</cp:revision>
  <dc:subject/>
  <dc:title>PowerPoint 演示文稿</dc:title>
</cp:coreProperties>
</file>