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3F80-889F-4DC1-8D1C-B4C16BD38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37C9-81D7-430F-A16A-7B30338B4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EB76-A511-4A30-A103-E0CA3EF96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99E1-CEFC-4C7D-8A39-277A61076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3D9E-DDD7-4AB3-97E0-B7D0F49CB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F444-7D01-4046-B109-713BB3693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C438-5C30-4242-9ADB-7CB95DAEF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623F-6660-419C-9D8A-EFFB308F2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B704-A7FE-4B77-8F8E-76E19A19E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1A9C-4D8A-4ED4-A1FF-7BCCEA7D6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9B88-8024-485D-B1D8-AD8DD0EF6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D0A3-639B-431C-A215-2DB325D8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7D5BE-D4C9-4D27-9E12-BB85AA97957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4T03:28:00Z</dcterms:created>
  <dc:creator>USER13</dc:creator>
  <dc:description/>
  <dc:language>en-US</dc:language>
  <cp:lastModifiedBy>USER13</cp:lastModifiedBy>
  <dcterms:modified xsi:type="dcterms:W3CDTF">2002-05-04T03:28:08Z</dcterms:modified>
  <cp:revision>1</cp:revision>
  <dc:subject/>
  <dc:title>PowerPoint 演示文稿</dc:title>
</cp:coreProperties>
</file>