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9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image11.jpeg" ContentType="image/jpeg"/>
  <Override PartName="/ppt/media/image8.png" ContentType="image/png"/>
  <Override PartName="/ppt/media/image28.gif" ContentType="image/gif"/>
  <Override PartName="/ppt/media/image27.png" ContentType="image/png"/>
  <Override PartName="/ppt/media/image24.gif" ContentType="image/gif"/>
  <Override PartName="/ppt/media/image16.jpeg" ContentType="image/jpeg"/>
  <Override PartName="/ppt/media/image17.gif" ContentType="image/gif"/>
  <Override PartName="/ppt/media/image15.gif" ContentType="image/gif"/>
  <Override PartName="/ppt/media/image14.png" ContentType="image/png"/>
  <Override PartName="/ppt/media/image23.gif" ContentType="image/gif"/>
  <Override PartName="/ppt/media/image3.png" ContentType="image/png"/>
  <Override PartName="/ppt/media/image26.png" ContentType="image/png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503-838F-4EC4-A2E2-DB3D9CE3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8FF-32F5-4238-A601-0979FE24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8F3-ADF2-44E8-9C0A-1A841E77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BE1-6989-4C09-99D7-C7432664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0AB3-D728-472E-BF22-D66E0B3B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4E7C-AF27-4334-9589-23C085F6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79AD-629F-40EB-9DB2-43101B70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C25B-AE00-4E03-820E-B85978CE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2F47-8D21-4946-99E8-A153E4BF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A0C9-78FA-4675-A2EC-FE34A021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7F20-D899-47E5-8C4D-02314695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DD3-EF4F-4BBA-9CC2-CDAB9520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54C3-C1D8-4889-8AF8-C8815F77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6BFF-7802-4EB7-9DB1-50181047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308C-AC4B-4F52-919A-CD9575E7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80FC-08E4-4561-B211-76376A77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9C9E-E0DC-4150-ACCC-66BD6F7D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5D3EC-FDBB-48C5-92CE-76B6EA06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30D13-567E-4CBD-B092-582E8A4B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213C-EB43-4F5C-BFFB-38240AEC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36670-0AD9-42C2-810E-C72BB991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4AFB-83D8-4D5B-AAC4-E74E210E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952-C46B-441C-88CD-1F51AABE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8695-BE30-4AE7-BCC2-C6FCD83A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60185-086F-48D8-B169-FB0645E7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BB6F8-4786-45BE-87A3-D5F3715F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B8A2A-1CE0-4556-8F7A-5F2434A0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551C5-C643-4A25-86C5-E7B8323B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E1BC-4832-4DB9-91C2-41C71183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62F17-4081-43BC-87DA-54AA404B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CFA-7760-4FDF-9E01-569DA657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2338-A60F-41F2-B80D-403584A5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707-3EC5-48BE-9BCF-8DF829A8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199-03F9-4812-949E-BB9CDC65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959-801E-4D6C-8E2F-ED264B42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463-8ADB-4FDB-899A-789F5944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1310-B385-4204-9218-503B0C3246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54EE-1247-4135-B8E6-50BCF478431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1C57-505F-4967-9D21-D07C278E2B3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19.gi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" Target="slide5.xml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000160" y="5572080"/>
            <a:ext cx="7143840" cy="128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97360" cy="1285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792000" y="2979720"/>
            <a:ext cx="4295880" cy="1527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dvertising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141640" y="3564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294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611280" y="189000"/>
            <a:ext cx="3600360" cy="11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Homework: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71640" y="1700280"/>
            <a:ext cx="62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ranslate the following phrases and sentences into Engl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手拉着手进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控告他用假广告骗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班由张老师负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上张贴的广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留心隐藏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gif0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gif011.gif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1120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835280" y="1844640"/>
            <a:ext cx="7078680" cy="1123920"/>
          </a:xfrm>
          <a:prstGeom prst="cloudCallout">
            <a:avLst>
              <a:gd name="adj1" fmla="val -87541"/>
              <a:gd name="adj2" fmla="val 168643"/>
            </a:avLst>
          </a:prstGeom>
          <a:noFill/>
          <a:ln w="349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Monotype Corsiva"/>
                <a:ea typeface="方正舒体"/>
              </a:rPr>
              <a:t>Thank you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Monotype Corsiva"/>
                <a:ea typeface="方正舒体"/>
              </a:rPr>
              <a:t>Goodbye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gif008.gif"/>
          <p:cNvPicPr/>
          <p:nvPr/>
        </p:nvPicPr>
        <p:blipFill>
          <a:blip r:embed="rId4"/>
          <a:stretch/>
        </p:blipFill>
        <p:spPr>
          <a:xfrm>
            <a:off x="7093080" y="4221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gif003.gif"/>
          <p:cNvPicPr/>
          <p:nvPr/>
        </p:nvPicPr>
        <p:blipFill>
          <a:blip r:embed="rId5"/>
          <a:stretch/>
        </p:blipFill>
        <p:spPr>
          <a:xfrm>
            <a:off x="684360" y="692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gif008.gif"/>
          <p:cNvPicPr/>
          <p:nvPr/>
        </p:nvPicPr>
        <p:blipFill>
          <a:blip r:embed="rId6"/>
          <a:stretch/>
        </p:blipFill>
        <p:spPr>
          <a:xfrm>
            <a:off x="5219640" y="50846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2340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223806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24000" y="492120"/>
          <a:ext cx="8569080" cy="5791320"/>
        </p:xfrm>
        <a:graphic>
          <a:graphicData uri="http://schemas.openxmlformats.org/drawingml/2006/table">
            <a:tbl>
              <a:tblPr/>
              <a:tblGrid>
                <a:gridCol w="1979640"/>
                <a:gridCol w="3074760"/>
                <a:gridCol w="35146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word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2340000" y="50133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learn to protect themselves from false ads and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smart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4000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be careful of illegal  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37080" y="234936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aware,social,,probl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overn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68360" y="242100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Governments and other organizations use ads to make people aware of government policies and soc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40000" y="98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ost important function of advertising is to introduce new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36360" y="342900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spread knowledge,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attitudes,improve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35640" y="285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name  their spokesman or spokes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35640" y="162864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ompare,features,function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5661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distinguish between fiction and  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105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truthful,information,help,de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64000" y="50846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goodads  ,introduce products,  increase  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36720" y="465300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"bait-and-switch"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6720" y="407664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keep an eye out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"hidden informa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9640" y="1700280"/>
            <a:ext cx="7991640" cy="3529080"/>
          </a:xfrm>
          <a:custGeom>
            <a:avLst/>
            <a:gdLst>
              <a:gd name="textAreaLeft" fmla="*/ 0 w 7991640"/>
              <a:gd name="textAreaRight" fmla="*/ 7991640 w 7991640"/>
              <a:gd name="textAreaTop" fmla="*/ 457200 h 3529080"/>
              <a:gd name="textAreaBottom" fmla="*/ 30718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1.Where can ads be found?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2.How do people react to a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333360"/>
            <a:ext cx="3600360" cy="11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Questi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0920" y="5661000"/>
            <a:ext cx="1295640" cy="6793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211640" y="5734080"/>
            <a:ext cx="1295280" cy="6793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6588000" y="5661000"/>
            <a:ext cx="1295640" cy="679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-541440" y="-963720"/>
            <a:ext cx="10009440" cy="8398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68360" y="126828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.What is the basic principle of adverti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.How do companies get their message acros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.How do you make a good a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3960" y="47628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Answer the following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732720" y="3789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2195640" y="537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3132000" y="5661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1476360" y="4221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050920" y="4149720"/>
            <a:ext cx="952560" cy="6192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8"/>
          <a:stretch/>
        </p:blipFill>
        <p:spPr>
          <a:xfrm>
            <a:off x="3851280" y="5805360"/>
            <a:ext cx="952560" cy="619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95280" y="6922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.How important are ads in today’s society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.How do ads help companies and customer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8.What are good ads? What are bad ad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9.Why should we keep an eye out for “hidden information” in ad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0.What are “bait-and –switch”a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780000" y="6021360"/>
            <a:ext cx="3809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63640" y="2565360"/>
            <a:ext cx="69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1.How can we develop a critical attitude towards 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gif046.gif"/>
          <p:cNvPicPr/>
          <p:nvPr/>
        </p:nvPicPr>
        <p:blipFill>
          <a:blip r:embed="rId2"/>
          <a:stretch/>
        </p:blipFill>
        <p:spPr>
          <a:xfrm>
            <a:off x="3348000" y="90792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50920" y="260280"/>
            <a:ext cx="8116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Language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77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e girls left the classroom hand in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imilar phrases: face to face/shoulder by shou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780000" y="6165720"/>
            <a:ext cx="3809880" cy="381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95280" y="3213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accuse…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2560" y="134136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hand 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378936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e neighbours may accuse you of playing your radio too lou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479736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get…a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35280" y="5300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is is the message that we want to get across to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476280"/>
            <a:ext cx="8116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Language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5480" y="170028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appea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4000" y="2492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How did the course appeal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1840" y="3429000"/>
            <a:ext cx="56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keep an eye out for sb/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4149720"/>
            <a:ext cx="78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Will you keep an eye out  for my suitcase while I go to get the t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36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539640" y="476280"/>
          <a:ext cx="8353440" cy="5495760"/>
        </p:xfrm>
        <a:graphic>
          <a:graphicData uri="http://schemas.openxmlformats.org/drawingml/2006/table">
            <a:tbl>
              <a:tblPr/>
              <a:tblGrid>
                <a:gridCol w="4202280"/>
                <a:gridCol w="415116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611280" y="1268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.Provide information about  latest products./Help customers find good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126828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.Lead people to buy the wrong products./Cheat customers of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242100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Increase sales by repeated advertising./Help companies make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33577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Cut costs of newspapers and make them che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1120" y="6818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7964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59280" y="2421000"/>
            <a:ext cx="37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2.Give false or incorrec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2360" y="3357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Take too much time or space on TV or newspap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4292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Make the public aware of social problems./Inform people about important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60360" y="436572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Raise the price of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611280" y="549360"/>
          <a:ext cx="8010000" cy="5590800"/>
        </p:xfrm>
        <a:graphic>
          <a:graphicData uri="http://schemas.openxmlformats.org/drawingml/2006/table">
            <a:tbl>
              <a:tblPr/>
              <a:tblGrid>
                <a:gridCol w="2670120"/>
                <a:gridCol w="2669760"/>
                <a:gridCol w="267012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s 1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evelopment of advertising &amp; peoples' attitu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Tw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asic principle of adverti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Th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s 4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dvantages &amp;disadvantages of a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F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a critical attitude towards a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468360" y="620640"/>
          <a:ext cx="8343720" cy="5396040"/>
        </p:xfrm>
        <a:graphic>
          <a:graphicData uri="http://schemas.openxmlformats.org/drawingml/2006/table">
            <a:tbl>
              <a:tblPr/>
              <a:tblGrid>
                <a:gridCol w="1227240"/>
                <a:gridCol w="3044520"/>
                <a:gridCol w="40719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    ide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860720" y="292428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ritics,accuse,......mis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1557360"/>
            <a:ext cx="40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hand in hand with the development of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2349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defenders,useful, make informed  cho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51577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2.choose among the available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595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3640" y="1268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Ads can be found almost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227664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ople react to advertisements in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90520" y="4653000"/>
            <a:ext cx="34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frequent ads increase s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educe the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63640" y="4653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ds help companies and customers in a variety of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9080" y="422100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appeal to customers' emo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357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1.introduce brand,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products with ou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88720" y="112536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1.TV,radio,Internet,news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3284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he basic principle of advertisements is to influence customers'  cho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1128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5640" y="6453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62880" y="393372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2.get message a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60000" y="573408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deal with,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3564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324000" y="492120"/>
          <a:ext cx="8569080" cy="5791320"/>
        </p:xfrm>
        <a:graphic>
          <a:graphicData uri="http://schemas.openxmlformats.org/drawingml/2006/table">
            <a:tbl>
              <a:tblPr/>
              <a:tblGrid>
                <a:gridCol w="1979640"/>
                <a:gridCol w="3074760"/>
                <a:gridCol w="35146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word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2340000" y="50133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ustomers should learn to protect themselves from false ads and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mart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be careful of illegal  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7080" y="234936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aware,social,,probl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overn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8360" y="242100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Governments and other organizations use ads to make people aware of government policies and soc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98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ost important function of advertising is to introduce new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36360" y="342900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spread knowledge,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attitudes,improve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285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name  their spokesman or spokes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35640" y="162864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ompare,features,function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35640" y="5661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distinguish between fiction and  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5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truthful,information,help,de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64000" y="50846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goodads  ,introduce products,  increase  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36720" y="465300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"bait-and-switch"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36720" y="407664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keep an eye out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"hidden informa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97000" y="401760"/>
            <a:ext cx="86454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Advertising is a highly developed industry. It has gone _____________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with radio, television and other me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However, people react to ads in different ways. ____________think ads are useful and helpful and help customers make ______________. But critics _________ companies ______ using ads to _______us. Advertising influences customers’ choices by introducing _____________ and associating products with __________needs. There are so many ads for customers, so advertisers try to_______ their message ________by _____________their emo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Ads help companies and customers in a variety of ways. They can help companies________ sales and _________the prices. Meanwhile, they help customers choose among all the_________ products. In fact, ___________ provide good information, and help customers compare features, functions and costs. Some governments name their spokesman or spokeswoman to make people ___________their Social  problems and polic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ustomers should protect themselves by _______________________bad ads,____________ between fiction and facts and making good cho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8484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46640" y="135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7080" y="333360"/>
            <a:ext cx="162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Arial"/>
              </a:rPr>
              <a:t>hand in h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58080" y="86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026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81960" y="114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33080" y="954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Def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40200" y="13590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nformed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95560" y="1693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cc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6280" y="1693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20560" y="17193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is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27360" y="19890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 bran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94720" y="23036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ustomer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33080" y="2664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98440" y="26193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0200" y="297972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ppeal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1280" y="36990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97720" y="3699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95920" y="40147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27000" y="401472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ruthful 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07360" y="50036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wa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62200" y="53737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eeping an  eye ou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5200" y="56786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distingu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96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13:17:38Z</dcterms:created>
  <dc:creator>Jerry</dc:creator>
  <dc:description/>
  <dc:language>en-US</dc:language>
  <cp:lastModifiedBy>Jerry</cp:lastModifiedBy>
  <dcterms:modified xsi:type="dcterms:W3CDTF">2005-09-26T09:36:15Z</dcterms:modified>
  <cp:revision>44</cp:revision>
  <dc:subject/>
  <dc:title>幻灯片 1</dc:title>
</cp:coreProperties>
</file>