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6CF-7302-4D73-B007-4BD6A564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F88-B12C-4519-9E27-74BA0878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091-3BA1-4850-B46C-5F41592D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60A-ACE3-4166-9880-BF946F48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15C-3C9C-4854-868D-F5A8913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585-0A40-4F9D-9B19-EE352804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3DC-531A-4C05-949B-4FA8DF0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CFC-1C86-44F6-BA63-7A0779F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4C8-BD9D-4ADE-BA66-DEEE9E99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935-1381-476D-B610-8B414EF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BE5-0758-46BA-96D4-01DDF7B7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CA4-CF23-41BB-A727-CA9FA4C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34A8-1F2C-4C6A-BC92-DF49B62F2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9:18Z</dcterms:created>
  <dc:creator>USER13</dc:creator>
  <dc:description/>
  <dc:language>en-US</dc:language>
  <cp:lastModifiedBy>USER13</cp:lastModifiedBy>
  <dcterms:modified xsi:type="dcterms:W3CDTF">2002-05-04T03:09:31Z</dcterms:modified>
  <cp:revision>1</cp:revision>
  <dc:subject/>
  <dc:title>PowerPoint 演示文稿</dc:title>
</cp:coreProperties>
</file>