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FAE6-C794-4A15-BEAE-91F849B9B0B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2A5-AD3F-4553-9C9C-0B095966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60AF-6930-45BF-9481-706B1F80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A00B-0466-49CD-B62C-0BA62CD7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B06-200A-4A4C-BDBE-2C647786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7985-2C4A-4A9B-940D-66BF7D61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52BB-ECF3-4AE3-B437-C20477CE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B248-DFFA-485B-AB51-364EA2D5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3214-6BCD-4BB7-BD26-0974B3DA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BE32-4509-4CA9-8A6C-3E72CA76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70FD-19A5-4E2E-8DB3-BA0B3016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8F59-1649-449B-8415-D0691894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A24-A824-49E4-B3DE-EE6D9486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8B4B-0C76-4A20-8999-5B229AF3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45B7-BA4B-46AA-BDC3-BDA39BF0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D1BD-A745-4ADF-8854-61928030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505F-680F-448C-9717-86946DB7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8403-DBE1-441A-8A2D-A7E7E054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DB52-E0ED-4680-82B8-CE8ADA39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316F-2961-4676-B7A2-C3AD83E1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692F-282D-4C7D-8862-6EA72AB2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93D4-3B8E-4B62-9299-AA71D66E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C7BC-E783-4C2A-B2C3-BB887E47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F3E-1793-4567-9BF1-41AE17AC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C83-09DD-4008-9867-BB80464F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46CA-5121-4598-B8C0-D7897914DC2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8169-A0F7-4D50-AC95-D583559FD50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高二英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会考复习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李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北京西城外国语学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4. ---What is your answer to th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will give you ____ honest answer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I’m fighting for ____ end to slave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; a                 B. an; an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a; an               D. an;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4. ---What is your answer to th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will give you ____ honest answer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I’m fighting for ____ end to slave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; a   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an; an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a; an               D. an;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5. He was not happy at the new schoo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t first. He had ____ friends t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few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B. an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mor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 D. 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5. He was not happy at the new schoo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t first. He had ____ friends t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few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B. an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mor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 D. 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6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— You can speak Japanese, _____ you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—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at’s tru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re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B. have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wo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D. can’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6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— You can speak Japanese, _____ you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—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at’s tru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re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B. have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wo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D. can’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7. A new school _____ in this area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our city next ye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buil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B. bui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will be buil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D. has been buil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7. A new school _____ in this area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our city next ye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buil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B. bui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will be buil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D. has been buil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74678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8. “Help ____ to some meat and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vegetables, please. Tom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yself              B. himself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yourself            D. themsel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143000" y="189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74678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8. “Help ____ to some meat and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vegetables, please. Tom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yself              B. himself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yourself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D. themsel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143000" y="189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ffff"/>
                </a:solidFill>
                <a:latin typeface="Times New Roman"/>
                <a:ea typeface="黑体"/>
              </a:rPr>
              <a:t>目的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了解单项填空测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会考说明中的样题解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难题解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9. All the people ____ work on a newspaper must be able to work fa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wh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whos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which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w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9. All the people ____ work on a newspaper must be able to work fa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wh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whos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which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w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43000" y="189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. Last week I bought a story book ______ by Mark Tw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writ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 writte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writing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to wri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. Last week I bought a story book ______ by Mark Tw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writ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. writte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writing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to wri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1. We should keep on ______ English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ven after we leave schoo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tud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studi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tudying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D. stud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143000" y="189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1. We should keep on ______ English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ven after we leave schoo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tud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studi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studying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D. stud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43000" y="189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2. --- Would you mind calling 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ack tomorrow aga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---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Not at all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You’re welco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You’re righ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Nice to meet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2. --- Would you mind calling 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ack tomorrow aga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---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. Not at all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You’re welco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You’re righ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Nice to meet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66680" y="1447920"/>
            <a:ext cx="8686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r. Black _______ us English sin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e came here in 1990.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is teaching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eaches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has taugh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taught</a:t>
            </a:r>
            <a:br>
              <a:rPr sz="44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066680" y="1447920"/>
            <a:ext cx="8686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r. Black _______ us English sin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e came here in 1990.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is teaching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eaches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has taugh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taught</a:t>
            </a:r>
            <a:br>
              <a:rPr sz="44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单项填空测试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单项填空主要测试考生对基础语法，常用词汇，短语，习语和日常交际用语等知识的识记，识别，理解能力，并测试考生对上述知识的运用能力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90720" y="990720"/>
            <a:ext cx="8686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4. -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ust we get to the theatre befo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7:00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--- No, you _______. The play begi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t 8:0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ust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ca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wo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needn'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90720" y="990720"/>
            <a:ext cx="8686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4. -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ust we get to the theatre befo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7:00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--- No, you _______. The play begi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t 8:0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ust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ca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wo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D. needn'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90720" y="137160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5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The policeman warned the boys ____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play football on the stre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do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not t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90720" y="137160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5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The policeman warned the boys ____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play football on the stre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do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D. not t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90720" y="1066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6. We _______up by an alarm cloc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every morning, so we are nev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late for cla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ak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re woken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were woken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D. wo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90720" y="1066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6. We _______up by an alarm cloc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every morning, so we are nev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late for cla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ak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are woke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were woken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D. wo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2209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7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fter a careful examination, Doctor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Johnson asked me what _______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for breakfast.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had I ha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have I ha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I had ha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I have had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2209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7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fter a careful examination, Doctor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Johnson asked me what _______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for breakfast.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had I ha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have I ha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I had ha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I have had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2209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. _______ the heavy rain, they had to 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stop the basketball match.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. In the hope of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. Because of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C. In need of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. Instead of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2209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. _______ the heavy rain, they had to 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stop the basketball match.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. In the hope of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. Because of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C. In need of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. Instead of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会考说明中的样题解析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较易题和中等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 ---Is that Jan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Yes. Let’s go and say hello to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h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B. he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D.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9. -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I'm sorry I broke your coffee cu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--- Oh, really? 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It doesn't matter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I don't kn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It’s OK with me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You’re welc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9. -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I'm sorry I broke your coffee cu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--- Oh, really? 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A. It doesn't matter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I don't kn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It’s OK with me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You’re welc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0. The _____ you practise spoken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nglish, the better you can spea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uch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man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mor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mo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0. The _____ you practise spoken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nglish, the better you can spea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uch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man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mor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mo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1. Lily’s TV set is broken. She is going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o get it 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repaire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repair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repairing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repa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1. Lily’s TV set is broken. She is going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o get it 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repaire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repair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repairing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repa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72360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2. Ben will remember the happy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ays in China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before long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for ev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once aga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as a resul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72360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2. Ben will remember the happy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ays in China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before long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for eve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once aga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as a resul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3. Would you like a cup of tea 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hall we get down to busines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right aw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nd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or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but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s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3. Would you like a cup of tea 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hall we get down to busines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right aw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nd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o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but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s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会考说明中的样题解析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较易题和中等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 ---Is that Jan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Yes. Let’s go and say hello to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h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he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D.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90720" y="3049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4. Corn is a useful plant ____ can b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aten by both people and animal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whom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     B. wha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whic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w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90720" y="3049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4. Corn is a useful plant ____ can b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aten by both people and animal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whom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     B. wha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. whic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w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5. I’m sorry I’m a bit late. However,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got here ____ fast ____ I could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ore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B. much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D. as;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5. I’m sorry I’m a bit late. However,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got here ____ fast ____ I could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ore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B. much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D. as;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99072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6. The IBM Pentium III is not 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xpensive ____ the IBM Pentium I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o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B. as; s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; than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D. as; th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99072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6. The IBM Pentium III is not 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xpensive ____ the IBM Pentium I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so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B. as; s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; than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D. as; th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7. ---Don’t forget to post the letter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will you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____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have already posted   B. would post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ad already posted     D. was pos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7. ---Don’t forget to post the letter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will you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____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have already poste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B. would post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ad already posted     D. was pos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99072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8. ____ I prefer  a color TV, I have decided to buy a black and white one this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ince                 B. Although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Because             D.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99072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8. ____ I prefer  a color TV, I have decided to buy a black and white one this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ince   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Although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Because             D.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The Browns are changing ____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furnitu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his                 B. him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hem              D. the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9. If people don’t stop ____ the seas and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ivers, there will be no fish lef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to pollute         B. pollu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polluted            D. pollu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9. If people don’t stop ____ the seas and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ivers, there will be no fish lef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to pollute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. pollu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polluted            D. pollu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30. ---Can I have a look at your newspap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A.  Sure. Go ahea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B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Thanks. That’s very ki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C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No, thank you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Good! See you t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30. ---Can I have a look at your newspap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A. Sure. Go ahea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B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Thanks. That’s very ki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C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No, thank you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Good! See you t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较难题</a:t>
            </a: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 His daughter is always shy in ____ and she never dares to make a speech to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he public; the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public; the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he public;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public;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较难题</a:t>
            </a: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. His daughter is always shy in ____ and she never dares to make a speech to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the public; the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. public; the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the public;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public;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Rose was wild with joy ____ th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result of the examin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o      B. at      C. by      D.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Rose was wild with joy ____ th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result of the examin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o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a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C. by      D.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. A bullet hit the soldier and he wa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wounded in ____ le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      B. one     C. the     D. h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. A bullet hit the soldier and he wa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wounded in ____ le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      B. one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th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D. h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The Browns are changing ____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furnitu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his                 B. him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hem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D. the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4. I really appreciate ____ to relax with you on this nice isla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o have had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having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o have tim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to having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4. I really appreciate ____ to relax with you on this nice isla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o have had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having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o have tim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to having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5. ---I didn’t know this was a one-way street, offic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hat’s all r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I don’t believe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ow dare you say th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Sorry, but that’s no excus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5. ---I didn’t know this was a one-way street, offic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hat’s all r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I don’t believe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ow dare you say th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D. Sorry, but that’s no excus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6. ---Why haven’t you bought any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ut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____ to but I forgot abou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liked            B. wish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meant          D. expect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6. ---Why haven’t you bought any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ut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____ to but I forgot abou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liked            B. wish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mean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D. expect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7. ____ such heavy pollution already, it may now be too late to clean up the riv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Having suffered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Suff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o suff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Suffe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7. ____ such heavy pollution already, it may now be too late to clean up the riv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Having suffere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Suff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o suff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Suffe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8. The house needn’t ____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clean                B. clea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 be cleaned       D. clean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8.The house needn’t ____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clean                B. clea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.  be clean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D. clean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3. Every year, _____ smokers die from illness caused by smoki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millions of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 million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million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mill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9. During the discussion, we talked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____ with the foreigner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friendly         B. livel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orderly          D. polite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9. During the discussion, we talked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____ with the foreigner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friendly         B. livel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orderly      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D. polite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0.---Can you come on Monday or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uesd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I’m afraid ____ day is possi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either            B. neither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some             D. an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0.---Can you come on Monday or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uesd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I’m afraid ____ day is possi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either    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B. nei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some             D. an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1.---I wonder if you will go to the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ctu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If you do, so ____ 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m                 B. 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may                D. wi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1.---I wonder if you will go to the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ctu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If you do, so ____ 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m                 B. 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may        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D. wi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2.---Didn’t you watch the football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tch yesterd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____. I would like to have seen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Yes, I did         B. No, I didn’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Yes, I didn’t     D. No, I d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2.---Didn’t you watch the football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tch yesterd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____. I would like to have see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Yes, I did 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B. No, I didn’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Yes, I didn’t     D. No, I d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3. I usually spend as much time  as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can ____ my less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prepare         B. to prep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preparing      D. have prepar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3. I usually spend as much time as I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n ____ my less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prepare         B. to prep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C. prepar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D. have prepar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3. Every year, _____ smokers die from illness caused by smoki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. millions of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 million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million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mill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4. ---You’ve bought a new Englis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ictionar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o have I         B. So did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 I have         D. do I d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4. ---You’ve bought a new Englis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ictionar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o have I         B. So did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So I hav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D. do I d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5. You’ve bought a new Englis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ictionary.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o have I         B. So did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 I have         D. do I d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5. You’ve bought a new Englis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ictionary.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So have I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B. So did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 I have         D. do I d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ssignment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opy these exercises on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www. bjedu.gov.c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Do them again, pl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jg</cp:lastModifiedBy>
  <dcterms:modified xsi:type="dcterms:W3CDTF">2003-06-25T02:17:42Z</dcterms:modified>
  <cp:revision>23</cp:revision>
  <dc:subject/>
  <dc:title>高二英语</dc:title>
</cp:coreProperties>
</file>