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924-E864-4BF9-948C-B89AF62D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A723-3CBC-4182-B8DE-18772BF8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C19C-F34C-470D-A2DF-BC5309DD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FDA-2FAE-46FE-9AF2-FAA4E4D5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787D-3F2D-4646-9A59-5E391FCE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97A7-A5DA-4505-8866-6D812313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6E2-AFD0-4D17-91B4-F92FA7F0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94F1-AF80-4E25-B823-B539B62B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01E9-56AD-4EAE-8833-A61AAE7E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A80B-EB45-4962-860C-79CA0F91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EC7-145F-42C4-B9F5-2BDDCC01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AF32-F0FB-453B-B51A-8BA9A221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385B-4C06-416F-BFE4-1BCC9F9F24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45640" y="171360"/>
            <a:ext cx="42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Unit      8     first   aid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37120" y="52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94520" y="838080"/>
            <a:ext cx="58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学目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了解在各种意外的紧急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30200" y="144792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练习用英语知识表达应该做和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8440" y="198108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续学习并运用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6560" y="24638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93320" y="25290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一篇有关顺序表达方式的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040" y="30481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材分析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809880"/>
            <a:ext cx="839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单元的中心话题是意外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技能和语言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要围绕急救这一中心话题进行设计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热身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arming  up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六幅图片导入新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学生针对这些图片思考一些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63868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67080" y="35812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76600" y="371520"/>
            <a:ext cx="5374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谈论这些问题的情况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想到那些生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激发学生的学习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听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sten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发生在医院里的情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男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腿部受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另一个小女孩误喝了墨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材设计了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笔记形式的问题填空和填缺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目的是训练学生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获取急救方面的信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3240" y="3343320"/>
            <a:ext cx="556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口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peakin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继续围绕在家里如何确保家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安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训练学生听的能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说出更多的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发真实性的交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3920" y="485640"/>
            <a:ext cx="595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前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e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立了三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供学生讨论选择哪种提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可以各自表达自己的看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下面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下伏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99240" y="2711520"/>
            <a:ext cx="49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阅读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ead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救主要介绍一些常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们记住这方面的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24200" y="3809880"/>
            <a:ext cx="529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后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st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呈现三幅图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用 课文所学的知识说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中的人物正在如何运用急救知识救助伤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24360" y="5334120"/>
            <a:ext cx="40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问题是复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01124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1000" y="533520"/>
            <a:ext cx="613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言学习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anguage  study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词汇和语汇两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汇部分设计了五个情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帮助学生加深对新词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理解和记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指导学生养成通过语境记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语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是一个故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通过上下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境内容选择所给的词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深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49800" y="2971800"/>
            <a:ext cx="680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法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掌握对将来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   这三种情况的假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有虚拟语气在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句的用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ggest,recomme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有三大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语境填上合适的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虚拟语气连接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题改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63680" y="60948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些练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利于学生从理论到实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循序渐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比较牢固地掌握这部分的语法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88920" y="1735200"/>
            <a:ext cx="63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综合技能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tegrating   skills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部分谈如何处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isoning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如何进行急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进行分组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后写作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运用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序的短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2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81120" y="4311720"/>
            <a:ext cx="50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学习建议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ips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如何做一个急救箱的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本单元的话题服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95360" y="5454720"/>
            <a:ext cx="57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复习要点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eckpo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复习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造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型转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25480" y="86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课时安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26800" y="1924200"/>
            <a:ext cx="164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80520" y="1917720"/>
            <a:ext cx="5839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rming-up and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ord and 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1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2 and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07:53Z</dcterms:modified>
  <cp:revision>12</cp:revision>
  <dc:subject/>
  <dc:title>PowerPoint Presentation</dc:title>
</cp:coreProperties>
</file>