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67A-A166-4E41-95DB-809F7A4A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348-4D73-4094-A166-7C9936EB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4D0-6DAF-4E12-AD4E-42574632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613-E4C8-42F4-BFE5-C3630155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59B4-8B9F-41E7-9215-4B18BB5E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B3C6-F917-4ECA-8058-E2E9D2F6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CC99-A277-44BF-8146-097C11A0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AE2B-E5E4-40C4-91BC-48015BA3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115D-DF44-4B72-860E-7591BC9E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64A1-CE6F-48EB-B968-5D208065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5E5A-23DB-4908-AD2E-76E8FC69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4D6-6112-4475-AA3C-7C2AE150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4CB8-791F-4281-88EB-4CC715FF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D9D8-BAAE-4BAD-8356-A4EDF9E4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4F10-6176-4B01-BDF7-79376C3B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5527-7F80-4437-93B5-ABFF2DA8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7E62-4D4C-45D2-AE06-5635ADF9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BFB-E627-41C4-AFD1-DC902755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13F-50E0-42FA-8F79-FE01CF25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C48-89D5-4EFA-A1CD-A8205FE1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1CB-0F1E-4D30-B548-B3CF1C37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842-B4C9-4ADD-9F39-738496F2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E73-07BD-42E0-B705-E8349016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EDB-97B6-4398-8712-AAE8B3F7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B9A3-D1EB-4543-A6B8-35207D38BB48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1B05-EF65-4243-8423-848EBBE85D0C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1752480"/>
            <a:ext cx="82198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Period 1 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Warming up &amp; Listening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3808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Make him /her spit by patting him/her on the bac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To avoid this, we shouldn’t talk or laugh when ea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10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743200" cy="3189240"/>
          </a:xfrm>
          <a:prstGeom prst="rect">
            <a:avLst/>
          </a:prstGeom>
          <a:ln w="0">
            <a:noFill/>
          </a:ln>
        </p:spPr>
      </p:pic>
      <p:pic>
        <p:nvPicPr>
          <p:cNvPr id="145" name="11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844640" cy="4267440"/>
          </a:xfrm>
          <a:prstGeom prst="rect">
            <a:avLst/>
          </a:prstGeom>
          <a:ln w="0">
            <a:noFill/>
          </a:ln>
        </p:spPr>
      </p:pic>
      <p:pic>
        <p:nvPicPr>
          <p:cNvPr id="146" name="12" descr=""/>
          <p:cNvPicPr/>
          <p:nvPr/>
        </p:nvPicPr>
        <p:blipFill>
          <a:blip r:embed="rId3"/>
          <a:stretch/>
        </p:blipFill>
        <p:spPr>
          <a:xfrm>
            <a:off x="3429000" y="1924200"/>
            <a:ext cx="38098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685800"/>
            <a:ext cx="8964720" cy="59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e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ok at the pictures on P.58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ere are the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at do you guess has happened to the   boy and the girl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ow read the requirements quickly and find out what to do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-Listening:  listen to the tape and finish the exercises on p.58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1.Listen to the tape. What happened to each chil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1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2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4114800"/>
          <a:ext cx="8457840" cy="2435400"/>
        </p:xfrm>
        <a:graphic>
          <a:graphicData uri="http://schemas.openxmlformats.org/drawingml/2006/table">
            <a:tbl>
              <a:tblPr/>
              <a:tblGrid>
                <a:gridCol w="4069440"/>
                <a:gridCol w="2314080"/>
                <a:gridCol w="207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hen did it happ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as any first aid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If so what was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-8640" y="3352680"/>
            <a:ext cx="90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2. Listen to the tape again and answer the questio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 Listen to the nurse’s questions in the first dialogue and write them dow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1.Can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2.What’s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What did you do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4.Does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52480"/>
            <a:ext cx="4495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9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27636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8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3848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6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happened to the gir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 before the doctor com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do you already know about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018-1-1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87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896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ming-up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ainstorming: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words can you think of when you talk about accidents and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962520"/>
            <a:ext cx="3048120" cy="99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Acc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048120" y="342864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r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200040"/>
            <a:ext cx="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le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57800" y="335232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hok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3733560"/>
            <a:ext cx="762120" cy="5331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352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urn/catch fi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724280"/>
            <a:ext cx="68580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5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952880"/>
            <a:ext cx="152280" cy="9144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electr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4952880"/>
            <a:ext cx="30456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w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6000" y="4266720"/>
            <a:ext cx="990720" cy="2286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0920" y="4724280"/>
            <a:ext cx="76176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scio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91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5b5249"/>
                </a:solidFill>
                <a:latin typeface="Times New Roman"/>
              </a:rPr>
              <a:t>… …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19320"/>
            <a:ext cx="8316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air Wor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 on P.57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447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heck to see if he /she is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ry to start his /her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Never swim in deep wa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Call for a doctor or an 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Never pull her out of the c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Find enough people to lift  the car safely and take her to hospital at o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71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Look at both sides when crossing the stre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ll 119 first and tell them the exact address on the pho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195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If someone is badly burnt,we should call 120 to ask for an ambul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8640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ver play with fi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careful with g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ake sure that all the electric wires are sa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Try to stop the blee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4114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Press a handkerchief onto the bleeding point and hold it th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67080"/>
            <a:ext cx="4191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Hold up the part of body which is bleeding if possi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860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Go to the hospital at o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29528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ever pull it out of the cu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019-1-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44956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f the cut is not serious, we can wash the area of cut,dry it and cover it with a piece of dry and clean clo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449568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45:31Z</dcterms:created>
  <dc:creator>0</dc:creator>
  <dc:description/>
  <dc:language>en-US</dc:language>
  <cp:lastModifiedBy>jackal</cp:lastModifiedBy>
  <dcterms:modified xsi:type="dcterms:W3CDTF">2001-05-30T17:20:42Z</dcterms:modified>
  <cp:revision>23</cp:revision>
  <dc:subject/>
  <dc:title>PowerPoint 演示文稿</dc:title>
</cp:coreProperties>
</file>