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wmf" ContentType="image/x-wmf"/>
  <Override PartName="/ppt/media/image16.png" ContentType="image/pn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3279-A40B-478D-B3E4-211B332F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C07-17DA-4A64-AA3B-6C9A34A8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26E-81FD-4AF3-8BE7-6B37383A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9BD-9E82-459D-BDB0-AC62C792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83B-625D-47B2-8CF3-9550CA8A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223-616A-4715-97DF-2202F1BA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29E-9901-4E57-A007-178F9BB1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BCA-1BE3-44CC-8328-450D4516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F73-4EF0-4438-ACBD-C43ED9E4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6C4-6C68-45EA-BF89-517CE998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729F-D77B-45E5-BD7F-C12D101B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D63-4B51-4F6C-BAFF-8252F60C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4F96-852B-4D5D-B36D-D8029EE4B7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45_" descr=""/>
          <p:cNvPicPr/>
          <p:nvPr/>
        </p:nvPicPr>
        <p:blipFill>
          <a:blip r:embed="rId1"/>
          <a:stretch/>
        </p:blipFill>
        <p:spPr>
          <a:xfrm>
            <a:off x="5729400" y="2890800"/>
            <a:ext cx="3338280" cy="328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447920"/>
            <a:ext cx="5791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8 First A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086560" y="327672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温岭二中       高二备课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7200" y="91440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should we do when we have che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 ABC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9200" y="1981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720" y="2666880"/>
            <a:ext cx="66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do first aid correctly after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ssag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8080" y="304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20136_" descr=""/>
          <p:cNvPicPr/>
          <p:nvPr/>
        </p:nvPicPr>
        <p:blipFill>
          <a:blip r:embed="rId1"/>
          <a:stretch/>
        </p:blipFill>
        <p:spPr>
          <a:xfrm>
            <a:off x="533520" y="3675240"/>
            <a:ext cx="2209680" cy="2039760"/>
          </a:xfrm>
          <a:prstGeom prst="rect">
            <a:avLst/>
          </a:prstGeom>
          <a:ln w="0">
            <a:noFill/>
          </a:ln>
        </p:spPr>
      </p:pic>
      <p:pic>
        <p:nvPicPr>
          <p:cNvPr id="113" name="bd20062_" descr=""/>
          <p:cNvPicPr/>
          <p:nvPr/>
        </p:nvPicPr>
        <p:blipFill>
          <a:blip r:embed="rId2"/>
          <a:stretch/>
        </p:blipFill>
        <p:spPr>
          <a:xfrm>
            <a:off x="3124080" y="3860640"/>
            <a:ext cx="1905120" cy="1778040"/>
          </a:xfrm>
          <a:prstGeom prst="rect">
            <a:avLst/>
          </a:prstGeom>
          <a:ln w="0">
            <a:noFill/>
          </a:ln>
        </p:spPr>
      </p:pic>
      <p:pic>
        <p:nvPicPr>
          <p:cNvPr id="114" name="first%20rescue(%20hand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36640" y="152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1320" y="762120"/>
            <a:ext cx="76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y saying “ Seconds count in an emergency, 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writer means 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14720" y="1676520"/>
            <a:ext cx="729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count 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calm down, in an emergency, just s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880" y="3886200"/>
            <a:ext cx="8547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at should you do if you want to do first a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orrectl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 with a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y ca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4960" y="177840"/>
            <a:ext cx="9119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ccording to the passage, people in the accident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n be helped by anyone who’d  like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Should be waken up as soon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 be put in the recovery position when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n given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can be given first aid even without check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800" y="3197160"/>
            <a:ext cx="8195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ich of the following sentences best exp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 main idea of  the pass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R ABC should be reme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emembering  the letters DR ABC is enough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first aid is important and what the let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 stand for in an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hat the letters DR AB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9720" y="447840"/>
            <a:ext cx="913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 the passage., the author seems to be 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ing the meaning of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ing  us the importance of 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ome basic information about 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ing the importance of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6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3280" y="-2232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rue or 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" y="7113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5720" y="650880"/>
            <a:ext cx="69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do nothing but call an ambu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the police when someone is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720" y="17668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7280" y="1720800"/>
            <a:ext cx="71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you don’t know about first aid, never 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ve the wounde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320" y="2681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2560" y="2666880"/>
            <a:ext cx="65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can check blood circulating only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 for eye move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680" y="36720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370188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f the person is not breathing , we must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 breathing in ten minu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47386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2960" y="4692600"/>
            <a:ext cx="69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make sure th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way  is clear 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5008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6800" y="556272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en the accident happens, go to s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nded people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6400" y="763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t-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400" y="838080"/>
            <a:ext cx="78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at the pictures on Page60. Use what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t from the text to explain what the peopl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n the pi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2590920"/>
            <a:ext cx="18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Picture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7480" y="3352680"/>
            <a:ext cx="68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is gently tipping the person’s he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make sure that his airway is 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20062_" descr=""/>
          <p:cNvPicPr/>
          <p:nvPr/>
        </p:nvPicPr>
        <p:blipFill>
          <a:blip r:embed="rId1"/>
          <a:stretch/>
        </p:blipFill>
        <p:spPr>
          <a:xfrm>
            <a:off x="1828800" y="4826160"/>
            <a:ext cx="2438280" cy="2031840"/>
          </a:xfrm>
          <a:prstGeom prst="rect">
            <a:avLst/>
          </a:prstGeom>
          <a:ln w="0">
            <a:noFill/>
          </a:ln>
        </p:spPr>
      </p:pic>
      <p:pic>
        <p:nvPicPr>
          <p:cNvPr id="141" name="bd20136_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59960" y="2286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Picture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0880" y="83808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not breathing, we can 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th-to-mouth way to start his/her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must be done within five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160" y="25146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760" y="3048120"/>
            <a:ext cx="789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we should cover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 clean piece of cloth and press on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op the blee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RT_020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急救3" descr=""/>
          <p:cNvPicPr/>
          <p:nvPr/>
        </p:nvPicPr>
        <p:blipFill>
          <a:blip r:embed="rId2"/>
          <a:stretch/>
        </p:blipFill>
        <p:spPr>
          <a:xfrm>
            <a:off x="201600" y="4443480"/>
            <a:ext cx="2313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31360" y="22860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0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6960" y="885960"/>
            <a:ext cx="78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k in pairs. Use the letters DR ABC to tell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 how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9120" y="2514600"/>
            <a:ext cx="69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, you should 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, 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, _____________________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8280" y="68580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brea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480" y="133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omic Sans MS"/>
              </a:rPr>
              <a:t>Situation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280" y="176544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eeding bad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60" y="2940120"/>
            <a:ext cx="29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ses one 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his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00" y="4311720"/>
            <a:ext cx="28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meo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dly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" y="5302080"/>
            <a:ext cx="28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6858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mustn’t move him.                                                 You must ge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17208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You must try to start his her breathing at once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7417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must try to stop   the bleeding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886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old up the part of the body which is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286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E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he mouth and tak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od out at the back of the mouth if any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313000">
            <a:off x="2681280" y="15998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35000">
            <a:off x="2742840" y="2590560"/>
            <a:ext cx="1357200" cy="75960"/>
          </a:xfrm>
          <a:prstGeom prst="rightArrow">
            <a:avLst>
              <a:gd name="adj1" fmla="val 50000"/>
              <a:gd name="adj2" fmla="val 4466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57400">
            <a:off x="2743200" y="36572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7547000">
            <a:off x="1035720" y="2926440"/>
            <a:ext cx="4253040" cy="75960"/>
          </a:xfrm>
          <a:prstGeom prst="rightArrow">
            <a:avLst>
              <a:gd name="adj1" fmla="val 50000"/>
              <a:gd name="adj2" fmla="val 1399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919000">
            <a:off x="2528640" y="563832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WINDPOW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981080" y="1143000"/>
            <a:ext cx="3581640" cy="26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3640" y="62856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he third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6440" y="169560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Teaching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960" y="2682720"/>
            <a:ext cx="93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the students’ reading 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the students to master the new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 Let the students know more about first a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Swiss" descr=""/>
          <p:cNvPicPr/>
          <p:nvPr/>
        </p:nvPicPr>
        <p:blipFill>
          <a:blip r:embed="rId2"/>
          <a:stretch/>
        </p:blipFill>
        <p:spPr>
          <a:xfrm>
            <a:off x="1600200" y="0"/>
            <a:ext cx="5715000" cy="48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34304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mbu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救护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救护车2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518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14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3429000" cy="2178000"/>
          </a:xfrm>
          <a:prstGeom prst="rect">
            <a:avLst/>
          </a:prstGeom>
          <a:ln w="0">
            <a:noFill/>
          </a:ln>
        </p:spPr>
      </p:pic>
      <p:pic>
        <p:nvPicPr>
          <p:cNvPr id="55" name="15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335268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images1" descr=""/>
          <p:cNvPicPr/>
          <p:nvPr/>
        </p:nvPicPr>
        <p:blipFill>
          <a:blip r:embed="rId4"/>
          <a:stretch/>
        </p:blipFill>
        <p:spPr>
          <a:xfrm>
            <a:off x="4191120" y="3124080"/>
            <a:ext cx="396216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70360" y="25336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2320" y="25336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32907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y the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eave the person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e/h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26877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20040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2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ephone for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 the person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to stay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ve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0" y="403848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not to w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7880" y="143676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77960" y="14731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n’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00" y="304920"/>
            <a:ext cx="807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someone is badly hurt in a traffic accid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……/ mustn’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2193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is Firs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5724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is ___ _______ __ giving _______ ____ to a person before a doctor can be f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766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 scienc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60496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dical c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6920" y="120600"/>
            <a:ext cx="57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fore the doctor comes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e most importa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06360" y="15552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Look the outl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4200" y="762120"/>
            <a:ext cx="66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asked to write a text about 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hich of these outlin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you us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3120" y="167652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may have a discussion in pairs and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ask some of you to tell us your opinion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60" y="2819520"/>
            <a:ext cx="388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rst aid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2743200"/>
            <a:ext cx="464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.  Learn how to giv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 . First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3. Second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. Third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2920" y="4572000"/>
            <a:ext cx="53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two types of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second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48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3160" y="243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448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360" y="1522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st-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6160" y="1143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Which outline is used in the pass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4960" y="205740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topic of the paragraph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3640" y="3139920"/>
            <a:ext cx="197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3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5-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5560" y="30481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2760" y="3657600"/>
            <a:ext cx="56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is to stay ca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4920" y="4191120"/>
            <a:ext cx="56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to think fast,we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DR ABC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5640" y="5105520"/>
            <a:ext cx="57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checked the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should give the first aid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and call an ambu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4400" y="6094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880" y="53352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10666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is first aid important in our daily lif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5160" y="14479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6600" y="1905120"/>
            <a:ext cx="729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most important thing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dealing with an emergenc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1960" y="2757600"/>
            <a:ext cx="16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3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120" y="297180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hospitals recommend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1520" y="358128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letters DR ABC stand f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3240" y="1429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sten to the tape and answer the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9625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are three important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478400"/>
            <a:ext cx="739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 that the person can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not breathing, you must try to start his breathing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bleeding badly, you must try to stop the blee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4:35Z</dcterms:modified>
  <cp:revision>24</cp:revision>
  <dc:subject/>
  <dc:title>PowerPoint Presentation</dc:title>
</cp:coreProperties>
</file>