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B666A-94B2-484B-AC0C-A4EE06C1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C03D1-6431-429D-B94E-E0D3CFFE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2682E-FF59-41F3-A513-25412AFE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8B090-720E-49FA-996E-144F8913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E238-D44D-4AB1-9A1B-9A2B9042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722A-7486-4AD5-9BEF-E837AC0A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1578-84B6-475C-83ED-AB90FE61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81E5-3A39-4EB9-94A1-6129AA4B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4CDD-F4FC-471D-A4A3-BD80A53B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3E45-1E26-4155-894E-4B4BE285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78F1-CDAD-4193-ABFF-000A9588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53D0D-DC30-4AED-9091-E313FE7F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C68A-2B90-4E8E-A7BF-AF979614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390B-E29C-465B-9F1A-0E62597A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1890-8822-4D6B-983A-FBD56030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FA1B-79B8-4900-9F1A-EFD1E033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A8AF-A534-415B-83B8-413D252E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1638D-8709-4C7C-8978-6493A57E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DD5E7-1200-4B64-ABB5-31F720C4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18A84-2476-44B8-9162-CE281CBC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08699-0168-4884-ACE2-E39FDFD3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4999D-DA2A-4110-83EB-D970BC67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12053-8280-4A05-B4D6-86B20028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681B-CD80-4508-AED1-B7448825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D5B0-3694-4877-84CE-E41E441BE49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4CDA-9480-497E-A9FB-B4BA21272E5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730950&amp;memlevel=C&amp;a=c&amp;q=disabled%20man&amp;s=1&amp;e=30&amp;show=all&amp;c=&amp;cid=&amp;findincat=&amp;g=&amp;cc=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341542&amp;memlevel=C&amp;a=c&amp;q=handicapped&amp;s=91&amp;e=106&amp;show=all&amp;c=&amp;cid=&amp;findincat=&amp;g=&amp;cc=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297738&amp;memlevel=C&amp;a=c&amp;q=handicapped&amp;s=91&amp;e=106&amp;show=all&amp;c=&amp;cid=&amp;findincat=&amp;g=&amp;cc=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902786&amp;memlevel=B&amp;a=c&amp;q=handicapped&amp;s=61&amp;e=90&amp;show=all&amp;c=&amp;cid=&amp;findincat=&amp;g=&amp;cc=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902048&amp;memlevel=C&amp;a=c&amp;q=handicapped&amp;s=31&amp;e=60&amp;show=all&amp;c=&amp;cid=&amp;findincat=&amp;g=&amp;cc=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BU2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Disability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(A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星期五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讲课教师   方芳  北京四中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870120"/>
            <a:ext cx="73152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7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Who is the m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y did he come to Chin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Does he need special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quipment to help him g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round? Wh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057400"/>
            <a:ext cx="44640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52360" y="946080"/>
            <a:ext cx="745812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7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Who is the m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y did he come to Chin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Does he need special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quipment to help him g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round? Wh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ckground introduction</a:t>
            </a:r>
            <a:br>
              <a:rPr sz="48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Stephen Hawki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895480" y="2362320"/>
            <a:ext cx="314028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Hawking_2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200400" y="685800"/>
            <a:ext cx="2682720" cy="309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3732840"/>
            <a:ext cx="781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  <a:ea typeface="Times New Roman"/>
              </a:rPr>
              <a:t>Stephen Hawking was born on 8 January 1942, the 300th anniversary of Galileo's death. He is considered as the greatest mind in physics since Albert Einste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3" descr="Stephen Hawking"/>
          <p:cNvPicPr/>
          <p:nvPr/>
        </p:nvPicPr>
        <p:blipFill>
          <a:blip r:embed="rId1"/>
          <a:stretch/>
        </p:blipFill>
        <p:spPr>
          <a:xfrm>
            <a:off x="1676520" y="9144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1525320"/>
            <a:ext cx="6481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1959 won a scholarship to Oxford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 University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                  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1962 went to Cambridge 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University  for a PhD in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cosmology.                         1968 published </a:t>
            </a:r>
            <a:r>
              <a:rPr b="1" i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Large Scale </a:t>
            </a:r>
            <a:r>
              <a:rPr b="1" i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Structure of Space-Time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1" descr="Stephen Hawking"/>
          <p:cNvPicPr/>
          <p:nvPr/>
        </p:nvPicPr>
        <p:blipFill>
          <a:blip r:embed="rId2"/>
          <a:stretch/>
        </p:blipFill>
        <p:spPr>
          <a:xfrm>
            <a:off x="6553080" y="396252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48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68440" y="1371600"/>
            <a:ext cx="328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Main ev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3" descr="Stephen Hawking"/>
          <p:cNvPicPr/>
          <p:nvPr/>
        </p:nvPicPr>
        <p:blipFill>
          <a:blip r:embed="rId1"/>
          <a:stretch/>
        </p:blipFill>
        <p:spPr>
          <a:xfrm>
            <a:off x="1447920" y="121932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125" name="pic1" descr="Stephen Hawking"/>
          <p:cNvPicPr/>
          <p:nvPr/>
        </p:nvPicPr>
        <p:blipFill>
          <a:blip r:embed="rId2"/>
          <a:stretch/>
        </p:blipFill>
        <p:spPr>
          <a:xfrm>
            <a:off x="6324480" y="419112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39840" y="1600200"/>
            <a:ext cx="328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Main ev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3124080"/>
            <a:ext cx="594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1975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received the Albert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Einstein Award in the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eoretical phys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1988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wrote </a:t>
            </a:r>
            <a:r>
              <a:rPr b="0" i="1" lang="en-US" sz="3200" spc="-1" strike="noStrike">
                <a:solidFill>
                  <a:srgbClr val="ffff66"/>
                </a:solidFill>
                <a:latin typeface="Tahoma"/>
              </a:rPr>
              <a:t>A Brief 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0" i="1" lang="en-US" sz="3200" spc="-1" strike="noStrike">
                <a:solidFill>
                  <a:srgbClr val="ffff66"/>
                </a:solidFill>
                <a:latin typeface="Tahoma"/>
              </a:rPr>
              <a:t>of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4038120"/>
            <a:ext cx="763272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"My goal is simple. It is 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understanding of the universe, w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it is as it is and why it exists at all."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00212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8080" y="991800"/>
            <a:ext cx="77043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Stephen Hawking say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 try to lead as normal a life as possible, and not think about my condition. My disease has not prevented me from having a very attractive family, and being successful in my 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1526400"/>
            <a:ext cx="72723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 student of Hawking says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Stephen Hawking is my hero. As I read his ideas about space, time, black holes, and the Universe in which we live, I was amazed at how easily he explained the exciting but often complicated subjects explored in the book.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Tahoma"/>
              </a:rPr>
              <a:t>Unit 20 Disability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743200" y="2057400"/>
            <a:ext cx="31021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55640" y="1366200"/>
            <a:ext cx="784872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(continued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He is a man so gifted that, despite being unable to use pen and paper, he is able to solve problems by forming the necessary diagrams and manipulating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操作）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the complex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equations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方程式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）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in his head.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1144080"/>
            <a:ext cx="778176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8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Why did the professor’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voice  sound stran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at did he use to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mmunicate  with oth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38080" y="991800"/>
            <a:ext cx="7705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8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What is the name of his book mentioned in our tex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Can disabled people lead a normal life? Give me some exampl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Stephen Hawk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3" descr="Stephen Hawking"/>
          <p:cNvPicPr/>
          <p:nvPr/>
        </p:nvPicPr>
        <p:blipFill>
          <a:blip r:embed="rId1"/>
          <a:srcRect l="4151" t="4151" r="3991" b="3991"/>
          <a:stretch/>
        </p:blipFill>
        <p:spPr>
          <a:xfrm>
            <a:off x="2819520" y="13716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9280" y="4653000"/>
            <a:ext cx="82234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awking asking 'Can you hear me‘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t his Stanford Lectur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513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42640" y="4724280"/>
            <a:ext cx="7543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awking tells Einstein, 'Wro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gain, Albert'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8006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L. van Beethoven"/>
          <p:cNvPicPr/>
          <p:nvPr/>
        </p:nvPicPr>
        <p:blipFill>
          <a:blip r:embed="rId1"/>
          <a:stretch/>
        </p:blipFill>
        <p:spPr>
          <a:xfrm>
            <a:off x="2971800" y="990720"/>
            <a:ext cx="3243240" cy="424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666880" y="5181480"/>
            <a:ext cx="367344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Beethoven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66680" y="1143360"/>
            <a:ext cx="7272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Lesson 7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Why did the professor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voice  sound stran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at did he us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mmunicate with oth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38080" y="1068120"/>
            <a:ext cx="77058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8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What is the name of his book mentioned in our tex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Can disabled people lead a normal life? Give me some exampl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410480"/>
            <a:ext cx="82090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Useful words &amp; expres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      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urn 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(Line 2 ,Page 43)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原文</a:t>
            </a:r>
            <a:r>
              <a:rPr b="0" lang="zh-CN" sz="2800" spc="-1" strike="noStrike">
                <a:solidFill>
                  <a:srgbClr val="ffff66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opefully tomorrow w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urn out f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7-78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	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543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Goals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教学目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. Getting close to disabled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eople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走近残疾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b. Introduction about Stephen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awking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介绍史帝文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.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霍金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. Useful words &amp; expression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有用的词与表达法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66680" y="762120"/>
            <a:ext cx="7561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urn 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ove to be, show the resul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证明是；结果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I was afraid the things won’t turn out smooth for y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2. Do you think the crops will turn out well this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3. It turned out that he was Jim’s fa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1799280"/>
            <a:ext cx="7704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urn out: </a:t>
            </a:r>
            <a:r>
              <a:rPr b="1" i="1" lang="en-US" sz="4000" spc="-1" strike="noStrike">
                <a:solidFill>
                  <a:srgbClr val="ffff66"/>
                </a:solidFill>
                <a:latin typeface="Tahoma"/>
              </a:rPr>
              <a:t>come out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出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We won’t turn out in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foggy weath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Crowds turned out for the procession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游行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1722960"/>
            <a:ext cx="77198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urn out: </a:t>
            </a:r>
            <a:r>
              <a:rPr b="1" i="1" lang="en-US" sz="4000" spc="-1" strike="noStrike">
                <a:solidFill>
                  <a:srgbClr val="ffff66"/>
                </a:solidFill>
                <a:latin typeface="Tahoma"/>
              </a:rPr>
              <a:t>produce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制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Our new factory is turning out large quantities of goo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he school has turned out some first rate schola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04960" y="1676880"/>
            <a:ext cx="7002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ream of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梦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(Line 4, Page 43) </a:t>
            </a:r>
            <a:r>
              <a:rPr b="0" lang="zh-CN" sz="3600" spc="-1" strike="noStrike">
                <a:solidFill>
                  <a:srgbClr val="ffff66"/>
                </a:solidFill>
                <a:latin typeface="Tahoma"/>
              </a:rPr>
              <a:t>原文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’ve always dreamt of com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o China, and now my drea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as come tru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1141560"/>
            <a:ext cx="746784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ream of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梦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1.The soldier often dreamt of  h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2. I wouldn’t dream of do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such a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3. When I was young, I  dreamed of becoming a  soldi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reamer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做梦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1296360"/>
            <a:ext cx="7416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even if /though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即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(Line 9, Page 43)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原文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But I’m determined to enjoy myself as much as possible, even though I can’t see everyth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213480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e won’t leave the TV set even though he is eating his su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Even if we could afford it, we would not go abroad for our holiday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91880" y="1066680"/>
            <a:ext cx="52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even if /though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即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1173960"/>
            <a:ext cx="763452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isabl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(Line 1-2, Page 44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）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原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he case of Professor Stephen Hawking is one example of the many disabled people who have achieved success in their chosen field of 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71600" y="1828800"/>
            <a:ext cx="693432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disabled </a:t>
            </a:r>
            <a:r>
              <a:rPr b="0" i="1" lang="en-US" sz="3600" spc="-1" strike="noStrike">
                <a:solidFill>
                  <a:srgbClr val="ffff66"/>
                </a:solidFill>
                <a:latin typeface="Tahoma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ahoma"/>
              </a:rPr>
              <a:t>unable to use part of your body in the normal way, either from birth or because of an accident or illness 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残疾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8080" y="990720"/>
            <a:ext cx="7848720" cy="48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disabled </a:t>
            </a:r>
            <a:r>
              <a:rPr b="0" i="1" lang="en-US" sz="3600" spc="-1" strike="noStrike">
                <a:solidFill>
                  <a:srgbClr val="ffff66"/>
                </a:solidFill>
                <a:latin typeface="Tahoma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isabled passengers can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ravel free on public transpor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All rooms in the hotel have facilities for the disabl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isability 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Warming-up exercises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What kind of people can be called the disabled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at is your attitude towards the disabled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14400" y="1294560"/>
            <a:ext cx="75614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Pract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ahoma"/>
              </a:rPr>
              <a:t>Fill in the blanks with the words given, and pay attention to the for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evices(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设施）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That Help The Dea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221292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1478880"/>
            <a:ext cx="78483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Devices(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设施）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That Help The D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ahoma"/>
              </a:rPr>
              <a:t>device, ring; hear; call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How does a deaf person know when his doorbell is ___ or when someone is ___ her? Can a deaf person wake up with an alarm clock? A __ person can do all of these, but deaf people need special ___ to help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1143000"/>
            <a:ext cx="800100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Devices(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设施）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That Help The D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ahoma"/>
              </a:rPr>
              <a:t>device, ring; hear; call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How does a deaf person know when his doorbell is </a:t>
            </a:r>
            <a:r>
              <a:rPr b="1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ringing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or when someone is </a:t>
            </a:r>
            <a:r>
              <a:rPr b="1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calling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her? Can a deaf person wake up with an alarm clock? A </a:t>
            </a:r>
            <a:r>
              <a:rPr b="1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hearing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person can do all of these, but deaf people need special </a:t>
            </a:r>
            <a:r>
              <a:rPr b="1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devices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to help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-278928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14400" y="838080"/>
          <a:ext cx="6858000" cy="120024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120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Devices(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设施）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That Help The Dea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type, Telecommunic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1066680" y="2329200"/>
            <a:ext cx="7162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  ____ Device for the deaf helps them talk on the phone. When the phone rings, a light flashes. The person picks up the phone, pu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on the TDD, _____ and reads the convers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278928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14400" y="838080"/>
          <a:ext cx="6858000" cy="100512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Devices(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设施）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That Help The Dea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type,Telecommunic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1066680" y="2329200"/>
            <a:ext cx="7162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Telecommunication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Device for the deaf helps them talk on the phone. When the phone rings, a light flashes. The person picks up the phone, puts on the TDD,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types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nd reads the convers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43000" y="838080"/>
          <a:ext cx="7010280" cy="120024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120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Devices(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设施）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That Help The Dea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shake; like; vibrate; wak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685800" y="2451600"/>
            <a:ext cx="77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Hate ____ up to a blaring alarm? Deaf people use ____ clocks. The alarm ____ the pillow. It feels ____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n earthquake, but it makes us jump out of b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43000" y="838080"/>
          <a:ext cx="7010280" cy="115092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Devices(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设施）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That Help The Dea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shake; like; vibrate; wak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685800" y="2208600"/>
            <a:ext cx="777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Hate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waking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up to a blaring alarm? Deaf people use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vibrating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clocks. The alarm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shakes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e pillow. It feels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like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n earthquake, but it makes us jump out of b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26920" y="364680"/>
            <a:ext cx="7274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ome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1. Do Ex.2 on Page 10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2. Make up two sentences for eac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word and phrase we’ve learn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tod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3. *Find other information on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 famous disabled people on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Interne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1066680"/>
            <a:ext cx="8534160" cy="49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Warming-up exerci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If you were a disabled person,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what kind of help do you wa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o  get mo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What can we do to help thos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isabled people live a better lif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1"/>
          </p:cNvPr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590920" y="1523880"/>
            <a:ext cx="3744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1"/>
          </p:cNvPr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514600" y="160020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916280"/>
            <a:ext cx="3166920" cy="30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>
            <a:hlinkClick r:id="rId1"/>
          </p:cNvPr>
          <p:cNvPicPr/>
          <p:nvPr/>
        </p:nvPicPr>
        <p:blipFill>
          <a:blip r:embed="rId2">
            <a:lum bright="18000"/>
          </a:blip>
          <a:srcRect l="0" t="0" r="10316" b="10297"/>
          <a:stretch/>
        </p:blipFill>
        <p:spPr>
          <a:xfrm>
            <a:off x="2819520" y="1447920"/>
            <a:ext cx="29667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ang Lingdi</cp:lastModifiedBy>
  <dcterms:modified xsi:type="dcterms:W3CDTF">2003-06-10T14:30:35Z</dcterms:modified>
  <cp:revision>159</cp:revision>
  <dc:subject/>
  <dc:title>PowerPoint Presentation</dc:title>
</cp:coreProperties>
</file>