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F929-5F76-47DE-BF5D-FA2B6CEF4D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6A2-7BF8-4008-86B5-BCA357B9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16C-0929-4E11-AA36-46CB768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7B7-AC02-4FE4-B920-580699C3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D0A-92A9-4298-AA94-423CF507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149-E674-46BC-B9D4-61DFC990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AC5-6DFF-4325-AC06-D3D8BC3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83FD-E6B1-4EFF-A8A1-97B5A8F1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B80-8442-4671-B6BA-A55DDCD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7F8-4174-423C-B50F-5B44CF65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F2D2-1F4E-4412-B50C-9271D77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E571-B585-47D2-9C09-DEC3002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DE7-3232-43DD-BC66-2E1CE886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AD42-97E7-41A6-9941-6D41677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66F-31D0-4471-8EF4-25233FF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01D-BA81-4579-9ECB-1F30D009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FD4-25C9-4D65-8180-29543B2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C0CD-C7D4-4FCF-8DC1-3765E3F7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3A4-D5F8-4A51-8176-EF43520D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5A1-7C6E-4081-9230-64F44007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D07-D1CD-4A1C-8FC4-23C2849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4E3-FFD8-4E0E-B4A6-E5AEF896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85-F5C3-42E5-8CBF-494B6F2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537-3DB0-49DE-8A69-965EAE7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88D-6A3E-4B66-A350-A63E4E2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FFE-9A04-4600-BB7B-B1678D1FBB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74B0-949E-4B9B-A35C-FA60A1F6AB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B. an; a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n; 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few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few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yourself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yourself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单项填空测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难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has taugh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has tau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单项填空测试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单项填空主要测试考生对基础语法，常用词汇，短语，习语和日常交际用语等知识的识记，识别，理解能力，并测试考生对上述知识的运用能力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are wok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 had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I had h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Because of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. Because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t doesn't matter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It doesn't matt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for ev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for ev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o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e already posted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e already post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B. Although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lthoug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. 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.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B. at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C. the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t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eant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ean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ing suffere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ing suffe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 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 be cleaned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  be clean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B. neither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ei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 as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preparing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as I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 prepar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o I hav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 have I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opy these exercises 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www. bjedu.gov.c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Do them again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5T02:17:42Z</dcterms:modified>
  <cp:revision>23</cp:revision>
  <dc:subject/>
  <dc:title>高二英语</dc:title>
</cp:coreProperties>
</file>