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382E-9A3C-4A45-BA14-F42C5FAF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5073-B9E8-4A99-9F02-3EA94B8B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CA61-A977-42B9-8C51-7496080E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0097-4165-41F5-B435-3C5429A7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BE6D-FA21-48BA-9713-8E3AEF09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92C-5BB2-4ACA-870E-89B8F20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12A0-B136-40AD-9DF6-C7946E56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71DE-B6DE-4DBF-AF09-0581A978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0CD0-F273-4E99-84E5-F5D40AD2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7265-1590-4697-AE91-74EB029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1B3D-31B9-4E44-B58B-A70C694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3678-0820-470C-BE40-DE716B6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4650-4703-4B11-9AC8-A26FB12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F14-E286-4A3C-BB33-D9160BD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5A0-0E1C-4DC3-8030-9C422FC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6FB-3067-43BC-B74B-0041A3DA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470F-48C5-4D05-B325-CC4EBE64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EBFB-67ED-4C01-BBE4-5F88CF5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F573-BC2D-45FB-A101-3217A66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94C1-4067-487D-8533-5076913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1123-40DB-4BAA-BAB2-ECA43EFE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D97C-A70A-4416-8F62-9CF8C668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121E-F032-4646-9484-8C5EF3B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01F3-02A6-40A1-B1FF-503327F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CE4-2DA5-481E-A7B9-D8BEF281EA0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5F8E-79FD-4D71-B921-16A08F872A9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0950&amp;memlevel=C&amp;a=c&amp;q=disabled%20man&amp;s=1&amp;e=30&amp;show=all&amp;c=&amp;cid=&amp;findincat=&amp;g=&amp;cc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41542&amp;memlevel=C&amp;a=c&amp;q=handicapped&amp;s=91&amp;e=106&amp;show=all&amp;c=&amp;cid=&amp;findincat=&amp;g=&amp;cc=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7738&amp;memlevel=C&amp;a=c&amp;q=handicapped&amp;s=91&amp;e=106&amp;show=all&amp;c=&amp;cid=&amp;findincat=&amp;g=&amp;cc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786&amp;memlevel=B&amp;a=c&amp;q=handicapped&amp;s=61&amp;e=90&amp;show=all&amp;c=&amp;cid=&amp;findincat=&amp;g=&amp;cc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048&amp;memlevel=C&amp;a=c&amp;q=handicapped&amp;s=31&amp;e=60&amp;show=all&amp;c=&amp;cid=&amp;findincat=&amp;g=&amp;cc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U2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ability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  北京四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870120"/>
            <a:ext cx="73152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057400"/>
            <a:ext cx="446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52360" y="946080"/>
            <a:ext cx="74581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ckground introduction</a:t>
            </a:r>
            <a:br>
              <a:rPr sz="48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95480" y="2362320"/>
            <a:ext cx="31402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awking_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00400" y="685800"/>
            <a:ext cx="268272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732840"/>
            <a:ext cx="78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Stephen Hawking was born on 8 January 1942, the 300th anniversary of Galileo's death. He is considered as the greatest mind in physics since Albert Einste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3" descr="Stephen Hawking"/>
          <p:cNvPicPr/>
          <p:nvPr/>
        </p:nvPicPr>
        <p:blipFill>
          <a:blip r:embed="rId1"/>
          <a:stretch/>
        </p:blipFill>
        <p:spPr>
          <a:xfrm>
            <a:off x="1676520" y="9144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1525320"/>
            <a:ext cx="648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59 won a scholarship to Oxford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Universit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62 went to Cambridge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University  for a PhD in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cosmology.                         1968 published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Large Scale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Structure of Space-Tim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1" descr="Stephen Hawking"/>
          <p:cNvPicPr/>
          <p:nvPr/>
        </p:nvPicPr>
        <p:blipFill>
          <a:blip r:embed="rId2"/>
          <a:stretch/>
        </p:blipFill>
        <p:spPr>
          <a:xfrm>
            <a:off x="6553080" y="39625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440" y="13716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3" descr="Stephen Hawking"/>
          <p:cNvPicPr/>
          <p:nvPr/>
        </p:nvPicPr>
        <p:blipFill>
          <a:blip r:embed="rId1"/>
          <a:stretch/>
        </p:blipFill>
        <p:spPr>
          <a:xfrm>
            <a:off x="1447920" y="1219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pic1" descr="Stephen Hawking"/>
          <p:cNvPicPr/>
          <p:nvPr/>
        </p:nvPicPr>
        <p:blipFill>
          <a:blip r:embed="rId2"/>
          <a:stretch/>
        </p:blipFill>
        <p:spPr>
          <a:xfrm>
            <a:off x="6324480" y="41911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9840" y="16002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124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1975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eived the Alber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instein Award in th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oretical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988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wrote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4038120"/>
            <a:ext cx="76327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"My goal is simple. It is 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understanding of the universe, w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t is as it is and why it exists at all.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00212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991800"/>
            <a:ext cx="7704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Stephen Hawking s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 try to lead as normal a life as possible, and not think about my condition. My disease has not prevented me from having a very attractive family, and being successful in my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526400"/>
            <a:ext cx="7272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student of Hawking say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Stephen Hawking is my hero. As I read his ideas about space, time, black holes, and the Universe in which we live, I was amazed at how easily he explained the exciting but often complicated subjects explored in the book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ahoma"/>
              </a:rPr>
              <a:t>Unit 20 Disabilit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2057400"/>
            <a:ext cx="31021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1366200"/>
            <a:ext cx="7848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 is a man so gifted that, despite being unable to use pen and paper, he is able to solve problems by forming the necessary diagrams and manipulating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操作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e complex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equations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方程式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 his head.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144080"/>
            <a:ext cx="7781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99180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3" descr="Stephen Hawking"/>
          <p:cNvPicPr/>
          <p:nvPr/>
        </p:nvPicPr>
        <p:blipFill>
          <a:blip r:embed="rId1"/>
          <a:srcRect l="4151" t="4151" r="3991" b="3991"/>
          <a:stretch/>
        </p:blipFill>
        <p:spPr>
          <a:xfrm>
            <a:off x="2819520" y="1371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82234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asking 'Can you hear me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t his Stanford Lectu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4724280"/>
            <a:ext cx="7543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tells Einstein, 'Wro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gain, Albert'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L. van Beethoven"/>
          <p:cNvPicPr/>
          <p:nvPr/>
        </p:nvPicPr>
        <p:blipFill>
          <a:blip r:embed="rId1"/>
          <a:stretch/>
        </p:blipFill>
        <p:spPr>
          <a:xfrm>
            <a:off x="2971800" y="990720"/>
            <a:ext cx="3243240" cy="424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66880" y="5181480"/>
            <a:ext cx="367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Beethoven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360"/>
            <a:ext cx="72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1068120"/>
            <a:ext cx="7705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410480"/>
            <a:ext cx="820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Useful words &amp; expres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2 ,Page 43)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r>
              <a:rPr b="0" lang="zh-CN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pefully tomorrow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 f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-78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Goals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教学目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. Getting close to disabl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ople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走近残疾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. Introduction about Stephen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介绍史帝文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霍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. Useful words &amp; expression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762120"/>
            <a:ext cx="75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ve to be, show the resul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证明是；结果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 was afraid the things won’t turn out smooth for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Do you think the crops will turn out well this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It turned out that he was Jim’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1799280"/>
            <a:ext cx="770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come out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出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e won’t turn ou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foggy wea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Crowds turned out for the procession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游行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722960"/>
            <a:ext cx="7719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produc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制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ur new factory is turning out large quantities of goo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school has turned out some first rate schol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4960" y="1676880"/>
            <a:ext cx="7002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4, Page 43) </a:t>
            </a: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’ve always dreamt of com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China, and now my d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s come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1141560"/>
            <a:ext cx="7467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The soldier often dreamt of 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I wouldn’t dream of do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such a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When I was young, I  dreamed of becoming a  sold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eamer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做梦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296360"/>
            <a:ext cx="741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9, Page 43)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ut I’m determined to enjoy myself as much as possible, even though I can’t see every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213480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e won’t leave the TV set even though he is eating his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Even if we could afford it, we would not go abroad for our holid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1880" y="1066680"/>
            <a:ext cx="52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73960"/>
            <a:ext cx="7634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l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1-2, Page 44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case of Professor Stephen Hawking is one example of the many disabled people who have achieved success in their chosen field of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828800"/>
            <a:ext cx="6934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unable to use part of your body in the normal way, either from birth or because of an accident or illness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残疾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90720"/>
            <a:ext cx="78487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assengers ca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ravel free on public transp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All rooms in the hotel have facilities for the disabl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ility 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at kind of people can be called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is your attitude towards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1294560"/>
            <a:ext cx="7561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ahoma"/>
              </a:rPr>
              <a:t>Fill in the blanks with the words given, and pay attention to the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22129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478880"/>
            <a:ext cx="78483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___ or when someone is ___ her? Can a deaf person wake up with an alarm clock? A __ person can do all of these, but deaf people need special 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8001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ringing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r when someone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calling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r? Can a deaf person wake up with an alarm clock? A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hearin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person can do all of these, but deaf people need special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devices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14400" y="838080"/>
          <a:ext cx="6858000" cy="1200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 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 ____ Device for the deaf helps them talk on the phone. When the phone rings, a light flashes. The person picks up the phone, 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the TDD, _____ 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838080"/>
          <a:ext cx="6858000" cy="1005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elecommunication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evice for the deaf helps them talk on the phone. When the phone rings, a light flashes. The person picks up the phone, puts on the TDD,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838080"/>
          <a:ext cx="7010280" cy="120024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85800" y="24516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____ up to a blaring alarm? Deaf people use ____ clocks. The alarm ____ the pillow. It feels ____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838080"/>
          <a:ext cx="7010280" cy="11509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85800" y="22086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wak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up to a blaring alarm? Deaf people us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vibrat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ocks. The alarm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shak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pillow. It feels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364680"/>
            <a:ext cx="727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1. Do Ex.2 on Page 10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2. Make up two sentences for ea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ord and phrase we’ve lear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o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3. *Find other information on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famous disabled people o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Interne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066680"/>
            <a:ext cx="85341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If you were a disabled person,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at kind of help do you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 get mo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What can we do to help tho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eople live a better lif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90920" y="152388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14600" y="16002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16280"/>
            <a:ext cx="316692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>
            <a:lum bright="18000"/>
          </a:blip>
          <a:srcRect l="0" t="0" r="10316" b="10297"/>
          <a:stretch/>
        </p:blipFill>
        <p:spPr>
          <a:xfrm>
            <a:off x="2819520" y="1447920"/>
            <a:ext cx="29667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14:30:35Z</dcterms:modified>
  <cp:revision>159</cp:revision>
  <dc:subject/>
  <dc:title>PowerPoint Presentation</dc:title>
</cp:coreProperties>
</file>