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B2493-CD29-4915-A515-5865686C9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150DB-AF92-4DCB-BC02-EF80BD5CF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95021-004E-424B-9C2E-AE7AF7769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74563-90B9-46BF-BC17-2868E636F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FA968-F7B6-48A5-A921-64AF143B3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E899B-9491-4297-B24C-33F478C09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09718-6FE1-4BB8-B890-5CA8FE5B0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DE425-9DAB-4E43-A4CB-E977B051D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6C083-0902-45DC-A977-2D4AE3CA5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40BAB-A9C9-458F-96F8-41C0EC061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55E68-D7AB-452A-A44F-828300C43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BA256-CDD0-4132-9725-1B0F1757A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02B76-8154-4368-8D38-BAF3517686D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645640" y="171360"/>
            <a:ext cx="4257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Times New Roman"/>
              </a:rPr>
              <a:t>Unit      8     first   aid</a:t>
            </a:r>
            <a:r>
              <a:rPr b="1" lang="zh-CN" sz="3200" spc="-1" strike="noStrike">
                <a:solidFill>
                  <a:srgbClr val="ff9933"/>
                </a:solidFill>
                <a:latin typeface="Times New Roman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137120" y="525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94520" y="838080"/>
            <a:ext cx="582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教学目标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了解在各种意外的紧急情况下的急救知识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130200" y="1447920"/>
            <a:ext cx="445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练习用英语知识表达应该做和不应该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548440" y="1981080"/>
            <a:ext cx="32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)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继续学习并运用虚拟语气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906560" y="246384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4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693320" y="2529000"/>
            <a:ext cx="70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写一篇有关顺序表达方式的短文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50040" y="3048120"/>
            <a:ext cx="123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教材分析</a:t>
            </a: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3809880"/>
            <a:ext cx="8397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本单元的中心话题是意外情况下的急救知识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语言技能和语言知识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至要围绕急救这一中心话题进行设计的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热身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warming  up  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部分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通过六幅图片导入新课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让学生针对这些图片思考一些问题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你会怎么办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该怎么办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5638680"/>
            <a:ext cx="381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62120" y="5867280"/>
            <a:ext cx="1295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267080" y="3581280"/>
            <a:ext cx="228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776600" y="371520"/>
            <a:ext cx="53744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当谈论这些问题的情况时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你会想到那些生词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以激发学生的学习兴趣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听力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listening 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提供发生在医院里的情况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一个男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腿部受伤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另一个小女孩误喝了墨水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教材设计了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笔记形式的问题填空和填缺词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目的是训练学生通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听获取急救方面的信息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33240" y="3343320"/>
            <a:ext cx="5561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口语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speaking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部分继续围绕在家里如何确保家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安全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应该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不应该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训练学生听的能力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同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要求学生说出更多的句子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引发真实性的交际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753920" y="485640"/>
            <a:ext cx="59551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读前</a:t>
            </a: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pre-read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设立了三个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utline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供学生讨论选择哪种提纲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学生可以各自表达自己的看法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为下面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ad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打下伏笔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199240" y="2711520"/>
            <a:ext cx="4924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阅读</a:t>
            </a: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reading 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救主要介绍一些常识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R   ABC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利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人们记住这方面的知识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924200" y="3809880"/>
            <a:ext cx="5295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读后</a:t>
            </a: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post-read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呈现三幅图片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要求用 课文所学的知识说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图中的人物正在如何运用急救知识救助伤员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124360" y="5334120"/>
            <a:ext cx="4010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第二个问题是复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R   AB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内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685800" y="1011240"/>
            <a:ext cx="244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791000" y="533520"/>
            <a:ext cx="61365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语言学习</a:t>
            </a: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Language  study 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分词汇和语汇两部分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词汇部分设计了五个情景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帮助学生加深对新词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理解和记忆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同时指导学生养成通过语境记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词语的方法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第二题是一个故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要求通过上下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语境内容选择所给的词语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加深所学知识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549800" y="2971800"/>
            <a:ext cx="68076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语法部分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是虚拟语气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要求学生掌握对将来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现在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过去   这三种情况的假设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还有虚拟语气在宾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从句的用法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uggest,recommen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等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这里有三大题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第一题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根据语境填上合适的虚拟语气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第二题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用虚拟语气连接句子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第三题改错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63680" y="609480"/>
            <a:ext cx="5438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这些练习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有利于学生从理论到实践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循序渐进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利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学生比较牢固地掌握这部分的语法内容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888920" y="1735200"/>
            <a:ext cx="63626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综合技能</a:t>
            </a: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Integrating   skills)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阅读部分谈如何处置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nimal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ite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ut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isoning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中如何进行急救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同时进行分组活动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最后写作部分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要求学生运用所学知识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写出表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顺序的短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46280" y="4668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481120" y="4311720"/>
            <a:ext cx="50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学习建议</a:t>
            </a: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Tips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提供如何做一个急救箱的内容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为本单元的话题服务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295360" y="5454720"/>
            <a:ext cx="577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复习要点</a:t>
            </a: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checkpoint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复习虚拟语气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要求学生造句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句型转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2625480" y="86832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Times New Roman"/>
              </a:rPr>
              <a:t>课时安排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126800" y="1924200"/>
            <a:ext cx="16408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eriod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eriod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eriod 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eriod 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eriod 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eriod 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eriod 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080520" y="1917720"/>
            <a:ext cx="58392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Warming-up and liste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Speak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Reading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Reading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Word and gramma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Integrating skills 1 and 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Integrating skills 2 and exerci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ackal</cp:lastModifiedBy>
  <dcterms:modified xsi:type="dcterms:W3CDTF">2001-05-30T16:07:53Z</dcterms:modified>
  <cp:revision>12</cp:revision>
  <dc:subject/>
  <dc:title>PowerPoint Presentation</dc:title>
</cp:coreProperties>
</file>