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CCB7-02A9-41D5-A691-991B8575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12E8-DBBF-4ED9-B9AE-5A872FB5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04A2-0357-4B17-9B73-35EAD0C7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F9E-99A3-418E-A547-91A0D10D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FF00-D803-4751-8C4C-2CFDEC6F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DA2A-4258-4B6C-9F54-D2E21458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E874-208E-44DA-BF46-037C2EB0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4493-F425-4C63-8209-F0487A2D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57C9-E2F5-4D99-99D7-948F7494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6C47-93D6-4DD1-96A7-020FF7B8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B707-60F2-4618-A3CF-3DC81EF4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4CD0-FB5F-42D8-9AE0-0C8D781D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232E-33D9-45DD-860B-348E5F35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5675-E6EF-44A9-B464-02D2302F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3793-814D-425C-A644-3684AB48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D2F7-B264-462E-9723-EAB74F89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4A84-9535-43AF-A33E-A08F3BA7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D2D-91BE-4B72-8365-26DB215F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9AC5-AC2B-48FD-9C63-AA4F469E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E99-AC59-4AB5-B55B-9CBD0943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AB3F-1A44-43CF-9703-7BF92C9D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6AC-6647-4321-A2D4-DFC2B38D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861-5B94-4BAC-B785-1B8BFA94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CE6B-9E38-4EC9-973C-D2F82BA4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7042-FE7F-4944-9655-2749A324BECD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A849-10AF-4667-91E6-FE6109D74D3C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1752480"/>
            <a:ext cx="821988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Period 1 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Warming up &amp; Listening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3808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Make him /her spit by patting him/her on the bac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63868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To avoid this, we shouldn’t talk or laugh when eat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10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743200" cy="3189240"/>
          </a:xfrm>
          <a:prstGeom prst="rect">
            <a:avLst/>
          </a:prstGeom>
          <a:ln w="0">
            <a:noFill/>
          </a:ln>
        </p:spPr>
      </p:pic>
      <p:pic>
        <p:nvPicPr>
          <p:cNvPr id="145" name="11" descr=""/>
          <p:cNvPicPr/>
          <p:nvPr/>
        </p:nvPicPr>
        <p:blipFill>
          <a:blip r:embed="rId2"/>
          <a:stretch/>
        </p:blipFill>
        <p:spPr>
          <a:xfrm>
            <a:off x="7010280" y="609480"/>
            <a:ext cx="1844640" cy="4267440"/>
          </a:xfrm>
          <a:prstGeom prst="rect">
            <a:avLst/>
          </a:prstGeom>
          <a:ln w="0">
            <a:noFill/>
          </a:ln>
        </p:spPr>
      </p:pic>
      <p:pic>
        <p:nvPicPr>
          <p:cNvPr id="146" name="12" descr=""/>
          <p:cNvPicPr/>
          <p:nvPr/>
        </p:nvPicPr>
        <p:blipFill>
          <a:blip r:embed="rId3"/>
          <a:stretch/>
        </p:blipFill>
        <p:spPr>
          <a:xfrm>
            <a:off x="3429000" y="1924200"/>
            <a:ext cx="380988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685800"/>
            <a:ext cx="8964720" cy="59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sten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e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ook at the pictures on P.58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ere are the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at do you guess has happened to the   boy and the girl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ow read the requirements quickly and find out what to do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le-Listening:  listen to the tape and finish the exercises on p.58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193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1.Listen to the tape. What happened to each chil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1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2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4114800"/>
          <a:ext cx="8457840" cy="2435400"/>
        </p:xfrm>
        <a:graphic>
          <a:graphicData uri="http://schemas.openxmlformats.org/drawingml/2006/table">
            <a:tbl>
              <a:tblPr/>
              <a:tblGrid>
                <a:gridCol w="4069440"/>
                <a:gridCol w="2314080"/>
                <a:gridCol w="207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1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2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hen did it happ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as any first aid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If so what was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-8640" y="3352680"/>
            <a:ext cx="90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2. Listen to the tape again and answer the question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219320"/>
            <a:ext cx="8458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 Listen to the nurse’s questions in the first dialogue and write them dow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1.Can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2.What’s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What did you do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4.Does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752480"/>
            <a:ext cx="44956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9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276360" cy="2895840"/>
          </a:xfrm>
          <a:prstGeom prst="rect">
            <a:avLst/>
          </a:prstGeom>
          <a:ln w="0">
            <a:noFill/>
          </a:ln>
        </p:spPr>
      </p:pic>
      <p:pic>
        <p:nvPicPr>
          <p:cNvPr id="156" name="8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03848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0666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happened to the gir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2767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 before the doctor com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do you already know about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018-1-1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98772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8964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ming-up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6002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rainstorming: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words can you think of when you talk about accidents and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962520"/>
            <a:ext cx="3048120" cy="990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Accid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First a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048120" y="342864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row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3400" y="3200040"/>
            <a:ext cx="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743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le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257800" y="335232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819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hok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943600" y="3733560"/>
            <a:ext cx="762120" cy="5331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33526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urn/catch fi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724280"/>
            <a:ext cx="68580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952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cu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4952880"/>
            <a:ext cx="152280" cy="9144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electr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33920" y="4952880"/>
            <a:ext cx="30456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638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wou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86000" y="4266720"/>
            <a:ext cx="990720" cy="2286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Times New Roman"/>
              </a:rPr>
              <a:t>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590920" y="4724280"/>
            <a:ext cx="76176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u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scio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91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5b5249"/>
                </a:solidFill>
                <a:latin typeface="Times New Roman"/>
              </a:rPr>
              <a:t>… …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219320"/>
            <a:ext cx="831672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air Work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 on P.57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447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heck to see if he /she is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35268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ry to start his /her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4100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Never swim in deep wa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2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99072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Call for a doctor or an 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Never pull her out of the c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73392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Find enough people to lift  the car safely and take her to hospital at o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715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Look at both sides when crossing the stre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3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73392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9144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Call 119 first and tell them the exact address on the phon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8195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If someone is badly burnt,we should call 120 to ask for an ambul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58640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ever play with fi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careful with g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Make sure that all the electric wires are sa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4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80988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2120"/>
            <a:ext cx="426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Try to stop the bleed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81080"/>
            <a:ext cx="41148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Press a handkerchief onto the bleeding point and hold it the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267080"/>
            <a:ext cx="41911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Hold up the part of body which is bleeding if possibl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5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647960" cy="3886200"/>
          </a:xfrm>
          <a:prstGeom prst="rect">
            <a:avLst/>
          </a:prstGeom>
          <a:ln w="0">
            <a:noFill/>
          </a:ln>
        </p:spPr>
      </p:pic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6479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22860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Go to the hospital at o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29528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ever pull it out of the cu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019-1-3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449568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f the cut is not serious, we can wash the area of cut,dry it and cover it with a piece of dry and clean clot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15" descr=""/>
          <p:cNvPicPr/>
          <p:nvPr/>
        </p:nvPicPr>
        <p:blipFill>
          <a:blip r:embed="rId2"/>
          <a:stretch/>
        </p:blipFill>
        <p:spPr>
          <a:xfrm>
            <a:off x="4191120" y="685800"/>
            <a:ext cx="4495680" cy="322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45:31Z</dcterms:created>
  <dc:creator>0</dc:creator>
  <dc:description/>
  <dc:language>en-US</dc:language>
  <cp:lastModifiedBy>jackal</cp:lastModifiedBy>
  <dcterms:modified xsi:type="dcterms:W3CDTF">2001-05-30T17:20:42Z</dcterms:modified>
  <cp:revision>23</cp:revision>
  <dc:subject/>
  <dc:title>PowerPoint 演示文稿</dc:title>
</cp:coreProperties>
</file>